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gif" ContentType="image/gif"/>
  <Override PartName="/ppt/media/image6.wmf" ContentType="image/x-wmf"/>
  <Override PartName="/ppt/media/image7.png" ContentType="image/png"/>
  <Override PartName="/ppt/media/image8.png" ContentType="image/png"/>
  <Override PartName="/ppt/media/image9.jpeg" ContentType="image/jpeg"/>
  <Override PartName="/ppt/media/image10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D6F6-ABC0-4F81-8658-4740EEAC5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Õ nµo lµ hiÖn t­îng khuyÕch t¸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D84E-0ADA-407C-BF04-0F2EC8E21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477B-8170-490A-A6E6-6AAC4320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22EF-89B8-4594-8460-7E8FEA489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0C7F-D3BE-4D7B-9266-8A48577E5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BF8BD-3AD1-4914-930E-DC5ABC9F7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30315-1E11-4C54-A6A8-694A4FA6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CAE8AF-0348-415F-A52B-958D2AC5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B5733-F732-4698-9279-36DDD591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84BDF-6EAD-4C6D-A4AB-289D9A3BB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4824C-AD1C-45C6-B337-B167DC2E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547CBA-C101-40B6-9BEC-68671C34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9A6D-C90D-4275-A2DA-E6507684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84F750-8CE1-4B41-8D00-CE06CB2B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76CFD-E7FD-487B-8631-06D98DE3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F9240-5048-43FF-B109-03690060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8BE56-17F2-4115-B78A-CE110CBB9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6DE781-9F34-4F90-9699-99F08D794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E1F7-6E53-44A7-956E-DA226ED3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C4A0-2157-4E9B-BF58-FCFBB17A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893E-A1A7-4EA5-9B15-EC084D19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0087-3569-4D4C-84BC-B087893F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B5D3-CA38-4722-9E6E-9C64E5BE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14A7-2FC0-44D9-990F-901748989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1546-95A8-4AB6-9256-D01CFAEC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8E16-2A26-45CE-B97F-E14540098F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FAA3-3FDC-4803-B388-DF0B8A54AB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15.xm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15.xml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15.xm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15.xml"/><Relationship Id="rId7" Type="http://schemas.openxmlformats.org/officeDocument/2006/relationships/oleObject" Target="../embeddings/oleObject1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15.xm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15.xml"/><Relationship Id="rId7" Type="http://schemas.openxmlformats.org/officeDocument/2006/relationships/slide" Target="slide17.xml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15.xm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15.xml"/><Relationship Id="rId7" Type="http://schemas.openxmlformats.org/officeDocument/2006/relationships/slide" Target="slide17.xml"/><Relationship Id="rId8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15.xm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15.xml"/><Relationship Id="rId7" Type="http://schemas.openxmlformats.org/officeDocument/2006/relationships/slide" Target="slide17.xml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15.xm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15.xml"/><Relationship Id="rId7" Type="http://schemas.openxmlformats.org/officeDocument/2006/relationships/slide" Target="slide17.xml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15.xm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15.xml"/><Relationship Id="rId7" Type="http://schemas.openxmlformats.org/officeDocument/2006/relationships/slide" Target="slide17.xml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15.xml"/><Relationship Id="rId4" Type="http://schemas.openxmlformats.org/officeDocument/2006/relationships/slide" Target="slide24.xm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slide15.xml"/><Relationship Id="rId8" Type="http://schemas.openxmlformats.org/officeDocument/2006/relationships/slide" Target="slide17.xml"/><Relationship Id="rId9" Type="http://schemas.openxmlformats.org/officeDocument/2006/relationships/slide" Target="slide28.xml"/><Relationship Id="rId10" Type="http://schemas.openxmlformats.org/officeDocument/2006/relationships/slide" Target="slide24.xml"/><Relationship Id="rId1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24.xml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15.xml"/><Relationship Id="rId7" Type="http://schemas.openxmlformats.org/officeDocument/2006/relationships/slide" Target="slide17.xml"/><Relationship Id="rId8" Type="http://schemas.openxmlformats.org/officeDocument/2006/relationships/slide" Target="slide28.xml"/><Relationship Id="rId9" Type="http://schemas.openxmlformats.org/officeDocument/2006/relationships/slide" Target="slide24.xml"/><Relationship Id="rId10" Type="http://schemas.openxmlformats.org/officeDocument/2006/relationships/slide" Target="slide15.xml"/><Relationship Id="rId11" Type="http://schemas.openxmlformats.org/officeDocument/2006/relationships/image" Target="../media/image11.png"/><Relationship Id="rId12" Type="http://schemas.openxmlformats.org/officeDocument/2006/relationships/slide" Target="slide32.xml"/><Relationship Id="rId1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15.xml"/><Relationship Id="rId4" Type="http://schemas.openxmlformats.org/officeDocument/2006/relationships/slide" Target="slide24.xm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slide15.xml"/><Relationship Id="rId8" Type="http://schemas.openxmlformats.org/officeDocument/2006/relationships/slide" Target="slide17.xml"/><Relationship Id="rId9" Type="http://schemas.openxmlformats.org/officeDocument/2006/relationships/slide" Target="slide28.xml"/><Relationship Id="rId10" Type="http://schemas.openxmlformats.org/officeDocument/2006/relationships/slide" Target="slide24.xml"/><Relationship Id="rId11" Type="http://schemas.openxmlformats.org/officeDocument/2006/relationships/slide" Target="slide32.xml"/><Relationship Id="rId12" Type="http://schemas.openxmlformats.org/officeDocument/2006/relationships/slide" Target="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15.xml"/><Relationship Id="rId4" Type="http://schemas.openxmlformats.org/officeDocument/2006/relationships/slide" Target="slide24.xm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slide15.xml"/><Relationship Id="rId8" Type="http://schemas.openxmlformats.org/officeDocument/2006/relationships/slide" Target="slide17.xml"/><Relationship Id="rId9" Type="http://schemas.openxmlformats.org/officeDocument/2006/relationships/slide" Target="slide28.xml"/><Relationship Id="rId10" Type="http://schemas.openxmlformats.org/officeDocument/2006/relationships/slide" Target="slide24.xml"/><Relationship Id="rId1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" Target="slide15.xml"/><Relationship Id="rId4" Type="http://schemas.openxmlformats.org/officeDocument/2006/relationships/slide" Target="slide24.xml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slide15.xml"/><Relationship Id="rId8" Type="http://schemas.openxmlformats.org/officeDocument/2006/relationships/slide" Target="slide17.xml"/><Relationship Id="rId9" Type="http://schemas.openxmlformats.org/officeDocument/2006/relationships/slide" Target="slide28.xml"/><Relationship Id="rId10" Type="http://schemas.openxmlformats.org/officeDocument/2006/relationships/slide" Target="slide24.xml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8600" y="2514600"/>
            <a:ext cx="86868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TRƯỜNG THPT QUỐC HỌC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1905120" y="11426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. VẬN CHUYỂN THỤ ĐỘ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IẾT 16:  VẬN CHUYỂN CÁC CHẤT QUA MÀNG SINH CHẤ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1143000"/>
            <a:ext cx="1905120" cy="5715000"/>
          </a:xfrm>
          <a:prstGeom prst="rect">
            <a:avLst/>
          </a:prstGeom>
          <a:solidFill>
            <a:srgbClr val="e4c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114300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ỘI D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>
            <a:hlinkClick r:id="rId2" action="ppaction://hlinksldjump"/>
          </p:cNvPr>
          <p:cNvSpPr/>
          <p:nvPr/>
        </p:nvSpPr>
        <p:spPr>
          <a:xfrm>
            <a:off x="0" y="1752480"/>
            <a:ext cx="1905120" cy="6098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. VẬN CHUYỂ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Ụ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3200400"/>
            <a:ext cx="1905120" cy="838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. VẬN CHUYỂ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Ủ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4876920"/>
            <a:ext cx="1905120" cy="838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I. XUẤT BÀ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>
            <a:hlinkClick r:id="rId3" action="ppaction://hlinksldjump"/>
          </p:cNvPr>
          <p:cNvSpPr/>
          <p:nvPr/>
        </p:nvSpPr>
        <p:spPr>
          <a:xfrm>
            <a:off x="0" y="2362320"/>
            <a:ext cx="1905120" cy="4572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THÍ NGHIỆ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2819520"/>
            <a:ext cx="1905120" cy="380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4038480"/>
            <a:ext cx="1905120" cy="3812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HIỆN TƯỢ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4419720"/>
            <a:ext cx="1905120" cy="5331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6324480"/>
            <a:ext cx="1905120" cy="5335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XUẤT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571500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981080" y="1676520"/>
            <a:ext cx="1981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/ THÍ NGHIỆ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905120" y="213372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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huếch tán là hiện tượ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Vận chuyển các chất từ nơi có nồng độ cao đến nơi có nồng độ thấ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Không tiêu tốn năng lượ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828800" y="38149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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ự vận chuyển nước qua màng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ẩm thấ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828800" y="4191120"/>
            <a:ext cx="7162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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ự vận chuyển của các chất tan qua màng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ẩm tác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362320" y="2133720"/>
            <a:ext cx="5029200" cy="1066680"/>
          </a:xfrm>
          <a:prstGeom prst="cloudCallout">
            <a:avLst>
              <a:gd name="adj1" fmla="val -23486"/>
              <a:gd name="adj2" fmla="val 33422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huếch tán là gì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1905120" y="1143000"/>
            <a:ext cx="4952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. VẬN CHUYỂN THỤ ĐỘ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IẾT 16:  VẬN CHUYỂN CÁC CHẤT QUA MÀNG SINH CHẤ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1143000"/>
            <a:ext cx="1905120" cy="5715000"/>
          </a:xfrm>
          <a:prstGeom prst="rect">
            <a:avLst/>
          </a:prstGeom>
          <a:solidFill>
            <a:srgbClr val="e4c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114300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ỘI D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>
            <a:hlinkClick r:id="rId2" action="ppaction://hlinksldjump"/>
          </p:cNvPr>
          <p:cNvSpPr/>
          <p:nvPr/>
        </p:nvSpPr>
        <p:spPr>
          <a:xfrm>
            <a:off x="0" y="1752480"/>
            <a:ext cx="1905120" cy="6098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. VẬN CHUYỂ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Ụ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3200400"/>
            <a:ext cx="1905120" cy="838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. VẬN CHUYỂ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Ủ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4876920"/>
            <a:ext cx="1905120" cy="838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I. XUẤT BÀ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>
            <a:hlinkClick r:id="rId3" action="ppaction://hlinksldjump"/>
          </p:cNvPr>
          <p:cNvSpPr/>
          <p:nvPr/>
        </p:nvSpPr>
        <p:spPr>
          <a:xfrm>
            <a:off x="0" y="2362320"/>
            <a:ext cx="1905120" cy="4572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THÍ NGHIỆ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2819520"/>
            <a:ext cx="1905120" cy="380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4038480"/>
            <a:ext cx="1905120" cy="3812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HIỆN TƯỢ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4419720"/>
            <a:ext cx="1905120" cy="5331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6324480"/>
            <a:ext cx="1905120" cy="5335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XUẤT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571500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057400" y="1523880"/>
            <a:ext cx="2133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/ THÍ NGHIỆ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7728120" y="3409920"/>
            <a:ext cx="1315800" cy="1712880"/>
            <a:chOff x="7728120" y="3409920"/>
            <a:chExt cx="1315800" cy="1712880"/>
          </a:xfrm>
        </p:grpSpPr>
        <p:grpSp>
          <p:nvGrpSpPr>
            <p:cNvPr id="353" name=""/>
            <p:cNvGrpSpPr/>
            <p:nvPr/>
          </p:nvGrpSpPr>
          <p:grpSpPr>
            <a:xfrm>
              <a:off x="7728120" y="3409920"/>
              <a:ext cx="1315800" cy="1712880"/>
              <a:chOff x="7728120" y="3409920"/>
              <a:chExt cx="1315800" cy="1712880"/>
            </a:xfrm>
          </p:grpSpPr>
          <p:sp>
            <p:nvSpPr>
              <p:cNvPr id="354" name=""/>
              <p:cNvSpPr/>
              <p:nvPr/>
            </p:nvSpPr>
            <p:spPr>
              <a:xfrm>
                <a:off x="7769160" y="3409920"/>
                <a:ext cx="0" cy="1371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8988480" y="3409920"/>
                <a:ext cx="0" cy="1371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728120" y="4760640"/>
                <a:ext cx="1315800" cy="362160"/>
              </a:xfrm>
              <a:custGeom>
                <a:avLst/>
                <a:gdLst/>
                <a:ahLst/>
                <a:rect l="l" t="t" r="r" b="b"/>
                <a:pathLst>
                  <a:path w="2118" h="432">
                    <a:moveTo>
                      <a:pt x="77" y="55"/>
                    </a:moveTo>
                    <a:cubicBezTo>
                      <a:pt x="110" y="110"/>
                      <a:pt x="0" y="330"/>
                      <a:pt x="291" y="381"/>
                    </a:cubicBezTo>
                    <a:cubicBezTo>
                      <a:pt x="583" y="432"/>
                      <a:pt x="1538" y="426"/>
                      <a:pt x="1828" y="362"/>
                    </a:cubicBezTo>
                    <a:cubicBezTo>
                      <a:pt x="2118" y="298"/>
                      <a:pt x="1987" y="76"/>
                      <a:pt x="2029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8018280" y="388764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820000" y="388764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383320" y="388764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810200" y="395748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038800" y="401940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840520" y="401940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404200" y="4019400"/>
              <a:ext cx="914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900920" y="4143240"/>
              <a:ext cx="914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591400" y="3978000"/>
              <a:ext cx="15192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739000" y="414324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81800" y="414324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810200" y="427500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113680" y="4275000"/>
              <a:ext cx="914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840520" y="427500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494560" y="427500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032680" y="4421160"/>
              <a:ext cx="914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605800" y="4421160"/>
              <a:ext cx="15192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834400" y="4421160"/>
              <a:ext cx="914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397720" y="442116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900920" y="4552920"/>
              <a:ext cx="914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739000" y="455292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281800" y="455292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032680" y="4676760"/>
              <a:ext cx="914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834400" y="4676760"/>
              <a:ext cx="914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397720" y="467676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824600" y="4808520"/>
              <a:ext cx="15192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189640" y="480852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854920" y="480852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570880" y="4808520"/>
              <a:ext cx="914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053200" y="491940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854920" y="491940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418240" y="491940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845120" y="505116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189640" y="505116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646840" y="505116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5137200" y="3290760"/>
            <a:ext cx="1391400" cy="1814040"/>
            <a:chOff x="5137200" y="3290760"/>
            <a:chExt cx="1391400" cy="1814040"/>
          </a:xfrm>
        </p:grpSpPr>
        <p:grpSp>
          <p:nvGrpSpPr>
            <p:cNvPr id="393" name=""/>
            <p:cNvGrpSpPr/>
            <p:nvPr/>
          </p:nvGrpSpPr>
          <p:grpSpPr>
            <a:xfrm>
              <a:off x="5137200" y="3290760"/>
              <a:ext cx="1391400" cy="1814040"/>
              <a:chOff x="5137200" y="3290760"/>
              <a:chExt cx="1391400" cy="1814040"/>
            </a:xfrm>
          </p:grpSpPr>
          <p:sp>
            <p:nvSpPr>
              <p:cNvPr id="394" name=""/>
              <p:cNvSpPr/>
              <p:nvPr/>
            </p:nvSpPr>
            <p:spPr>
              <a:xfrm>
                <a:off x="5180760" y="3290760"/>
                <a:ext cx="0" cy="1452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470280" y="3290760"/>
                <a:ext cx="0" cy="1452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137200" y="4721400"/>
                <a:ext cx="1391400" cy="383400"/>
              </a:xfrm>
              <a:custGeom>
                <a:avLst/>
                <a:gdLst/>
                <a:ahLst/>
                <a:rect l="l" t="t" r="r" b="b"/>
                <a:pathLst>
                  <a:path w="2118" h="432">
                    <a:moveTo>
                      <a:pt x="77" y="55"/>
                    </a:moveTo>
                    <a:cubicBezTo>
                      <a:pt x="110" y="110"/>
                      <a:pt x="0" y="330"/>
                      <a:pt x="291" y="381"/>
                    </a:cubicBezTo>
                    <a:cubicBezTo>
                      <a:pt x="583" y="432"/>
                      <a:pt x="1538" y="426"/>
                      <a:pt x="1828" y="362"/>
                    </a:cubicBezTo>
                    <a:cubicBezTo>
                      <a:pt x="2118" y="298"/>
                      <a:pt x="1987" y="76"/>
                      <a:pt x="2029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7" name=""/>
            <p:cNvSpPr/>
            <p:nvPr/>
          </p:nvSpPr>
          <p:spPr>
            <a:xfrm>
              <a:off x="5202360" y="3796560"/>
              <a:ext cx="161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444280" y="3796560"/>
              <a:ext cx="972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050520" y="3796560"/>
              <a:ext cx="161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92440" y="3796560"/>
              <a:ext cx="972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589000" y="3796560"/>
              <a:ext cx="16092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830920" y="3796560"/>
              <a:ext cx="968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224680" y="3936240"/>
              <a:ext cx="16092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66240" y="3936240"/>
              <a:ext cx="968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072480" y="3936240"/>
              <a:ext cx="16092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314400" y="3936240"/>
              <a:ext cx="968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610600" y="3936240"/>
              <a:ext cx="16092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852520" y="3936240"/>
              <a:ext cx="972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202360" y="4067640"/>
              <a:ext cx="161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444280" y="4067640"/>
              <a:ext cx="972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050520" y="4067640"/>
              <a:ext cx="161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292440" y="4067640"/>
              <a:ext cx="972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589000" y="4067640"/>
              <a:ext cx="16092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830920" y="4067640"/>
              <a:ext cx="968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224680" y="4206960"/>
              <a:ext cx="16092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466240" y="4206960"/>
              <a:ext cx="968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072480" y="4206960"/>
              <a:ext cx="16092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314400" y="4206960"/>
              <a:ext cx="968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610600" y="4206960"/>
              <a:ext cx="16092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852520" y="4206960"/>
              <a:ext cx="972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17840" y="4362120"/>
              <a:ext cx="16092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459400" y="4362120"/>
              <a:ext cx="972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065640" y="4362120"/>
              <a:ext cx="16092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307560" y="4362120"/>
              <a:ext cx="972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603760" y="4362120"/>
              <a:ext cx="161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45680" y="4362120"/>
              <a:ext cx="972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239440" y="4501440"/>
              <a:ext cx="161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481360" y="4501440"/>
              <a:ext cx="972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087600" y="4501440"/>
              <a:ext cx="161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329160" y="4501440"/>
              <a:ext cx="972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626080" y="4501440"/>
              <a:ext cx="16092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867640" y="4501440"/>
              <a:ext cx="968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217840" y="4632840"/>
              <a:ext cx="16092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459400" y="4632840"/>
              <a:ext cx="972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065640" y="4632840"/>
              <a:ext cx="16092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307560" y="4632840"/>
              <a:ext cx="972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03760" y="4632840"/>
              <a:ext cx="161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845680" y="4632840"/>
              <a:ext cx="972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239440" y="4772520"/>
              <a:ext cx="161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481360" y="4772520"/>
              <a:ext cx="972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087600" y="4772520"/>
              <a:ext cx="161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329160" y="4772520"/>
              <a:ext cx="972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626080" y="4772520"/>
              <a:ext cx="16092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867640" y="4772520"/>
              <a:ext cx="968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239440" y="4889880"/>
              <a:ext cx="161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481360" y="4889880"/>
              <a:ext cx="972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087600" y="4889880"/>
              <a:ext cx="161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329160" y="4889880"/>
              <a:ext cx="972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626080" y="4889880"/>
              <a:ext cx="16092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867640" y="4889880"/>
              <a:ext cx="968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61400" y="5029560"/>
              <a:ext cx="16092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503320" y="5029560"/>
              <a:ext cx="968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109560" y="5029560"/>
              <a:ext cx="16092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647680" y="5029560"/>
              <a:ext cx="16092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889600" y="5029560"/>
              <a:ext cx="972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2666880" y="3352680"/>
            <a:ext cx="1316160" cy="1712880"/>
            <a:chOff x="2666880" y="3352680"/>
            <a:chExt cx="1316160" cy="1712880"/>
          </a:xfrm>
        </p:grpSpPr>
        <p:grpSp>
          <p:nvGrpSpPr>
            <p:cNvPr id="457" name=""/>
            <p:cNvGrpSpPr/>
            <p:nvPr/>
          </p:nvGrpSpPr>
          <p:grpSpPr>
            <a:xfrm>
              <a:off x="2666880" y="3352680"/>
              <a:ext cx="1316160" cy="1712880"/>
              <a:chOff x="2666880" y="3352680"/>
              <a:chExt cx="1316160" cy="1712880"/>
            </a:xfrm>
          </p:grpSpPr>
          <p:sp>
            <p:nvSpPr>
              <p:cNvPr id="458" name=""/>
              <p:cNvSpPr/>
              <p:nvPr/>
            </p:nvSpPr>
            <p:spPr>
              <a:xfrm>
                <a:off x="2708280" y="3352680"/>
                <a:ext cx="0" cy="1371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927600" y="3352680"/>
                <a:ext cx="0" cy="1371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66880" y="4703400"/>
                <a:ext cx="1316160" cy="362160"/>
              </a:xfrm>
              <a:custGeom>
                <a:avLst/>
                <a:gdLst/>
                <a:ahLst/>
                <a:rect l="l" t="t" r="r" b="b"/>
                <a:pathLst>
                  <a:path w="2118" h="432">
                    <a:moveTo>
                      <a:pt x="77" y="55"/>
                    </a:moveTo>
                    <a:cubicBezTo>
                      <a:pt x="110" y="110"/>
                      <a:pt x="0" y="330"/>
                      <a:pt x="291" y="381"/>
                    </a:cubicBezTo>
                    <a:cubicBezTo>
                      <a:pt x="583" y="432"/>
                      <a:pt x="1538" y="426"/>
                      <a:pt x="1828" y="362"/>
                    </a:cubicBezTo>
                    <a:cubicBezTo>
                      <a:pt x="2118" y="298"/>
                      <a:pt x="1987" y="76"/>
                      <a:pt x="2029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2728800" y="383040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957400" y="383040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530520" y="383040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59120" y="383040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093840" y="3830400"/>
              <a:ext cx="1526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322440" y="383040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749320" y="3962160"/>
              <a:ext cx="1526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977920" y="396216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551040" y="3962160"/>
              <a:ext cx="1526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9640" y="396216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114720" y="396216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343320" y="396216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728800" y="408600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957400" y="408600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530520" y="408600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59120" y="408600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093840" y="4086000"/>
              <a:ext cx="1526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322440" y="408600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749320" y="4217760"/>
              <a:ext cx="1526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977920" y="421776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551040" y="4217760"/>
              <a:ext cx="1526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779640" y="421776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114720" y="421776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343320" y="421776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743200" y="436392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71800" y="436392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544920" y="436392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773520" y="436392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108240" y="436392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336840" y="436392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763720" y="449568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992320" y="449568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565440" y="449568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794040" y="449568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128760" y="4495680"/>
              <a:ext cx="1526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357360" y="449568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743200" y="461952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971800" y="461952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44920" y="461952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773520" y="461952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08240" y="461952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336840" y="461952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763720" y="475128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992320" y="475128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565440" y="475128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794040" y="475128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128760" y="4751280"/>
              <a:ext cx="1526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357360" y="475128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763720" y="486216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992320" y="486216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565440" y="486216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794040" y="486216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128760" y="4862160"/>
              <a:ext cx="1526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357360" y="486216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784240" y="4993920"/>
              <a:ext cx="1526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012840" y="499392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585960" y="4993920"/>
              <a:ext cx="1526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149640" y="499392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378240" y="499392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43200" y="390024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971800" y="390024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544920" y="390024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773520" y="390024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108240" y="390024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336840" y="390024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722320" y="4024080"/>
              <a:ext cx="1526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950920" y="402408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524040" y="4024080"/>
              <a:ext cx="1526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752640" y="402408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87720" y="402408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316320" y="402408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743200" y="415584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971800" y="415584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544920" y="415584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773520" y="415584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108240" y="415584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336840" y="415584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736720" y="430200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965320" y="430200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538440" y="430200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767040" y="430200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101760" y="4302000"/>
              <a:ext cx="1526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30360" y="430200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757240" y="4433760"/>
              <a:ext cx="1526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985840" y="443376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558960" y="4433760"/>
              <a:ext cx="1526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787560" y="443376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122640" y="443376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351240" y="443376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36720" y="455760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965320" y="455760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538440" y="455760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767040" y="455760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101760" y="4557600"/>
              <a:ext cx="1526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330360" y="455760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7240" y="4689360"/>
              <a:ext cx="1526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985840" y="468936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558960" y="4689360"/>
              <a:ext cx="1526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787560" y="468936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122640" y="468936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351240" y="468936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7240" y="4800240"/>
              <a:ext cx="1526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985840" y="480024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558960" y="4800240"/>
              <a:ext cx="15264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787560" y="480024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122640" y="480024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351240" y="480024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78120" y="493200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006720" y="4932000"/>
              <a:ext cx="9180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579840" y="493200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143160" y="4932000"/>
              <a:ext cx="15228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371760" y="4932000"/>
              <a:ext cx="92160" cy="0"/>
            </a:xfrm>
            <a:prstGeom prst="line">
              <a:avLst/>
            </a:prstGeom>
            <a:ln w="936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3" name=""/>
          <p:cNvSpPr/>
          <p:nvPr/>
        </p:nvSpPr>
        <p:spPr>
          <a:xfrm>
            <a:off x="1990800" y="2563920"/>
            <a:ext cx="457200" cy="457200"/>
          </a:xfrm>
          <a:custGeom>
            <a:avLst/>
            <a:gdLst/>
            <a:ahLst/>
            <a:rect l="l" t="t" r="r" b="b"/>
            <a:pathLst>
              <a:path w="975" h="866">
                <a:moveTo>
                  <a:pt x="254" y="128"/>
                </a:moveTo>
                <a:cubicBezTo>
                  <a:pt x="192" y="143"/>
                  <a:pt x="195" y="161"/>
                  <a:pt x="134" y="181"/>
                </a:cubicBezTo>
                <a:cubicBezTo>
                  <a:pt x="116" y="208"/>
                  <a:pt x="98" y="234"/>
                  <a:pt x="80" y="261"/>
                </a:cubicBezTo>
                <a:cubicBezTo>
                  <a:pt x="71" y="275"/>
                  <a:pt x="53" y="302"/>
                  <a:pt x="53" y="302"/>
                </a:cubicBezTo>
                <a:cubicBezTo>
                  <a:pt x="44" y="329"/>
                  <a:pt x="36" y="355"/>
                  <a:pt x="27" y="382"/>
                </a:cubicBezTo>
                <a:cubicBezTo>
                  <a:pt x="23" y="395"/>
                  <a:pt x="18" y="409"/>
                  <a:pt x="13" y="422"/>
                </a:cubicBezTo>
                <a:cubicBezTo>
                  <a:pt x="9" y="435"/>
                  <a:pt x="0" y="462"/>
                  <a:pt x="0" y="462"/>
                </a:cubicBezTo>
                <a:cubicBezTo>
                  <a:pt x="4" y="520"/>
                  <a:pt x="6" y="579"/>
                  <a:pt x="13" y="637"/>
                </a:cubicBezTo>
                <a:cubicBezTo>
                  <a:pt x="15" y="651"/>
                  <a:pt x="17" y="667"/>
                  <a:pt x="27" y="677"/>
                </a:cubicBezTo>
                <a:cubicBezTo>
                  <a:pt x="50" y="699"/>
                  <a:pt x="107" y="730"/>
                  <a:pt x="107" y="730"/>
                </a:cubicBezTo>
                <a:cubicBezTo>
                  <a:pt x="144" y="787"/>
                  <a:pt x="191" y="817"/>
                  <a:pt x="254" y="837"/>
                </a:cubicBezTo>
                <a:cubicBezTo>
                  <a:pt x="316" y="854"/>
                  <a:pt x="404" y="866"/>
                  <a:pt x="482" y="864"/>
                </a:cubicBezTo>
                <a:cubicBezTo>
                  <a:pt x="560" y="862"/>
                  <a:pt x="670" y="835"/>
                  <a:pt x="723" y="824"/>
                </a:cubicBezTo>
                <a:cubicBezTo>
                  <a:pt x="751" y="822"/>
                  <a:pt x="803" y="797"/>
                  <a:pt x="803" y="797"/>
                </a:cubicBezTo>
                <a:cubicBezTo>
                  <a:pt x="866" y="704"/>
                  <a:pt x="830" y="735"/>
                  <a:pt x="897" y="690"/>
                </a:cubicBezTo>
                <a:cubicBezTo>
                  <a:pt x="921" y="641"/>
                  <a:pt x="964" y="600"/>
                  <a:pt x="964" y="529"/>
                </a:cubicBezTo>
                <a:cubicBezTo>
                  <a:pt x="975" y="480"/>
                  <a:pt x="975" y="440"/>
                  <a:pt x="964" y="395"/>
                </a:cubicBezTo>
                <a:cubicBezTo>
                  <a:pt x="953" y="350"/>
                  <a:pt x="928" y="299"/>
                  <a:pt x="897" y="261"/>
                </a:cubicBezTo>
                <a:cubicBezTo>
                  <a:pt x="858" y="201"/>
                  <a:pt x="834" y="207"/>
                  <a:pt x="777" y="168"/>
                </a:cubicBezTo>
                <a:cubicBezTo>
                  <a:pt x="738" y="110"/>
                  <a:pt x="712" y="139"/>
                  <a:pt x="656" y="101"/>
                </a:cubicBezTo>
                <a:cubicBezTo>
                  <a:pt x="588" y="0"/>
                  <a:pt x="494" y="52"/>
                  <a:pt x="361" y="61"/>
                </a:cubicBezTo>
                <a:cubicBezTo>
                  <a:pt x="312" y="77"/>
                  <a:pt x="254" y="87"/>
                  <a:pt x="254" y="128"/>
                </a:cubicBez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175e75"/>
              </a:gs>
            </a:gsLst>
            <a:lin ang="81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419720" y="2523960"/>
            <a:ext cx="457200" cy="457200"/>
          </a:xfrm>
          <a:custGeom>
            <a:avLst/>
            <a:gdLst/>
            <a:ahLst/>
            <a:rect l="l" t="t" r="r" b="b"/>
            <a:pathLst>
              <a:path w="975" h="866">
                <a:moveTo>
                  <a:pt x="254" y="128"/>
                </a:moveTo>
                <a:cubicBezTo>
                  <a:pt x="192" y="143"/>
                  <a:pt x="195" y="161"/>
                  <a:pt x="134" y="181"/>
                </a:cubicBezTo>
                <a:cubicBezTo>
                  <a:pt x="116" y="208"/>
                  <a:pt x="98" y="234"/>
                  <a:pt x="80" y="261"/>
                </a:cubicBezTo>
                <a:cubicBezTo>
                  <a:pt x="71" y="275"/>
                  <a:pt x="53" y="302"/>
                  <a:pt x="53" y="302"/>
                </a:cubicBezTo>
                <a:cubicBezTo>
                  <a:pt x="44" y="329"/>
                  <a:pt x="36" y="355"/>
                  <a:pt x="27" y="382"/>
                </a:cubicBezTo>
                <a:cubicBezTo>
                  <a:pt x="23" y="395"/>
                  <a:pt x="18" y="409"/>
                  <a:pt x="13" y="422"/>
                </a:cubicBezTo>
                <a:cubicBezTo>
                  <a:pt x="9" y="435"/>
                  <a:pt x="0" y="462"/>
                  <a:pt x="0" y="462"/>
                </a:cubicBezTo>
                <a:cubicBezTo>
                  <a:pt x="4" y="520"/>
                  <a:pt x="6" y="579"/>
                  <a:pt x="13" y="637"/>
                </a:cubicBezTo>
                <a:cubicBezTo>
                  <a:pt x="15" y="651"/>
                  <a:pt x="17" y="667"/>
                  <a:pt x="27" y="677"/>
                </a:cubicBezTo>
                <a:cubicBezTo>
                  <a:pt x="50" y="699"/>
                  <a:pt x="107" y="730"/>
                  <a:pt x="107" y="730"/>
                </a:cubicBezTo>
                <a:cubicBezTo>
                  <a:pt x="144" y="787"/>
                  <a:pt x="191" y="817"/>
                  <a:pt x="254" y="837"/>
                </a:cubicBezTo>
                <a:cubicBezTo>
                  <a:pt x="316" y="854"/>
                  <a:pt x="404" y="866"/>
                  <a:pt x="482" y="864"/>
                </a:cubicBezTo>
                <a:cubicBezTo>
                  <a:pt x="560" y="862"/>
                  <a:pt x="670" y="835"/>
                  <a:pt x="723" y="824"/>
                </a:cubicBezTo>
                <a:cubicBezTo>
                  <a:pt x="751" y="822"/>
                  <a:pt x="803" y="797"/>
                  <a:pt x="803" y="797"/>
                </a:cubicBezTo>
                <a:cubicBezTo>
                  <a:pt x="866" y="704"/>
                  <a:pt x="830" y="735"/>
                  <a:pt x="897" y="690"/>
                </a:cubicBezTo>
                <a:cubicBezTo>
                  <a:pt x="921" y="641"/>
                  <a:pt x="964" y="600"/>
                  <a:pt x="964" y="529"/>
                </a:cubicBezTo>
                <a:cubicBezTo>
                  <a:pt x="975" y="480"/>
                  <a:pt x="975" y="440"/>
                  <a:pt x="964" y="395"/>
                </a:cubicBezTo>
                <a:cubicBezTo>
                  <a:pt x="953" y="350"/>
                  <a:pt x="928" y="299"/>
                  <a:pt x="897" y="261"/>
                </a:cubicBezTo>
                <a:cubicBezTo>
                  <a:pt x="858" y="201"/>
                  <a:pt x="834" y="207"/>
                  <a:pt x="777" y="168"/>
                </a:cubicBezTo>
                <a:cubicBezTo>
                  <a:pt x="738" y="110"/>
                  <a:pt x="712" y="139"/>
                  <a:pt x="656" y="101"/>
                </a:cubicBezTo>
                <a:cubicBezTo>
                  <a:pt x="588" y="0"/>
                  <a:pt x="494" y="52"/>
                  <a:pt x="361" y="61"/>
                </a:cubicBezTo>
                <a:cubicBezTo>
                  <a:pt x="312" y="77"/>
                  <a:pt x="254" y="87"/>
                  <a:pt x="254" y="128"/>
                </a:cubicBez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175e75"/>
              </a:gs>
            </a:gsLst>
            <a:lin ang="81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086600" y="2681280"/>
            <a:ext cx="457200" cy="457200"/>
          </a:xfrm>
          <a:custGeom>
            <a:avLst/>
            <a:gdLst/>
            <a:ahLst/>
            <a:rect l="l" t="t" r="r" b="b"/>
            <a:pathLst>
              <a:path w="975" h="866">
                <a:moveTo>
                  <a:pt x="254" y="128"/>
                </a:moveTo>
                <a:cubicBezTo>
                  <a:pt x="192" y="143"/>
                  <a:pt x="195" y="161"/>
                  <a:pt x="134" y="181"/>
                </a:cubicBezTo>
                <a:cubicBezTo>
                  <a:pt x="116" y="208"/>
                  <a:pt x="98" y="234"/>
                  <a:pt x="80" y="261"/>
                </a:cubicBezTo>
                <a:cubicBezTo>
                  <a:pt x="71" y="275"/>
                  <a:pt x="53" y="302"/>
                  <a:pt x="53" y="302"/>
                </a:cubicBezTo>
                <a:cubicBezTo>
                  <a:pt x="44" y="329"/>
                  <a:pt x="36" y="355"/>
                  <a:pt x="27" y="382"/>
                </a:cubicBezTo>
                <a:cubicBezTo>
                  <a:pt x="23" y="395"/>
                  <a:pt x="18" y="409"/>
                  <a:pt x="13" y="422"/>
                </a:cubicBezTo>
                <a:cubicBezTo>
                  <a:pt x="9" y="435"/>
                  <a:pt x="0" y="462"/>
                  <a:pt x="0" y="462"/>
                </a:cubicBezTo>
                <a:cubicBezTo>
                  <a:pt x="4" y="520"/>
                  <a:pt x="6" y="579"/>
                  <a:pt x="13" y="637"/>
                </a:cubicBezTo>
                <a:cubicBezTo>
                  <a:pt x="15" y="651"/>
                  <a:pt x="17" y="667"/>
                  <a:pt x="27" y="677"/>
                </a:cubicBezTo>
                <a:cubicBezTo>
                  <a:pt x="50" y="699"/>
                  <a:pt x="107" y="730"/>
                  <a:pt x="107" y="730"/>
                </a:cubicBezTo>
                <a:cubicBezTo>
                  <a:pt x="144" y="787"/>
                  <a:pt x="191" y="817"/>
                  <a:pt x="254" y="837"/>
                </a:cubicBezTo>
                <a:cubicBezTo>
                  <a:pt x="316" y="854"/>
                  <a:pt x="404" y="866"/>
                  <a:pt x="482" y="864"/>
                </a:cubicBezTo>
                <a:cubicBezTo>
                  <a:pt x="560" y="862"/>
                  <a:pt x="670" y="835"/>
                  <a:pt x="723" y="824"/>
                </a:cubicBezTo>
                <a:cubicBezTo>
                  <a:pt x="751" y="822"/>
                  <a:pt x="803" y="797"/>
                  <a:pt x="803" y="797"/>
                </a:cubicBezTo>
                <a:cubicBezTo>
                  <a:pt x="866" y="704"/>
                  <a:pt x="830" y="735"/>
                  <a:pt x="897" y="690"/>
                </a:cubicBezTo>
                <a:cubicBezTo>
                  <a:pt x="921" y="641"/>
                  <a:pt x="964" y="600"/>
                  <a:pt x="964" y="529"/>
                </a:cubicBezTo>
                <a:cubicBezTo>
                  <a:pt x="975" y="480"/>
                  <a:pt x="975" y="440"/>
                  <a:pt x="964" y="395"/>
                </a:cubicBezTo>
                <a:cubicBezTo>
                  <a:pt x="953" y="350"/>
                  <a:pt x="928" y="299"/>
                  <a:pt x="897" y="261"/>
                </a:cubicBezTo>
                <a:cubicBezTo>
                  <a:pt x="858" y="201"/>
                  <a:pt x="834" y="207"/>
                  <a:pt x="777" y="168"/>
                </a:cubicBezTo>
                <a:cubicBezTo>
                  <a:pt x="738" y="110"/>
                  <a:pt x="712" y="139"/>
                  <a:pt x="656" y="101"/>
                </a:cubicBezTo>
                <a:cubicBezTo>
                  <a:pt x="588" y="0"/>
                  <a:pt x="494" y="52"/>
                  <a:pt x="361" y="61"/>
                </a:cubicBezTo>
                <a:cubicBezTo>
                  <a:pt x="312" y="77"/>
                  <a:pt x="254" y="87"/>
                  <a:pt x="254" y="128"/>
                </a:cubicBez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175e75"/>
              </a:gs>
            </a:gsLst>
            <a:lin ang="81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486400" y="4200480"/>
            <a:ext cx="457200" cy="457200"/>
          </a:xfrm>
          <a:custGeom>
            <a:avLst/>
            <a:gdLst/>
            <a:ahLst/>
            <a:rect l="l" t="t" r="r" b="b"/>
            <a:pathLst>
              <a:path w="975" h="866">
                <a:moveTo>
                  <a:pt x="254" y="128"/>
                </a:moveTo>
                <a:cubicBezTo>
                  <a:pt x="192" y="143"/>
                  <a:pt x="195" y="161"/>
                  <a:pt x="134" y="181"/>
                </a:cubicBezTo>
                <a:cubicBezTo>
                  <a:pt x="116" y="208"/>
                  <a:pt x="98" y="234"/>
                  <a:pt x="80" y="261"/>
                </a:cubicBezTo>
                <a:cubicBezTo>
                  <a:pt x="71" y="275"/>
                  <a:pt x="53" y="302"/>
                  <a:pt x="53" y="302"/>
                </a:cubicBezTo>
                <a:cubicBezTo>
                  <a:pt x="44" y="329"/>
                  <a:pt x="36" y="355"/>
                  <a:pt x="27" y="382"/>
                </a:cubicBezTo>
                <a:cubicBezTo>
                  <a:pt x="23" y="395"/>
                  <a:pt x="18" y="409"/>
                  <a:pt x="13" y="422"/>
                </a:cubicBezTo>
                <a:cubicBezTo>
                  <a:pt x="9" y="435"/>
                  <a:pt x="0" y="462"/>
                  <a:pt x="0" y="462"/>
                </a:cubicBezTo>
                <a:cubicBezTo>
                  <a:pt x="4" y="520"/>
                  <a:pt x="6" y="579"/>
                  <a:pt x="13" y="637"/>
                </a:cubicBezTo>
                <a:cubicBezTo>
                  <a:pt x="15" y="651"/>
                  <a:pt x="17" y="667"/>
                  <a:pt x="27" y="677"/>
                </a:cubicBezTo>
                <a:cubicBezTo>
                  <a:pt x="50" y="699"/>
                  <a:pt x="107" y="730"/>
                  <a:pt x="107" y="730"/>
                </a:cubicBezTo>
                <a:cubicBezTo>
                  <a:pt x="144" y="787"/>
                  <a:pt x="191" y="817"/>
                  <a:pt x="254" y="837"/>
                </a:cubicBezTo>
                <a:cubicBezTo>
                  <a:pt x="316" y="854"/>
                  <a:pt x="404" y="866"/>
                  <a:pt x="482" y="864"/>
                </a:cubicBezTo>
                <a:cubicBezTo>
                  <a:pt x="560" y="862"/>
                  <a:pt x="670" y="835"/>
                  <a:pt x="723" y="824"/>
                </a:cubicBezTo>
                <a:cubicBezTo>
                  <a:pt x="751" y="822"/>
                  <a:pt x="803" y="797"/>
                  <a:pt x="803" y="797"/>
                </a:cubicBezTo>
                <a:cubicBezTo>
                  <a:pt x="866" y="704"/>
                  <a:pt x="830" y="735"/>
                  <a:pt x="897" y="690"/>
                </a:cubicBezTo>
                <a:cubicBezTo>
                  <a:pt x="921" y="641"/>
                  <a:pt x="964" y="600"/>
                  <a:pt x="964" y="529"/>
                </a:cubicBezTo>
                <a:cubicBezTo>
                  <a:pt x="975" y="480"/>
                  <a:pt x="975" y="440"/>
                  <a:pt x="964" y="395"/>
                </a:cubicBezTo>
                <a:cubicBezTo>
                  <a:pt x="953" y="350"/>
                  <a:pt x="928" y="299"/>
                  <a:pt x="897" y="261"/>
                </a:cubicBezTo>
                <a:cubicBezTo>
                  <a:pt x="858" y="201"/>
                  <a:pt x="834" y="207"/>
                  <a:pt x="777" y="168"/>
                </a:cubicBezTo>
                <a:cubicBezTo>
                  <a:pt x="738" y="110"/>
                  <a:pt x="712" y="139"/>
                  <a:pt x="656" y="101"/>
                </a:cubicBezTo>
                <a:cubicBezTo>
                  <a:pt x="588" y="0"/>
                  <a:pt x="494" y="52"/>
                  <a:pt x="361" y="61"/>
                </a:cubicBezTo>
                <a:cubicBezTo>
                  <a:pt x="312" y="77"/>
                  <a:pt x="254" y="87"/>
                  <a:pt x="254" y="128"/>
                </a:cubicBez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175e75"/>
              </a:gs>
            </a:gsLst>
            <a:lin ang="81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153280" y="4248000"/>
            <a:ext cx="533520" cy="457200"/>
          </a:xfrm>
          <a:prstGeom prst="irregularSeal2">
            <a:avLst/>
          </a:prstGeom>
          <a:gradFill rotWithShape="0">
            <a:gsLst>
              <a:gs pos="0">
                <a:srgbClr val="33ccff"/>
              </a:gs>
              <a:gs pos="100000">
                <a:srgbClr val="175e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153280" y="4361040"/>
            <a:ext cx="457200" cy="182520"/>
          </a:xfrm>
          <a:custGeom>
            <a:avLst/>
            <a:gdLst/>
            <a:ahLst/>
            <a:rect l="l" t="t" r="r" b="b"/>
            <a:pathLst>
              <a:path w="1703" h="963">
                <a:moveTo>
                  <a:pt x="724" y="0"/>
                </a:moveTo>
                <a:cubicBezTo>
                  <a:pt x="694" y="11"/>
                  <a:pt x="659" y="280"/>
                  <a:pt x="665" y="37"/>
                </a:cubicBezTo>
                <a:cubicBezTo>
                  <a:pt x="579" y="307"/>
                  <a:pt x="627" y="447"/>
                  <a:pt x="619" y="467"/>
                </a:cubicBezTo>
                <a:cubicBezTo>
                  <a:pt x="613" y="475"/>
                  <a:pt x="45" y="252"/>
                  <a:pt x="45" y="252"/>
                </a:cubicBezTo>
                <a:cubicBezTo>
                  <a:pt x="0" y="210"/>
                  <a:pt x="338" y="332"/>
                  <a:pt x="432" y="320"/>
                </a:cubicBezTo>
                <a:cubicBezTo>
                  <a:pt x="526" y="308"/>
                  <a:pt x="581" y="200"/>
                  <a:pt x="610" y="182"/>
                </a:cubicBezTo>
                <a:cubicBezTo>
                  <a:pt x="609" y="191"/>
                  <a:pt x="605" y="202"/>
                  <a:pt x="604" y="210"/>
                </a:cubicBezTo>
                <a:cubicBezTo>
                  <a:pt x="602" y="221"/>
                  <a:pt x="597" y="241"/>
                  <a:pt x="597" y="241"/>
                </a:cubicBezTo>
                <a:cubicBezTo>
                  <a:pt x="598" y="282"/>
                  <a:pt x="600" y="325"/>
                  <a:pt x="604" y="366"/>
                </a:cubicBezTo>
                <a:cubicBezTo>
                  <a:pt x="604" y="375"/>
                  <a:pt x="605" y="388"/>
                  <a:pt x="610" y="395"/>
                </a:cubicBezTo>
                <a:cubicBezTo>
                  <a:pt x="622" y="410"/>
                  <a:pt x="651" y="434"/>
                  <a:pt x="651" y="434"/>
                </a:cubicBezTo>
                <a:cubicBezTo>
                  <a:pt x="670" y="475"/>
                  <a:pt x="694" y="910"/>
                  <a:pt x="726" y="923"/>
                </a:cubicBezTo>
                <a:cubicBezTo>
                  <a:pt x="750" y="963"/>
                  <a:pt x="721" y="667"/>
                  <a:pt x="740" y="601"/>
                </a:cubicBezTo>
                <a:cubicBezTo>
                  <a:pt x="759" y="535"/>
                  <a:pt x="801" y="546"/>
                  <a:pt x="838" y="529"/>
                </a:cubicBezTo>
                <a:cubicBezTo>
                  <a:pt x="875" y="512"/>
                  <a:pt x="934" y="509"/>
                  <a:pt x="961" y="501"/>
                </a:cubicBezTo>
                <a:cubicBezTo>
                  <a:pt x="975" y="499"/>
                  <a:pt x="1000" y="481"/>
                  <a:pt x="1000" y="481"/>
                </a:cubicBezTo>
                <a:cubicBezTo>
                  <a:pt x="1033" y="414"/>
                  <a:pt x="1657" y="701"/>
                  <a:pt x="1691" y="668"/>
                </a:cubicBezTo>
                <a:cubicBezTo>
                  <a:pt x="1703" y="634"/>
                  <a:pt x="1183" y="367"/>
                  <a:pt x="1082" y="288"/>
                </a:cubicBezTo>
                <a:cubicBezTo>
                  <a:pt x="979" y="250"/>
                  <a:pt x="1092" y="416"/>
                  <a:pt x="1075" y="441"/>
                </a:cubicBezTo>
                <a:cubicBezTo>
                  <a:pt x="1058" y="466"/>
                  <a:pt x="990" y="446"/>
                  <a:pt x="981" y="441"/>
                </a:cubicBezTo>
                <a:cubicBezTo>
                  <a:pt x="960" y="397"/>
                  <a:pt x="1048" y="443"/>
                  <a:pt x="1021" y="414"/>
                </a:cubicBezTo>
                <a:cubicBezTo>
                  <a:pt x="1001" y="373"/>
                  <a:pt x="1008" y="400"/>
                  <a:pt x="981" y="374"/>
                </a:cubicBezTo>
                <a:cubicBezTo>
                  <a:pt x="947" y="300"/>
                  <a:pt x="873" y="354"/>
                  <a:pt x="807" y="360"/>
                </a:cubicBezTo>
                <a:cubicBezTo>
                  <a:pt x="781" y="373"/>
                  <a:pt x="673" y="347"/>
                  <a:pt x="724" y="0"/>
                </a:cubicBez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175e75"/>
              </a:gs>
            </a:gsLst>
            <a:lin ang="81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930400" y="4241880"/>
            <a:ext cx="493920" cy="393480"/>
          </a:xfrm>
          <a:custGeom>
            <a:avLst/>
            <a:gdLst/>
            <a:ahLst/>
            <a:rect l="l" t="t" r="r" b="b"/>
            <a:pathLst>
              <a:path w="888" h="826">
                <a:moveTo>
                  <a:pt x="285" y="190"/>
                </a:moveTo>
                <a:cubicBezTo>
                  <a:pt x="230" y="205"/>
                  <a:pt x="173" y="109"/>
                  <a:pt x="119" y="129"/>
                </a:cubicBezTo>
                <a:cubicBezTo>
                  <a:pt x="103" y="156"/>
                  <a:pt x="87" y="181"/>
                  <a:pt x="71" y="208"/>
                </a:cubicBezTo>
                <a:cubicBezTo>
                  <a:pt x="63" y="222"/>
                  <a:pt x="125" y="297"/>
                  <a:pt x="125" y="297"/>
                </a:cubicBezTo>
                <a:cubicBezTo>
                  <a:pt x="117" y="324"/>
                  <a:pt x="32" y="302"/>
                  <a:pt x="24" y="329"/>
                </a:cubicBezTo>
                <a:cubicBezTo>
                  <a:pt x="20" y="342"/>
                  <a:pt x="16" y="356"/>
                  <a:pt x="12" y="369"/>
                </a:cubicBezTo>
                <a:cubicBezTo>
                  <a:pt x="8" y="382"/>
                  <a:pt x="0" y="409"/>
                  <a:pt x="0" y="409"/>
                </a:cubicBezTo>
                <a:cubicBezTo>
                  <a:pt x="4" y="467"/>
                  <a:pt x="158" y="440"/>
                  <a:pt x="165" y="498"/>
                </a:cubicBezTo>
                <a:cubicBezTo>
                  <a:pt x="166" y="511"/>
                  <a:pt x="15" y="613"/>
                  <a:pt x="24" y="623"/>
                </a:cubicBezTo>
                <a:cubicBezTo>
                  <a:pt x="44" y="645"/>
                  <a:pt x="95" y="676"/>
                  <a:pt x="95" y="676"/>
                </a:cubicBezTo>
                <a:cubicBezTo>
                  <a:pt x="128" y="733"/>
                  <a:pt x="203" y="733"/>
                  <a:pt x="259" y="753"/>
                </a:cubicBezTo>
                <a:cubicBezTo>
                  <a:pt x="285" y="672"/>
                  <a:pt x="387" y="826"/>
                  <a:pt x="427" y="810"/>
                </a:cubicBezTo>
                <a:cubicBezTo>
                  <a:pt x="474" y="799"/>
                  <a:pt x="499" y="700"/>
                  <a:pt x="540" y="686"/>
                </a:cubicBezTo>
                <a:cubicBezTo>
                  <a:pt x="565" y="684"/>
                  <a:pt x="674" y="726"/>
                  <a:pt x="674" y="726"/>
                </a:cubicBezTo>
                <a:cubicBezTo>
                  <a:pt x="729" y="633"/>
                  <a:pt x="682" y="597"/>
                  <a:pt x="741" y="552"/>
                </a:cubicBezTo>
                <a:cubicBezTo>
                  <a:pt x="762" y="504"/>
                  <a:pt x="835" y="511"/>
                  <a:pt x="854" y="476"/>
                </a:cubicBezTo>
                <a:cubicBezTo>
                  <a:pt x="873" y="441"/>
                  <a:pt x="888" y="374"/>
                  <a:pt x="854" y="342"/>
                </a:cubicBezTo>
                <a:cubicBezTo>
                  <a:pt x="820" y="310"/>
                  <a:pt x="674" y="322"/>
                  <a:pt x="647" y="284"/>
                </a:cubicBezTo>
                <a:cubicBezTo>
                  <a:pt x="612" y="225"/>
                  <a:pt x="739" y="155"/>
                  <a:pt x="689" y="116"/>
                </a:cubicBezTo>
                <a:cubicBezTo>
                  <a:pt x="654" y="58"/>
                  <a:pt x="563" y="148"/>
                  <a:pt x="513" y="110"/>
                </a:cubicBezTo>
                <a:cubicBezTo>
                  <a:pt x="453" y="9"/>
                  <a:pt x="438" y="0"/>
                  <a:pt x="320" y="9"/>
                </a:cubicBezTo>
                <a:cubicBezTo>
                  <a:pt x="276" y="25"/>
                  <a:pt x="285" y="149"/>
                  <a:pt x="285" y="190"/>
                </a:cubicBez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175e75"/>
              </a:gs>
            </a:gsLst>
            <a:lin ang="81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981080" y="4002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572000" y="4048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010280" y="4048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038480" y="291924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ồng cầ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696000" y="30146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ồng cầ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514600" y="260676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Ưu trươ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105520" y="2638440"/>
            <a:ext cx="1371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Đẳng trươ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277040" y="2666880"/>
            <a:ext cx="1981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</a:rPr>
              <a:t>Nhược trươ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147760" y="1828800"/>
            <a:ext cx="5943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ếu ngâm một tế bào vào một dung dịch bất kì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ì có những trường hợp nào xảy r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362320" y="51814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Cl 0,9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453440" y="51148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Cl 0,3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876920" y="51436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Cl 0,6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828800" y="2949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ồng cầ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8153280" y="4248000"/>
            <a:ext cx="533520" cy="457200"/>
          </a:xfrm>
          <a:prstGeom prst="irregularSeal2">
            <a:avLst/>
          </a:prstGeom>
          <a:gradFill rotWithShape="0">
            <a:gsLst>
              <a:gs pos="0">
                <a:srgbClr val="33ccff"/>
              </a:gs>
              <a:gs pos="100000">
                <a:srgbClr val="175e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8153280" y="4390920"/>
            <a:ext cx="457200" cy="182520"/>
          </a:xfrm>
          <a:custGeom>
            <a:avLst/>
            <a:gdLst/>
            <a:ahLst/>
            <a:rect l="l" t="t" r="r" b="b"/>
            <a:pathLst>
              <a:path w="1703" h="963">
                <a:moveTo>
                  <a:pt x="724" y="0"/>
                </a:moveTo>
                <a:cubicBezTo>
                  <a:pt x="694" y="11"/>
                  <a:pt x="659" y="280"/>
                  <a:pt x="665" y="37"/>
                </a:cubicBezTo>
                <a:cubicBezTo>
                  <a:pt x="579" y="307"/>
                  <a:pt x="627" y="447"/>
                  <a:pt x="619" y="467"/>
                </a:cubicBezTo>
                <a:cubicBezTo>
                  <a:pt x="613" y="475"/>
                  <a:pt x="45" y="252"/>
                  <a:pt x="45" y="252"/>
                </a:cubicBezTo>
                <a:cubicBezTo>
                  <a:pt x="0" y="210"/>
                  <a:pt x="338" y="332"/>
                  <a:pt x="432" y="320"/>
                </a:cubicBezTo>
                <a:cubicBezTo>
                  <a:pt x="526" y="308"/>
                  <a:pt x="581" y="200"/>
                  <a:pt x="610" y="182"/>
                </a:cubicBezTo>
                <a:cubicBezTo>
                  <a:pt x="609" y="191"/>
                  <a:pt x="605" y="202"/>
                  <a:pt x="604" y="210"/>
                </a:cubicBezTo>
                <a:cubicBezTo>
                  <a:pt x="602" y="221"/>
                  <a:pt x="597" y="241"/>
                  <a:pt x="597" y="241"/>
                </a:cubicBezTo>
                <a:cubicBezTo>
                  <a:pt x="598" y="282"/>
                  <a:pt x="600" y="325"/>
                  <a:pt x="604" y="366"/>
                </a:cubicBezTo>
                <a:cubicBezTo>
                  <a:pt x="604" y="375"/>
                  <a:pt x="605" y="388"/>
                  <a:pt x="610" y="395"/>
                </a:cubicBezTo>
                <a:cubicBezTo>
                  <a:pt x="622" y="410"/>
                  <a:pt x="651" y="434"/>
                  <a:pt x="651" y="434"/>
                </a:cubicBezTo>
                <a:cubicBezTo>
                  <a:pt x="670" y="475"/>
                  <a:pt x="694" y="910"/>
                  <a:pt x="726" y="923"/>
                </a:cubicBezTo>
                <a:cubicBezTo>
                  <a:pt x="750" y="963"/>
                  <a:pt x="721" y="667"/>
                  <a:pt x="740" y="601"/>
                </a:cubicBezTo>
                <a:cubicBezTo>
                  <a:pt x="759" y="535"/>
                  <a:pt x="801" y="546"/>
                  <a:pt x="838" y="529"/>
                </a:cubicBezTo>
                <a:cubicBezTo>
                  <a:pt x="875" y="512"/>
                  <a:pt x="934" y="509"/>
                  <a:pt x="961" y="501"/>
                </a:cubicBezTo>
                <a:cubicBezTo>
                  <a:pt x="975" y="499"/>
                  <a:pt x="1000" y="481"/>
                  <a:pt x="1000" y="481"/>
                </a:cubicBezTo>
                <a:cubicBezTo>
                  <a:pt x="1033" y="414"/>
                  <a:pt x="1657" y="701"/>
                  <a:pt x="1691" y="668"/>
                </a:cubicBezTo>
                <a:cubicBezTo>
                  <a:pt x="1703" y="634"/>
                  <a:pt x="1183" y="367"/>
                  <a:pt x="1082" y="288"/>
                </a:cubicBezTo>
                <a:cubicBezTo>
                  <a:pt x="979" y="250"/>
                  <a:pt x="1092" y="416"/>
                  <a:pt x="1075" y="441"/>
                </a:cubicBezTo>
                <a:cubicBezTo>
                  <a:pt x="1058" y="466"/>
                  <a:pt x="990" y="446"/>
                  <a:pt x="981" y="441"/>
                </a:cubicBezTo>
                <a:cubicBezTo>
                  <a:pt x="960" y="397"/>
                  <a:pt x="1048" y="443"/>
                  <a:pt x="1021" y="414"/>
                </a:cubicBezTo>
                <a:cubicBezTo>
                  <a:pt x="1001" y="373"/>
                  <a:pt x="1008" y="400"/>
                  <a:pt x="981" y="374"/>
                </a:cubicBezTo>
                <a:cubicBezTo>
                  <a:pt x="947" y="300"/>
                  <a:pt x="873" y="354"/>
                  <a:pt x="807" y="360"/>
                </a:cubicBezTo>
                <a:cubicBezTo>
                  <a:pt x="781" y="373"/>
                  <a:pt x="673" y="347"/>
                  <a:pt x="724" y="0"/>
                </a:cubicBezTo>
                <a:close/>
              </a:path>
            </a:pathLst>
          </a:custGeom>
          <a:gradFill rotWithShape="0">
            <a:gsLst>
              <a:gs pos="0">
                <a:srgbClr val="33ccff"/>
              </a:gs>
              <a:gs pos="100000">
                <a:srgbClr val="175e75"/>
              </a:gs>
            </a:gsLst>
            <a:lin ang="8100000"/>
          </a:gra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25 0.00624 C 0.0375 -0.0074 0.08142 -0.02105 0.10069 0.00624 C 0.11996 0.03352 0.1092 0.13109 0.10989 0.17086 C 0.11059 0.21063 0.10607 0.23306 0.10538 0.24531 E">
                                      <p:cBhvr>
                                        <p:cTn id="452" dur="500" fill="hold"/>
                                        <p:tgtEl>
                                          <p:spTgt spid="5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54" dur="5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6.85834E-006 C 0.0519 -0.02828 0.10381 -0.05633 0.12326 -0.01553 C 0.1427 0.02528 0.11753 0.20265 0.11631 0.24554 E">
                                      <p:cBhvr>
                                        <p:cTn id="462" dur="500" fill="hold"/>
                                        <p:tgtEl>
                                          <p:spTgt spid="5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64" dur="5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1041 C 0.05017 -0.02474 0.10035 -0.03885 0.12326 -0.01665 C 0.14618 0.00554 0.13767 0.07976 0.13733 0.12323 C 0.13698 0.16647 0.12378 0.2245 0.12101 0.24416 E">
                                      <p:cBhvr>
                                        <p:cTn id="472" dur="500" fill="hold"/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6" dur="5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20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4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8" dur="20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0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0" dur="2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/>
          </p:nvPr>
        </p:nvSpPr>
        <p:spPr>
          <a:xfrm>
            <a:off x="1905120" y="11426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. VẬN CHUYỂN THỤ ĐỘ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IẾT 16:  VẬN CHUYỂN CÁC CHẤT QUA MÀNG SINH CHẤ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0" y="1143000"/>
            <a:ext cx="1905120" cy="5715000"/>
          </a:xfrm>
          <a:prstGeom prst="rect">
            <a:avLst/>
          </a:prstGeom>
          <a:solidFill>
            <a:srgbClr val="e4c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0" y="114300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ỘI D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>
            <a:hlinkClick r:id="rId2" action="ppaction://hlinksldjump"/>
          </p:cNvPr>
          <p:cNvSpPr/>
          <p:nvPr/>
        </p:nvSpPr>
        <p:spPr>
          <a:xfrm>
            <a:off x="0" y="1752480"/>
            <a:ext cx="1905120" cy="6098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. VẬN CHUYỂ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Ụ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3200400"/>
            <a:ext cx="1905120" cy="838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. VẬN CHUYỂ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Ủ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0" y="4876920"/>
            <a:ext cx="1905120" cy="838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I. XUẤT BÀ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>
            <a:hlinkClick r:id="rId3" action="ppaction://hlinksldjump"/>
          </p:cNvPr>
          <p:cNvSpPr/>
          <p:nvPr/>
        </p:nvSpPr>
        <p:spPr>
          <a:xfrm>
            <a:off x="0" y="2362320"/>
            <a:ext cx="1905120" cy="4572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THÍ NGHIỆ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2819520"/>
            <a:ext cx="1905120" cy="3808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0" y="4038480"/>
            <a:ext cx="1905120" cy="3812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HIỆN TƯỢ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0" y="4419720"/>
            <a:ext cx="1905120" cy="5331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0" y="6324480"/>
            <a:ext cx="1905120" cy="5335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XUẤT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0" y="571500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981080" y="1676520"/>
            <a:ext cx="5867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938240" y="2286000"/>
            <a:ext cx="701064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ương thức vận chuyển thụ động là quá trìn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huếch tán các chất qua màng sinh chấ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362320" y="2133720"/>
            <a:ext cx="5029200" cy="1828800"/>
          </a:xfrm>
          <a:prstGeom prst="cloudCallout">
            <a:avLst>
              <a:gd name="adj1" fmla="val -23486"/>
              <a:gd name="adj2" fmla="val 174134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ận chuyển thụ động là gì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971800" y="2895480"/>
            <a:ext cx="259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2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ột số hình thức vận chuyển các chất qua mà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o phương thức thụ độ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2"/>
          <a:stretch/>
        </p:blipFill>
        <p:spPr>
          <a:xfrm>
            <a:off x="2133720" y="1143000"/>
            <a:ext cx="6781680" cy="571500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228600" y="1905120"/>
            <a:ext cx="1752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Có những con đường vận chuyển thụ động nà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438280" y="1266840"/>
            <a:ext cx="2438640" cy="3808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goài tế bà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477120" y="1266840"/>
            <a:ext cx="2133360" cy="3808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ế bào chấ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019920" y="3186000"/>
            <a:ext cx="2514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ôtêin mà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086520" y="5186520"/>
            <a:ext cx="243828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ôtêin mà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172200" y="6224760"/>
            <a:ext cx="2514600" cy="5331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ớp kép photpholip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1905120" y="11426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. VẬN CHUYỂN THỤ ĐỘ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IẾT 16:  VẬN CHUYỂN CÁC CHẤT QUA MÀNG SINH CHẤ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0" y="1143000"/>
            <a:ext cx="1905120" cy="5715000"/>
          </a:xfrm>
          <a:prstGeom prst="rect">
            <a:avLst/>
          </a:prstGeom>
          <a:solidFill>
            <a:srgbClr val="e4c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0" y="114300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ỘI D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>
            <a:hlinkClick r:id="rId2" action="ppaction://hlinksldjump"/>
          </p:cNvPr>
          <p:cNvSpPr/>
          <p:nvPr/>
        </p:nvSpPr>
        <p:spPr>
          <a:xfrm>
            <a:off x="0" y="1752480"/>
            <a:ext cx="1905120" cy="6098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. VẬN CHUYỂ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Ụ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0" y="3200400"/>
            <a:ext cx="1905120" cy="838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. VẬN CHUYỂ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Ủ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0" y="4876920"/>
            <a:ext cx="1905120" cy="838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I. XUẤT BÀ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>
            <a:hlinkClick r:id="rId3" action="ppaction://hlinksldjump"/>
          </p:cNvPr>
          <p:cNvSpPr/>
          <p:nvPr/>
        </p:nvSpPr>
        <p:spPr>
          <a:xfrm>
            <a:off x="0" y="2362320"/>
            <a:ext cx="1905120" cy="4572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THÍ NGHIỆ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0" y="2819520"/>
            <a:ext cx="1905120" cy="3808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0" y="4038480"/>
            <a:ext cx="1905120" cy="3812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HIỆN TƯỢ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4419720"/>
            <a:ext cx="1905120" cy="5331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6324480"/>
            <a:ext cx="1905120" cy="5335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XUẤT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571500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981080" y="1676520"/>
            <a:ext cx="5867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057400" y="2286000"/>
            <a:ext cx="6858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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Các con đường vận chuyển thụ động 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Khuếch tán trực tiế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qua lớp phôtpholipit ké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+Khuếch tán qua kênh Prôtêin xuyên mà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mang tính chọn lọc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971800" y="2514600"/>
            <a:ext cx="4114800" cy="1828800"/>
          </a:xfrm>
          <a:prstGeom prst="cloudCallout">
            <a:avLst>
              <a:gd name="adj1" fmla="val -88194"/>
              <a:gd name="adj2" fmla="val 20164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ơ chế khuếch tán và tốc độ vận chuyể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057400" y="2286000"/>
            <a:ext cx="64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ơ chế khuếch tán: các chất vận chuyển từ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ơi có nồng độ cao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nồng độ thấp (do sự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ênh lệch nồng độ giữa các chất trong và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goài màng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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ốc độ vận chuyển tỉ lệ thuận với diện tí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huếch tán và không đòi hỏi năng lượng, cù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ều građien nồng độ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70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1905120" y="11426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. VẬN CHUYỂN CHỦ ĐỘ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IẾT 16:  VẬN CHUYỂN CÁC CHẤT QUA MÀNG SINH CHẤ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0" y="1143000"/>
            <a:ext cx="1905120" cy="5715000"/>
          </a:xfrm>
          <a:prstGeom prst="rect">
            <a:avLst/>
          </a:prstGeom>
          <a:solidFill>
            <a:srgbClr val="e4c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0" y="114300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ỘI D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>
            <a:hlinkClick r:id="rId2" action="ppaction://hlinksldjump"/>
          </p:cNvPr>
          <p:cNvSpPr/>
          <p:nvPr/>
        </p:nvSpPr>
        <p:spPr>
          <a:xfrm>
            <a:off x="0" y="1752480"/>
            <a:ext cx="1905120" cy="6098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. VẬN CHUYỂ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Ụ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0" y="3200400"/>
            <a:ext cx="1905120" cy="8380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. VẬN CHUYỂ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Ủ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0" y="4876920"/>
            <a:ext cx="1905120" cy="838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I. XUẤT BÀ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>
            <a:hlinkClick r:id="rId3" action="ppaction://hlinksldjump"/>
          </p:cNvPr>
          <p:cNvSpPr/>
          <p:nvPr/>
        </p:nvSpPr>
        <p:spPr>
          <a:xfrm>
            <a:off x="0" y="2362320"/>
            <a:ext cx="1905120" cy="4572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THÍ NGHIỆ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>
            <a:hlinkClick r:id="rId4" action="ppaction://hlinksldjump"/>
          </p:cNvPr>
          <p:cNvSpPr/>
          <p:nvPr/>
        </p:nvSpPr>
        <p:spPr>
          <a:xfrm>
            <a:off x="0" y="2819520"/>
            <a:ext cx="1905120" cy="3808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0" y="4038480"/>
            <a:ext cx="1905120" cy="3812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HIỆN TƯỢ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0" y="4419720"/>
            <a:ext cx="1905120" cy="5331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0" y="6324480"/>
            <a:ext cx="1905120" cy="5335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XUẤT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0" y="571500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905120" y="1600200"/>
            <a:ext cx="4419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/HIỆN TƯỢ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905120" y="2133720"/>
            <a:ext cx="64008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+  Ở một số loài tảo biển, 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nồng độ iôt trong tế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bào tảo cao gấp 1000 lần nồng độ iôt trong nướ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biể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Nhưng iôt vẫn được vận chuyển từ nướ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ển qua màng vào tế bào tả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+  Tại ống thận, </a:t>
            </a: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nồng độ Glucôzơ trong nướ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tiểu thấp hơn trong má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Nhưng Glucôzơ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ẫn được thu hồi trở về má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905120" y="5638680"/>
            <a:ext cx="7238880" cy="3812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imes New Roman"/>
              </a:rPr>
              <a:t>Giải thích như thế nào về các hiện tượng nà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5715000"/>
            <a:ext cx="7238880" cy="914400"/>
          </a:xfrm>
          <a:prstGeom prst="rect">
            <a:avLst/>
          </a:prstGeom>
          <a:solidFill>
            <a:srgbClr val="c5c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=&gt;Đó là nhờ sự vận chuyển chủ động (tích cự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của màng sinh chấ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5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02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2095560" y="1066680"/>
            <a:ext cx="1352520" cy="502920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144880" y="3009960"/>
            <a:ext cx="1298520" cy="1298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095560" y="3505320"/>
            <a:ext cx="320760" cy="3204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447920" y="29527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2229840" y="3870720"/>
            <a:ext cx="1999440" cy="1221840"/>
            <a:chOff x="2229840" y="3870720"/>
            <a:chExt cx="1999440" cy="1221840"/>
          </a:xfrm>
        </p:grpSpPr>
        <p:grpSp>
          <p:nvGrpSpPr>
            <p:cNvPr id="659" name=""/>
            <p:cNvGrpSpPr/>
            <p:nvPr/>
          </p:nvGrpSpPr>
          <p:grpSpPr>
            <a:xfrm>
              <a:off x="2229840" y="3870720"/>
              <a:ext cx="1358640" cy="883800"/>
              <a:chOff x="2229840" y="3870720"/>
              <a:chExt cx="1358640" cy="883800"/>
            </a:xfrm>
          </p:grpSpPr>
          <p:grpSp>
            <p:nvGrpSpPr>
              <p:cNvPr id="660" name=""/>
              <p:cNvGrpSpPr/>
              <p:nvPr/>
            </p:nvGrpSpPr>
            <p:grpSpPr>
              <a:xfrm>
                <a:off x="2324160" y="4510080"/>
                <a:ext cx="1264320" cy="244440"/>
                <a:chOff x="2324160" y="4510080"/>
                <a:chExt cx="1264320" cy="24444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2324160" y="4510080"/>
                  <a:ext cx="1264320" cy="244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619" y="18867"/>
                      </a:moveTo>
                      <a:arcTo wR="10800" hR="10800" stAng="7900308" swAng="1163074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619" y="18867"/>
                      </a:moveTo>
                      <a:arcTo wR="10800" hR="10800" stAng="7900308" swAng="11630749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3414960" y="4557960"/>
                  <a:ext cx="1285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3" name=""/>
              <p:cNvSpPr/>
              <p:nvPr/>
            </p:nvSpPr>
            <p:spPr>
              <a:xfrm flipV="1">
                <a:off x="2229840" y="3870360"/>
                <a:ext cx="1030320" cy="63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321" y="3009"/>
                    </a:moveTo>
                    <a:arcTo wR="10800" hR="10800" stAng="-8029852" swAng="66886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321" y="3009"/>
                    </a:moveTo>
                    <a:arcTo wR="10800" hR="10800" stAng="-8029852" swAng="6688632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V="1">
                <a:off x="3238200" y="4238280"/>
                <a:ext cx="64080" cy="63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65" name=""/>
            <p:cNvSpPr/>
            <p:nvPr/>
          </p:nvSpPr>
          <p:spPr>
            <a:xfrm>
              <a:off x="2552760" y="4495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543480" y="4724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7" name=""/>
          <p:cNvSpPr txBox="1"/>
          <p:nvPr/>
        </p:nvSpPr>
        <p:spPr>
          <a:xfrm>
            <a:off x="380880" y="0"/>
            <a:ext cx="5496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6699ff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ơ chế vận chuyển tích cực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cc00"/>
                  </a:gs>
                  <a:gs pos="50000">
                    <a:srgbClr val="6699ff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305240" y="1106640"/>
            <a:ext cx="1371600" cy="502920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4300560" y="3048120"/>
            <a:ext cx="1336680" cy="1298520"/>
            <a:chOff x="4300560" y="3048120"/>
            <a:chExt cx="1336680" cy="1298520"/>
          </a:xfrm>
        </p:grpSpPr>
        <p:grpSp>
          <p:nvGrpSpPr>
            <p:cNvPr id="670" name=""/>
            <p:cNvGrpSpPr/>
            <p:nvPr/>
          </p:nvGrpSpPr>
          <p:grpSpPr>
            <a:xfrm>
              <a:off x="4300560" y="3048120"/>
              <a:ext cx="1336680" cy="1298520"/>
              <a:chOff x="4300560" y="3048120"/>
              <a:chExt cx="1336680" cy="1298520"/>
            </a:xfrm>
          </p:grpSpPr>
          <p:sp>
            <p:nvSpPr>
              <p:cNvPr id="671" name=""/>
              <p:cNvSpPr/>
              <p:nvPr/>
            </p:nvSpPr>
            <p:spPr>
              <a:xfrm>
                <a:off x="4338720" y="3048120"/>
                <a:ext cx="1298520" cy="1298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300560" y="3543480"/>
                <a:ext cx="320400" cy="320400"/>
              </a:xfrm>
              <a:prstGeom prst="ellipse">
                <a:avLst/>
              </a:prstGeom>
              <a:solidFill>
                <a:srgbClr val="000099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3" name=""/>
            <p:cNvSpPr/>
            <p:nvPr/>
          </p:nvSpPr>
          <p:spPr>
            <a:xfrm>
              <a:off x="4338720" y="358164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4439520" y="3910320"/>
            <a:ext cx="1999440" cy="1221840"/>
            <a:chOff x="4439520" y="3910320"/>
            <a:chExt cx="1999440" cy="1221840"/>
          </a:xfrm>
        </p:grpSpPr>
        <p:grpSp>
          <p:nvGrpSpPr>
            <p:cNvPr id="675" name=""/>
            <p:cNvGrpSpPr/>
            <p:nvPr/>
          </p:nvGrpSpPr>
          <p:grpSpPr>
            <a:xfrm>
              <a:off x="4439520" y="3910320"/>
              <a:ext cx="1358640" cy="883800"/>
              <a:chOff x="4439520" y="3910320"/>
              <a:chExt cx="1358640" cy="883800"/>
            </a:xfrm>
          </p:grpSpPr>
          <p:grpSp>
            <p:nvGrpSpPr>
              <p:cNvPr id="676" name=""/>
              <p:cNvGrpSpPr/>
              <p:nvPr/>
            </p:nvGrpSpPr>
            <p:grpSpPr>
              <a:xfrm>
                <a:off x="4533840" y="4549680"/>
                <a:ext cx="1264320" cy="244440"/>
                <a:chOff x="4533840" y="4549680"/>
                <a:chExt cx="1264320" cy="24444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4533840" y="4549680"/>
                  <a:ext cx="1264320" cy="244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619" y="18867"/>
                      </a:moveTo>
                      <a:arcTo wR="10800" hR="10800" stAng="7900308" swAng="1163074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619" y="18867"/>
                      </a:moveTo>
                      <a:arcTo wR="10800" hR="10800" stAng="7900308" swAng="11630749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624640" y="4597560"/>
                  <a:ext cx="1285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9" name=""/>
              <p:cNvSpPr/>
              <p:nvPr/>
            </p:nvSpPr>
            <p:spPr>
              <a:xfrm flipV="1">
                <a:off x="4439520" y="3909960"/>
                <a:ext cx="1030320" cy="63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321" y="3009"/>
                    </a:moveTo>
                    <a:arcTo wR="10800" hR="10800" stAng="-8029852" swAng="66886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321" y="3009"/>
                    </a:moveTo>
                    <a:arcTo wR="10800" hR="10800" stAng="-8029852" swAng="6688632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V="1">
                <a:off x="5447880" y="4277880"/>
                <a:ext cx="64080" cy="63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1" name=""/>
            <p:cNvSpPr/>
            <p:nvPr/>
          </p:nvSpPr>
          <p:spPr>
            <a:xfrm>
              <a:off x="4762440" y="45352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753160" y="47638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6372360" y="1117440"/>
            <a:ext cx="1371600" cy="502920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400800" y="3048120"/>
            <a:ext cx="1298520" cy="1298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6522480" y="3921480"/>
            <a:ext cx="1998720" cy="1221840"/>
            <a:chOff x="6522480" y="3921480"/>
            <a:chExt cx="1998720" cy="1221840"/>
          </a:xfrm>
        </p:grpSpPr>
        <p:grpSp>
          <p:nvGrpSpPr>
            <p:cNvPr id="686" name=""/>
            <p:cNvGrpSpPr/>
            <p:nvPr/>
          </p:nvGrpSpPr>
          <p:grpSpPr>
            <a:xfrm>
              <a:off x="6522480" y="3921480"/>
              <a:ext cx="1358280" cy="883800"/>
              <a:chOff x="6522480" y="3921480"/>
              <a:chExt cx="1358280" cy="883800"/>
            </a:xfrm>
          </p:grpSpPr>
          <p:grpSp>
            <p:nvGrpSpPr>
              <p:cNvPr id="687" name=""/>
              <p:cNvGrpSpPr/>
              <p:nvPr/>
            </p:nvGrpSpPr>
            <p:grpSpPr>
              <a:xfrm>
                <a:off x="6616800" y="4560840"/>
                <a:ext cx="1263960" cy="244440"/>
                <a:chOff x="6616800" y="4560840"/>
                <a:chExt cx="1263960" cy="24444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6616800" y="4560840"/>
                  <a:ext cx="1263960" cy="244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3619" y="18867"/>
                      </a:moveTo>
                      <a:arcTo wR="10800" hR="10800" stAng="7900308" swAng="1163074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3619" y="18867"/>
                      </a:moveTo>
                      <a:arcTo wR="10800" hR="10800" stAng="7900308" swAng="11630749"/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7707240" y="4608720"/>
                  <a:ext cx="1281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0" name=""/>
              <p:cNvSpPr/>
              <p:nvPr/>
            </p:nvSpPr>
            <p:spPr>
              <a:xfrm flipV="1">
                <a:off x="6522480" y="3921120"/>
                <a:ext cx="1030320" cy="639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321" y="3009"/>
                    </a:moveTo>
                    <a:arcTo wR="10800" hR="10800" stAng="-8029852" swAng="66886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321" y="3009"/>
                    </a:moveTo>
                    <a:arcTo wR="10800" hR="10800" stAng="-8029852" swAng="6688632"/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7530840" y="4289040"/>
                <a:ext cx="64080" cy="63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2" name=""/>
            <p:cNvSpPr/>
            <p:nvPr/>
          </p:nvSpPr>
          <p:spPr>
            <a:xfrm>
              <a:off x="6845040" y="45464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T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835760" y="4775040"/>
              <a:ext cx="68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D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7391520" y="3581280"/>
            <a:ext cx="320400" cy="3207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429680" y="361944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761760" y="2514600"/>
            <a:ext cx="609480" cy="457200"/>
          </a:xfrm>
          <a:prstGeom prst="line">
            <a:avLst/>
          </a:prstGeom>
          <a:ln w="9360">
            <a:solidFill>
              <a:srgbClr val="33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0" y="205884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ơ chấ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1752120" y="4025880"/>
            <a:ext cx="762120" cy="0"/>
          </a:xfrm>
          <a:prstGeom prst="line">
            <a:avLst/>
          </a:prstGeom>
          <a:ln w="9360">
            <a:solidFill>
              <a:srgbClr val="33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0" y="37720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ôtêin mà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1371600" y="5257800"/>
            <a:ext cx="1371600" cy="0"/>
          </a:xfrm>
          <a:prstGeom prst="line">
            <a:avLst/>
          </a:prstGeom>
          <a:ln w="9360">
            <a:solidFill>
              <a:srgbClr val="33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5029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à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85800" y="63244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Mô tả cơ chế vận chuyển chủ độ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4444E-006 L 0.075 0.08889 E">
                                      <p:cBhvr>
                                        <p:cTn id="614" dur="5000" fill="hold"/>
                                        <p:tgtEl>
                                          <p:spTgt spid="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800000">
                                      <p:cBhvr>
                                        <p:cTn id="618" dur="5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3333E-006 L 0.11666 3.33333E-006 E">
                                      <p:cBhvr>
                                        <p:cTn id="622" dur="10000" fill="hold"/>
                                        <p:tgtEl>
                                          <p:spTgt spid="6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IẾT 16:  VẬN CHUYỂN CÁC CHẤT QUA MÀNG SINH CHẤ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>
            <a:off x="0" y="1143000"/>
            <a:ext cx="1905120" cy="5715000"/>
          </a:xfrm>
          <a:prstGeom prst="rect">
            <a:avLst/>
          </a:prstGeom>
          <a:solidFill>
            <a:srgbClr val="e4c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0" y="114300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ỘI D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>
            <a:hlinkClick r:id="rId2" action="ppaction://hlinksldjump"/>
          </p:cNvPr>
          <p:cNvSpPr/>
          <p:nvPr/>
        </p:nvSpPr>
        <p:spPr>
          <a:xfrm>
            <a:off x="0" y="1752480"/>
            <a:ext cx="1905120" cy="6098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. VẬN CHUYỂ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Ụ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>
            <a:hlinkClick r:id="rId3" action="ppaction://hlinksldjump"/>
          </p:cNvPr>
          <p:cNvSpPr/>
          <p:nvPr/>
        </p:nvSpPr>
        <p:spPr>
          <a:xfrm>
            <a:off x="0" y="3200400"/>
            <a:ext cx="1905120" cy="8380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. VẬN CHUYỂ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Ủ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0" y="4876920"/>
            <a:ext cx="1905120" cy="838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I. XUẤT BÀ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>
            <a:hlinkClick r:id="rId4" action="ppaction://hlinksldjump"/>
          </p:cNvPr>
          <p:cNvSpPr/>
          <p:nvPr/>
        </p:nvSpPr>
        <p:spPr>
          <a:xfrm>
            <a:off x="0" y="2362320"/>
            <a:ext cx="1905120" cy="4572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THÍ NGHIỆ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>
            <a:hlinkClick r:id="rId5" action="ppaction://hlinksldjump"/>
          </p:cNvPr>
          <p:cNvSpPr/>
          <p:nvPr/>
        </p:nvSpPr>
        <p:spPr>
          <a:xfrm>
            <a:off x="0" y="2819520"/>
            <a:ext cx="1905120" cy="3808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>
            <a:hlinkClick r:id="rId6" action="ppaction://hlinksldjump"/>
          </p:cNvPr>
          <p:cNvSpPr/>
          <p:nvPr/>
        </p:nvSpPr>
        <p:spPr>
          <a:xfrm>
            <a:off x="0" y="4038480"/>
            <a:ext cx="1905120" cy="3812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HIỆN TƯỢ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0" y="4419720"/>
            <a:ext cx="1905120" cy="53316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0" y="6324480"/>
            <a:ext cx="1905120" cy="5335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XUẤT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0" y="571500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905120" y="11426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. VẬN CHUYỂN CHỦ ĐỘ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6" name=""/>
          <p:cNvSpPr/>
          <p:nvPr/>
        </p:nvSpPr>
        <p:spPr>
          <a:xfrm>
            <a:off x="1905120" y="1752480"/>
            <a:ext cx="4800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133720" y="2666880"/>
            <a:ext cx="6476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 2"/>
                <a:ea typeface="Wingdings 2"/>
              </a:rPr>
              <a:t>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ế bào cần tiêu tốn năng lượng để vận chuyển nó ngược chiều građien nồng độ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362320" y="2362320"/>
            <a:ext cx="5333760" cy="2133360"/>
          </a:xfrm>
          <a:prstGeom prst="cloudCallout">
            <a:avLst>
              <a:gd name="adj1" fmla="val -38037"/>
              <a:gd name="adj2" fmla="val 104314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ận chuyển chủ động khác với thụ động như thế nà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886040" y="2133720"/>
            <a:ext cx="6629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ận chuyển chủ động là phương thức vận chuyển các chất qua mà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ừ nơi nồng độ chất tan thấp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nồng độ chất tan cao (ngược chiều građien nồng độ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ần tiêu tốn năng lượ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3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8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2" dur="500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9" dur="20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3" dur="5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0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664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IẾT 16:  VẬN CHUYỂN CÁC CHẤT QUA MÀNG SINH CHẤ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0" y="1143000"/>
            <a:ext cx="1905120" cy="5715000"/>
          </a:xfrm>
          <a:prstGeom prst="rect">
            <a:avLst/>
          </a:prstGeom>
          <a:solidFill>
            <a:srgbClr val="e4c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0" y="114300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ỘI D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>
            <a:hlinkClick r:id="rId2" action="ppaction://hlinksldjump"/>
          </p:cNvPr>
          <p:cNvSpPr/>
          <p:nvPr/>
        </p:nvSpPr>
        <p:spPr>
          <a:xfrm>
            <a:off x="0" y="1752480"/>
            <a:ext cx="1905120" cy="6098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. VẬN CHUYỂ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Ụ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>
            <a:hlinkClick r:id="rId3" action="ppaction://hlinksldjump"/>
          </p:cNvPr>
          <p:cNvSpPr/>
          <p:nvPr/>
        </p:nvSpPr>
        <p:spPr>
          <a:xfrm>
            <a:off x="0" y="3200400"/>
            <a:ext cx="1905120" cy="8380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. VẬN CHUYỂ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Ủ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0" y="4876920"/>
            <a:ext cx="1905120" cy="838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I. XUẤT BÀ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>
            <a:hlinkClick r:id="rId4" action="ppaction://hlinksldjump"/>
          </p:cNvPr>
          <p:cNvSpPr/>
          <p:nvPr/>
        </p:nvSpPr>
        <p:spPr>
          <a:xfrm>
            <a:off x="0" y="2362320"/>
            <a:ext cx="1905120" cy="4572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THÍ NGHIỆ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>
            <a:hlinkClick r:id="rId5" action="ppaction://hlinksldjump"/>
          </p:cNvPr>
          <p:cNvSpPr/>
          <p:nvPr/>
        </p:nvSpPr>
        <p:spPr>
          <a:xfrm>
            <a:off x="0" y="2819520"/>
            <a:ext cx="1905120" cy="3808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>
            <a:hlinkClick r:id="rId6" action="ppaction://hlinksldjump"/>
          </p:cNvPr>
          <p:cNvSpPr/>
          <p:nvPr/>
        </p:nvSpPr>
        <p:spPr>
          <a:xfrm>
            <a:off x="0" y="4038480"/>
            <a:ext cx="1905120" cy="3812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HIỆN TƯỢ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0" y="4419720"/>
            <a:ext cx="1905120" cy="53316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0" y="6324480"/>
            <a:ext cx="1905120" cy="5335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XUẤT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0" y="571500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057400" y="1752480"/>
            <a:ext cx="7238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ột số con đường vận chuyển chủ độ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33" name=""/>
          <p:cNvGraphicFramePr/>
          <p:nvPr/>
        </p:nvGraphicFramePr>
        <p:xfrm>
          <a:off x="3200400" y="3200400"/>
          <a:ext cx="3733920" cy="1523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0400" y="3200400"/>
                    <a:ext cx="373392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736" name="FOfficeDoc1"/>
          <p:cNvGraphicFramePr/>
          <p:nvPr/>
        </p:nvGraphicFramePr>
        <p:xfrm>
          <a:off x="533520" y="1066680"/>
          <a:ext cx="7966080" cy="495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37" name="FOfficeDoc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066680"/>
                    <a:ext cx="796608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238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Time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NI-Times"/>
              </a:rPr>
              <a:t>	</a:t>
            </a:r>
            <a:br>
              <a:rPr sz="2000"/>
            </a:br>
            <a:r>
              <a:rPr b="0" lang="en-US" sz="4000" spc="-1" strike="noStrike" u="sng">
                <a:solidFill>
                  <a:srgbClr val="0000cc"/>
                </a:solidFill>
                <a:uFillTx/>
                <a:latin typeface="VNI-Times"/>
              </a:rPr>
              <a:t>BAØI 18</a:t>
            </a:r>
            <a:r>
              <a:rPr b="0" lang="en-US" sz="4000" spc="-1" strike="noStrike">
                <a:solidFill>
                  <a:srgbClr val="ffffff"/>
                </a:solidFill>
                <a:latin typeface="VNI-Times"/>
              </a:rPr>
              <a:t>: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VNI-Times"/>
              </a:rPr>
              <a:t>         VẬN CHUYỂN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ÁC</a:t>
            </a:r>
            <a:r>
              <a:rPr b="0" lang="en-US" sz="4000" spc="-1" strike="noStrike">
                <a:solidFill>
                  <a:srgbClr val="ffffff"/>
                </a:solidFill>
                <a:latin typeface="VNI-Times"/>
              </a:rPr>
              <a:t> CHẤT    QUA 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ÀNG</a:t>
            </a:r>
            <a:r>
              <a:rPr b="0" lang="en-US" sz="4000" spc="-1" strike="noStrike">
                <a:solidFill>
                  <a:srgbClr val="ffffff"/>
                </a:solidFill>
                <a:latin typeface="VNI-Times"/>
              </a:rPr>
              <a:t> SINH CHẤ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VNI-Time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VNI-Time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VNI-Time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VNI-Time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VNI-Time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VNI-Times"/>
              </a:rPr>
              <a:t>( Tieát 16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47560" y="4800600"/>
            <a:ext cx="7391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/v : </a:t>
            </a:r>
            <a:r>
              <a:rPr b="1" i="1" lang="en-US" sz="2800" spc="-1" strike="noStrike">
                <a:solidFill>
                  <a:srgbClr val="ffffff"/>
                </a:solidFill>
                <a:latin typeface="VNI-Times"/>
              </a:rPr>
              <a:t>Đỗ Thò Thu Hieà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/>
          </p:nvPr>
        </p:nvSpPr>
        <p:spPr>
          <a:xfrm>
            <a:off x="1905120" y="11426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. VẬN CHUYỂN CHỦ ĐỘ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IẾT 16:  VẬN CHUYỂN CÁC CHẤT QUA MÀNG SINH CHẤ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>
            <a:off x="0" y="1143000"/>
            <a:ext cx="1905120" cy="5715000"/>
          </a:xfrm>
          <a:prstGeom prst="rect">
            <a:avLst/>
          </a:prstGeom>
          <a:solidFill>
            <a:srgbClr val="e4c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0" y="114300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ỘI D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>
            <a:hlinkClick r:id="rId2" action="ppaction://hlinksldjump"/>
          </p:cNvPr>
          <p:cNvSpPr/>
          <p:nvPr/>
        </p:nvSpPr>
        <p:spPr>
          <a:xfrm>
            <a:off x="0" y="1752480"/>
            <a:ext cx="1905120" cy="6098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. VẬN CHUYỂ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Ụ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>
            <a:hlinkClick r:id="rId3" action="ppaction://hlinksldjump"/>
          </p:cNvPr>
          <p:cNvSpPr/>
          <p:nvPr/>
        </p:nvSpPr>
        <p:spPr>
          <a:xfrm>
            <a:off x="0" y="3200400"/>
            <a:ext cx="1905120" cy="8380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. VẬN CHUYỂ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Ủ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0" y="4876920"/>
            <a:ext cx="1905120" cy="838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I. XUẤT BÀ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>
            <a:hlinkClick r:id="rId4" action="ppaction://hlinksldjump"/>
          </p:cNvPr>
          <p:cNvSpPr/>
          <p:nvPr/>
        </p:nvSpPr>
        <p:spPr>
          <a:xfrm>
            <a:off x="0" y="2362320"/>
            <a:ext cx="1905120" cy="4572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THÍ NGHIỆ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>
            <a:hlinkClick r:id="rId5" action="ppaction://hlinksldjump"/>
          </p:cNvPr>
          <p:cNvSpPr/>
          <p:nvPr/>
        </p:nvSpPr>
        <p:spPr>
          <a:xfrm>
            <a:off x="0" y="2819520"/>
            <a:ext cx="1905120" cy="3808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>
            <a:hlinkClick r:id="rId6" action="ppaction://hlinksldjump"/>
          </p:cNvPr>
          <p:cNvSpPr/>
          <p:nvPr/>
        </p:nvSpPr>
        <p:spPr>
          <a:xfrm>
            <a:off x="0" y="4038480"/>
            <a:ext cx="1905120" cy="3812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HIỆN TƯỢ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>
            <a:hlinkClick r:id="rId7" action="ppaction://hlinksldjump"/>
          </p:cNvPr>
          <p:cNvSpPr/>
          <p:nvPr/>
        </p:nvSpPr>
        <p:spPr>
          <a:xfrm>
            <a:off x="0" y="4419720"/>
            <a:ext cx="1905120" cy="53316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6324480"/>
            <a:ext cx="1905120" cy="5335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XUẤT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0" y="571500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905120" y="1676520"/>
            <a:ext cx="3886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981080" y="2286000"/>
            <a:ext cx="68580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ận chuyển chủ động được thực hiện qua các kênh prôtêin xuyên mà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ỗi kênh prôtêin chỉ đặc hiệu vận chuyển một chất nhất địn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ó sự tham gia cung cấp năng lượng của AT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895480" y="2438280"/>
            <a:ext cx="4953240" cy="25909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ận chuyển chủ động thực hiện được nhờ vào đâu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7" dur="500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IẾT 17:  VẬN CHUYỂN CÁC CHẤT QUA MÀNG SINH CHẤ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0" y="1143000"/>
            <a:ext cx="1905120" cy="5715000"/>
          </a:xfrm>
          <a:prstGeom prst="rect">
            <a:avLst/>
          </a:prstGeom>
          <a:solidFill>
            <a:srgbClr val="e4c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0" y="114300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ỘI D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0" y="1752480"/>
            <a:ext cx="1905120" cy="6098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. VẬN CHUYỂ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Ụ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0" y="3200400"/>
            <a:ext cx="1905120" cy="8380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. VẬN CHUYỂ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Ủ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0" y="4876920"/>
            <a:ext cx="1905120" cy="838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I. XUẤT BÀ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2362320"/>
            <a:ext cx="1905120" cy="4572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THÍ NGHIỆ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0" y="2819520"/>
            <a:ext cx="1905120" cy="3808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0" y="4038480"/>
            <a:ext cx="1905120" cy="3812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HIỆN TƯỢ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0" y="4419720"/>
            <a:ext cx="1905120" cy="53316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0" y="6324480"/>
            <a:ext cx="1905120" cy="5335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XUẤT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0" y="571500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66" name=""/>
          <p:cNvGraphicFramePr/>
          <p:nvPr/>
        </p:nvGraphicFramePr>
        <p:xfrm>
          <a:off x="3200400" y="2590920"/>
          <a:ext cx="3276720" cy="161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0400" y="2590920"/>
                    <a:ext cx="3276720" cy="16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8" name="FOfficeDoc1"/>
          <p:cNvGraphicFramePr/>
          <p:nvPr/>
        </p:nvGraphicFramePr>
        <p:xfrm>
          <a:off x="533520" y="457200"/>
          <a:ext cx="8001000" cy="548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9" name="FOfficeDoc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457200"/>
                    <a:ext cx="80010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IẾT 16:  VẬN CHUYỂN CÁC CHẤT QUA MÀNG SINH CHẤ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0" y="1143000"/>
            <a:ext cx="1905120" cy="5715000"/>
          </a:xfrm>
          <a:prstGeom prst="rect">
            <a:avLst/>
          </a:prstGeom>
          <a:solidFill>
            <a:srgbClr val="e4c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114300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ỘI D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>
            <a:hlinkClick r:id="rId2" action="ppaction://hlinksldjump"/>
          </p:cNvPr>
          <p:cNvSpPr/>
          <p:nvPr/>
        </p:nvSpPr>
        <p:spPr>
          <a:xfrm>
            <a:off x="0" y="1752480"/>
            <a:ext cx="1905120" cy="6098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. VẬN CHUYỂ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Ụ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>
            <a:hlinkClick r:id="rId3" action="ppaction://hlinksldjump"/>
          </p:cNvPr>
          <p:cNvSpPr/>
          <p:nvPr/>
        </p:nvSpPr>
        <p:spPr>
          <a:xfrm>
            <a:off x="0" y="3200400"/>
            <a:ext cx="1905120" cy="8380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. VẬN CHUYỂ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Ủ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0" y="4876920"/>
            <a:ext cx="1905120" cy="8380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I. XUẤT BÀ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>
            <a:hlinkClick r:id="rId4" action="ppaction://hlinksldjump"/>
          </p:cNvPr>
          <p:cNvSpPr/>
          <p:nvPr/>
        </p:nvSpPr>
        <p:spPr>
          <a:xfrm>
            <a:off x="0" y="2362320"/>
            <a:ext cx="1905120" cy="4572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THÍ NGHIỆ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">
            <a:hlinkClick r:id="rId5" action="ppaction://hlinksldjump"/>
          </p:cNvPr>
          <p:cNvSpPr/>
          <p:nvPr/>
        </p:nvSpPr>
        <p:spPr>
          <a:xfrm>
            <a:off x="0" y="2819520"/>
            <a:ext cx="1905120" cy="3808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">
            <a:hlinkClick r:id="rId6" action="ppaction://hlinksldjump"/>
          </p:cNvPr>
          <p:cNvSpPr/>
          <p:nvPr/>
        </p:nvSpPr>
        <p:spPr>
          <a:xfrm>
            <a:off x="0" y="4038480"/>
            <a:ext cx="1905120" cy="3812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HIỆN TƯỢ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">
            <a:hlinkClick r:id="rId7" action="ppaction://hlinksldjump"/>
          </p:cNvPr>
          <p:cNvSpPr/>
          <p:nvPr/>
        </p:nvSpPr>
        <p:spPr>
          <a:xfrm>
            <a:off x="0" y="4419720"/>
            <a:ext cx="1905120" cy="53316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0" y="6324480"/>
            <a:ext cx="1905120" cy="5335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XUẤT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0" y="5715000"/>
            <a:ext cx="1905120" cy="6094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"/>
          <p:cNvSpPr txBox="1"/>
          <p:nvPr/>
        </p:nvSpPr>
        <p:spPr>
          <a:xfrm>
            <a:off x="2305080" y="2762280"/>
            <a:ext cx="6438960" cy="24004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ó những vật chất kích thước lớn, không phù hợp với vận chuyển thụ động và chủ động thì sẽ được vận chuyển qua màng bằng cách nào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2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2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1" dur="500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6" dur="10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10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IẾT 16:  VẬN CHUYỂN CÁC CHẤT QUA MÀNG SINH CHẤ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0" y="1143000"/>
            <a:ext cx="1905120" cy="5715000"/>
          </a:xfrm>
          <a:prstGeom prst="rect">
            <a:avLst/>
          </a:prstGeom>
          <a:solidFill>
            <a:srgbClr val="e4c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0" y="114300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ỘI D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>
            <a:hlinkClick r:id="rId2" action="ppaction://hlinksldjump"/>
          </p:cNvPr>
          <p:cNvSpPr/>
          <p:nvPr/>
        </p:nvSpPr>
        <p:spPr>
          <a:xfrm>
            <a:off x="0" y="1752480"/>
            <a:ext cx="1905120" cy="6098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. VẬN CHUYỂ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Ụ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>
            <a:hlinkClick r:id="rId3" action="ppaction://hlinksldjump"/>
          </p:cNvPr>
          <p:cNvSpPr/>
          <p:nvPr/>
        </p:nvSpPr>
        <p:spPr>
          <a:xfrm>
            <a:off x="0" y="3200400"/>
            <a:ext cx="1905120" cy="8380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. VẬN CHUYỂ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Ủ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0" y="4876920"/>
            <a:ext cx="1905120" cy="8380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I. XUẤT BÀ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>
            <a:hlinkClick r:id="rId4" action="ppaction://hlinksldjump"/>
          </p:cNvPr>
          <p:cNvSpPr/>
          <p:nvPr/>
        </p:nvSpPr>
        <p:spPr>
          <a:xfrm>
            <a:off x="0" y="2362320"/>
            <a:ext cx="1905120" cy="4572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THÍ NGHIỆ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>
            <a:hlinkClick r:id="rId5" action="ppaction://hlinksldjump"/>
          </p:cNvPr>
          <p:cNvSpPr/>
          <p:nvPr/>
        </p:nvSpPr>
        <p:spPr>
          <a:xfrm>
            <a:off x="0" y="2819520"/>
            <a:ext cx="1905120" cy="3808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>
            <a:hlinkClick r:id="rId6" action="ppaction://hlinksldjump"/>
          </p:cNvPr>
          <p:cNvSpPr/>
          <p:nvPr/>
        </p:nvSpPr>
        <p:spPr>
          <a:xfrm>
            <a:off x="0" y="4038480"/>
            <a:ext cx="1905120" cy="3812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HIỆN TƯỢ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>
            <a:hlinkClick r:id="rId7" action="ppaction://hlinksldjump"/>
          </p:cNvPr>
          <p:cNvSpPr/>
          <p:nvPr/>
        </p:nvSpPr>
        <p:spPr>
          <a:xfrm>
            <a:off x="0" y="4419720"/>
            <a:ext cx="1905120" cy="53316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0" y="6324480"/>
            <a:ext cx="1905120" cy="5335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XUẤT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5715000"/>
            <a:ext cx="1905120" cy="6094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905120" y="1143000"/>
            <a:ext cx="4876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II. XUẤT BÀO, NHẬP BÀ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905120" y="167652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/ NHẬP BÀ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2362320" y="1856160"/>
            <a:ext cx="6545160" cy="3553920"/>
            <a:chOff x="2362320" y="1856160"/>
            <a:chExt cx="6545160" cy="3553920"/>
          </a:xfrm>
        </p:grpSpPr>
        <p:pic>
          <p:nvPicPr>
            <p:cNvPr id="798" name="" descr=""/>
            <p:cNvPicPr/>
            <p:nvPr/>
          </p:nvPicPr>
          <p:blipFill>
            <a:blip r:embed="rId8"/>
            <a:srcRect l="0" t="0" r="0" b="11819"/>
            <a:stretch/>
          </p:blipFill>
          <p:spPr>
            <a:xfrm>
              <a:off x="2362320" y="2209680"/>
              <a:ext cx="617688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9" name=""/>
            <p:cNvSpPr/>
            <p:nvPr/>
          </p:nvSpPr>
          <p:spPr>
            <a:xfrm>
              <a:off x="2523600" y="2345760"/>
              <a:ext cx="1255680" cy="395640"/>
            </a:xfrm>
            <a:prstGeom prst="rect">
              <a:avLst/>
            </a:prstGeom>
            <a:solidFill>
              <a:srgbClr val="c7ea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342680" y="4420080"/>
              <a:ext cx="1389240" cy="395640"/>
            </a:xfrm>
            <a:prstGeom prst="rect">
              <a:avLst/>
            </a:prstGeom>
            <a:solidFill>
              <a:srgbClr val="ffe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VNI-Times"/>
                </a:rPr>
                <a:t>Gioït thöùc aê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002000" y="4923360"/>
              <a:ext cx="1329480" cy="395640"/>
            </a:xfrm>
            <a:prstGeom prst="rect">
              <a:avLst/>
            </a:prstGeom>
            <a:solidFill>
              <a:srgbClr val="ffe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VNI-Times"/>
                </a:rPr>
                <a:t>Teá baøo chaá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268880" y="4947840"/>
              <a:ext cx="1625040" cy="395640"/>
            </a:xfrm>
            <a:prstGeom prst="rect">
              <a:avLst/>
            </a:prstGeom>
            <a:solidFill>
              <a:srgbClr val="ffe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VNI-Times"/>
                </a:rPr>
                <a:t>Boùng nhaäp baø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811680" y="3496320"/>
              <a:ext cx="443160" cy="391320"/>
            </a:xfrm>
            <a:prstGeom prst="ellipse">
              <a:avLst/>
            </a:prstGeom>
            <a:solidFill>
              <a:srgbClr val="f7d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907600" y="3430440"/>
              <a:ext cx="443160" cy="391680"/>
            </a:xfrm>
            <a:prstGeom prst="ellipse">
              <a:avLst/>
            </a:prstGeom>
            <a:solidFill>
              <a:srgbClr val="f7d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 rot="1643400">
              <a:off x="3575880" y="3543840"/>
              <a:ext cx="1327320" cy="158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022" y="19924"/>
                  </a:moveTo>
                  <a:arcTo wR="10800" hR="10800" stAng="7340793" swAng="2158736"/>
                  <a:lnTo>
                    <a:pt x="10800" y="10800"/>
                  </a:lnTo>
                  <a:close/>
                </a:path>
                <a:path fill="none" w="21600" h="21600">
                  <a:moveTo>
                    <a:pt x="5022" y="19924"/>
                  </a:moveTo>
                  <a:arcTo wR="10800" hR="10800" stAng="7340793" swAng="2158736"/>
                </a:path>
              </a:pathLst>
            </a:custGeom>
            <a:noFill/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 rot="3108600">
              <a:off x="5374440" y="3313440"/>
              <a:ext cx="1185480" cy="177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022" y="19924"/>
                  </a:moveTo>
                  <a:arcTo wR="10800" hR="10800" stAng="7340793" swAng="2158736"/>
                  <a:lnTo>
                    <a:pt x="10800" y="10800"/>
                  </a:lnTo>
                  <a:close/>
                </a:path>
                <a:path fill="none" w="21600" h="21600">
                  <a:moveTo>
                    <a:pt x="5022" y="19924"/>
                  </a:moveTo>
                  <a:arcTo wR="10800" hR="10800" stAng="7340793" swAng="2158736"/>
                </a:path>
              </a:pathLst>
            </a:custGeom>
            <a:noFill/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061760" y="2386800"/>
              <a:ext cx="147600" cy="527760"/>
            </a:xfrm>
            <a:custGeom>
              <a:avLst/>
              <a:gdLst/>
              <a:ahLst/>
              <a:rect l="l" t="t" r="r" b="b"/>
              <a:pathLst>
                <a:path w="96" h="384">
                  <a:moveTo>
                    <a:pt x="0" y="0"/>
                  </a:moveTo>
                  <a:lnTo>
                    <a:pt x="48" y="384"/>
                  </a:lnTo>
                  <a:lnTo>
                    <a:pt x="96" y="336"/>
                  </a:lnTo>
                  <a:lnTo>
                    <a:pt x="96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de9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230960" y="2751480"/>
              <a:ext cx="407520" cy="314280"/>
            </a:xfrm>
            <a:custGeom>
              <a:avLst/>
              <a:gdLst/>
              <a:ahLst/>
              <a:rect l="l" t="t" r="r" b="b"/>
              <a:pathLst>
                <a:path w="265" h="229">
                  <a:moveTo>
                    <a:pt x="146" y="0"/>
                  </a:moveTo>
                  <a:lnTo>
                    <a:pt x="0" y="183"/>
                  </a:lnTo>
                  <a:lnTo>
                    <a:pt x="73" y="229"/>
                  </a:lnTo>
                  <a:lnTo>
                    <a:pt x="173" y="174"/>
                  </a:lnTo>
                  <a:lnTo>
                    <a:pt x="265" y="37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cde9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724800" y="2638440"/>
              <a:ext cx="393840" cy="452160"/>
            </a:xfrm>
            <a:custGeom>
              <a:avLst/>
              <a:gdLst/>
              <a:ahLst/>
              <a:rect l="l" t="t" r="r" b="b"/>
              <a:pathLst>
                <a:path w="256" h="329">
                  <a:moveTo>
                    <a:pt x="29" y="0"/>
                  </a:moveTo>
                  <a:lnTo>
                    <a:pt x="0" y="101"/>
                  </a:lnTo>
                  <a:lnTo>
                    <a:pt x="54" y="119"/>
                  </a:lnTo>
                  <a:lnTo>
                    <a:pt x="173" y="274"/>
                  </a:lnTo>
                  <a:lnTo>
                    <a:pt x="256" y="329"/>
                  </a:lnTo>
                  <a:lnTo>
                    <a:pt x="91" y="8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de9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 rot="17410200">
              <a:off x="7067880" y="1831320"/>
              <a:ext cx="1185480" cy="177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022" y="19924"/>
                  </a:moveTo>
                  <a:arcTo wR="10800" hR="10800" stAng="7340793" swAng="2158736"/>
                  <a:lnTo>
                    <a:pt x="10800" y="10800"/>
                  </a:lnTo>
                  <a:close/>
                </a:path>
                <a:path fill="none" w="21600" h="21600">
                  <a:moveTo>
                    <a:pt x="5022" y="19924"/>
                  </a:moveTo>
                  <a:arcTo wR="10800" hR="10800" stAng="7340793" swAng="2158736"/>
                </a:path>
              </a:pathLst>
            </a:custGeom>
            <a:noFill/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 rot="19723800">
              <a:off x="7265520" y="2108160"/>
              <a:ext cx="1326600" cy="15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022" y="19924"/>
                  </a:moveTo>
                  <a:arcTo wR="10800" hR="10800" stAng="7340793" swAng="2158736"/>
                  <a:lnTo>
                    <a:pt x="10800" y="10800"/>
                  </a:lnTo>
                  <a:close/>
                </a:path>
                <a:path fill="none" w="21600" h="21600">
                  <a:moveTo>
                    <a:pt x="5022" y="19924"/>
                  </a:moveTo>
                  <a:arcTo wR="10800" hR="10800" stAng="7340793" swAng="2158736"/>
                </a:path>
              </a:pathLst>
            </a:custGeom>
            <a:noFill/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 rot="378600">
              <a:off x="7270920" y="2669040"/>
              <a:ext cx="1327320" cy="15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022" y="19924"/>
                  </a:moveTo>
                  <a:arcTo wR="10800" hR="10800" stAng="7340793" swAng="2158736"/>
                  <a:lnTo>
                    <a:pt x="10800" y="10800"/>
                  </a:lnTo>
                  <a:close/>
                </a:path>
                <a:path fill="none" w="21600" h="21600">
                  <a:moveTo>
                    <a:pt x="5022" y="19924"/>
                  </a:moveTo>
                  <a:arcTo wR="10800" hR="10800" stAng="7340793" swAng="2158736"/>
                </a:path>
              </a:pathLst>
            </a:custGeom>
            <a:noFill/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3" name=""/>
          <p:cNvSpPr/>
          <p:nvPr/>
        </p:nvSpPr>
        <p:spPr>
          <a:xfrm>
            <a:off x="2286000" y="54100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Vậy nhập bào là gì? Có mấy hình thức nhập bà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752480" y="5715000"/>
            <a:ext cx="685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133720" y="548640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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hập bào là phương thức tế bào đưa các chất vào bên trong bằng cách biến dạng màng sinh chấ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5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5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9" dur="500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6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IẾT 16:  VẬN CHUYỂN CÁC CHẤT QUA MÀNG SINH CHẤ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7" name=""/>
          <p:cNvSpPr/>
          <p:nvPr/>
        </p:nvSpPr>
        <p:spPr>
          <a:xfrm>
            <a:off x="0" y="1143000"/>
            <a:ext cx="1905120" cy="5715000"/>
          </a:xfrm>
          <a:prstGeom prst="rect">
            <a:avLst/>
          </a:prstGeom>
          <a:solidFill>
            <a:srgbClr val="e4c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114300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ỘI D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>
            <a:hlinkClick r:id="rId2" action="ppaction://hlinksldjump"/>
          </p:cNvPr>
          <p:cNvSpPr/>
          <p:nvPr/>
        </p:nvSpPr>
        <p:spPr>
          <a:xfrm>
            <a:off x="0" y="1752480"/>
            <a:ext cx="1905120" cy="6098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. VẬN CHUYỂ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Ụ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>
            <a:hlinkClick r:id="rId3" action="ppaction://hlinksldjump"/>
          </p:cNvPr>
          <p:cNvSpPr/>
          <p:nvPr/>
        </p:nvSpPr>
        <p:spPr>
          <a:xfrm>
            <a:off x="0" y="3200400"/>
            <a:ext cx="1905120" cy="8380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. VẬN CHUYỂ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Ủ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0" y="4876920"/>
            <a:ext cx="1905120" cy="8380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I. XUẤT BÀ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>
            <a:hlinkClick r:id="rId4" action="ppaction://hlinksldjump"/>
          </p:cNvPr>
          <p:cNvSpPr/>
          <p:nvPr/>
        </p:nvSpPr>
        <p:spPr>
          <a:xfrm>
            <a:off x="0" y="2362320"/>
            <a:ext cx="1905120" cy="4572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THÍ NGHIỆ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>
            <a:hlinkClick r:id="rId5" action="ppaction://hlinksldjump"/>
          </p:cNvPr>
          <p:cNvSpPr/>
          <p:nvPr/>
        </p:nvSpPr>
        <p:spPr>
          <a:xfrm>
            <a:off x="0" y="2819520"/>
            <a:ext cx="1905120" cy="3808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>
            <a:hlinkClick r:id="rId6" action="ppaction://hlinksldjump"/>
          </p:cNvPr>
          <p:cNvSpPr/>
          <p:nvPr/>
        </p:nvSpPr>
        <p:spPr>
          <a:xfrm>
            <a:off x="0" y="4038480"/>
            <a:ext cx="1905120" cy="3812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HIỆN TƯỢ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>
            <a:hlinkClick r:id="rId7" action="ppaction://hlinksldjump"/>
          </p:cNvPr>
          <p:cNvSpPr/>
          <p:nvPr/>
        </p:nvSpPr>
        <p:spPr>
          <a:xfrm>
            <a:off x="0" y="4419720"/>
            <a:ext cx="1905120" cy="53316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0" y="6324480"/>
            <a:ext cx="1905120" cy="5335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XUẤT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0" y="5715000"/>
            <a:ext cx="1905120" cy="6094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1905120" y="1143000"/>
            <a:ext cx="4876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II. XUẤT BÀO, NHẬP BÀ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905120" y="167652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1/ NHẬP BÀ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8"/>
          <a:stretch/>
        </p:blipFill>
        <p:spPr>
          <a:xfrm>
            <a:off x="4753080" y="1766880"/>
            <a:ext cx="4114800" cy="2201760"/>
          </a:xfrm>
          <a:prstGeom prst="rect">
            <a:avLst/>
          </a:prstGeom>
          <a:ln w="0">
            <a:noFill/>
          </a:ln>
        </p:spPr>
      </p:pic>
      <p:pic>
        <p:nvPicPr>
          <p:cNvPr id="831" name="" descr=""/>
          <p:cNvPicPr/>
          <p:nvPr/>
        </p:nvPicPr>
        <p:blipFill>
          <a:blip r:embed="rId9"/>
          <a:stretch/>
        </p:blipFill>
        <p:spPr>
          <a:xfrm>
            <a:off x="4800600" y="4114800"/>
            <a:ext cx="4043520" cy="244008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2057400" y="226692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+Thực bào: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ất vận chuyển ở dạng rắ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057400" y="431496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+Ẩm bào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ất vận chuyển ở dạng lỏ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8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3" dur="80"/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4" dur="80"/>
                                        <p:tgtEl>
                                          <p:spTgt spid="8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5" dur="80"/>
                                        <p:tgtEl>
                                          <p:spTgt spid="8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0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IẾT 16:  VẬN CHUYỂN CÁC CHẤT QUA MÀNG SINH CHẤ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5" name=""/>
          <p:cNvSpPr/>
          <p:nvPr/>
        </p:nvSpPr>
        <p:spPr>
          <a:xfrm>
            <a:off x="0" y="1143000"/>
            <a:ext cx="1905120" cy="5715000"/>
          </a:xfrm>
          <a:prstGeom prst="rect">
            <a:avLst/>
          </a:prstGeom>
          <a:solidFill>
            <a:srgbClr val="e4c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0" y="114300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ỘI D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>
            <a:hlinkClick r:id="rId2" action="ppaction://hlinksldjump"/>
          </p:cNvPr>
          <p:cNvSpPr/>
          <p:nvPr/>
        </p:nvSpPr>
        <p:spPr>
          <a:xfrm>
            <a:off x="0" y="1752480"/>
            <a:ext cx="1905120" cy="6098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. VẬN CHUYỂ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Ụ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>
            <a:hlinkClick r:id="rId3" action="ppaction://hlinksldjump"/>
          </p:cNvPr>
          <p:cNvSpPr/>
          <p:nvPr/>
        </p:nvSpPr>
        <p:spPr>
          <a:xfrm>
            <a:off x="0" y="3200400"/>
            <a:ext cx="1905120" cy="8380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. VẬN CHUYỂ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Ủ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0" y="4876920"/>
            <a:ext cx="1905120" cy="8380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I. XUẤT BÀ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>
            <a:hlinkClick r:id="rId4" action="ppaction://hlinksldjump"/>
          </p:cNvPr>
          <p:cNvSpPr/>
          <p:nvPr/>
        </p:nvSpPr>
        <p:spPr>
          <a:xfrm>
            <a:off x="0" y="2362320"/>
            <a:ext cx="1905120" cy="4572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THÍ NGHIỆ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">
            <a:hlinkClick r:id="rId5" action="ppaction://hlinksldjump"/>
          </p:cNvPr>
          <p:cNvSpPr/>
          <p:nvPr/>
        </p:nvSpPr>
        <p:spPr>
          <a:xfrm>
            <a:off x="0" y="2819520"/>
            <a:ext cx="1905120" cy="3808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>
            <a:hlinkClick r:id="rId6" action="ppaction://hlinksldjump"/>
          </p:cNvPr>
          <p:cNvSpPr/>
          <p:nvPr/>
        </p:nvSpPr>
        <p:spPr>
          <a:xfrm>
            <a:off x="0" y="4038480"/>
            <a:ext cx="1905120" cy="3812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HIỆN TƯỢ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>
            <a:hlinkClick r:id="rId7" action="ppaction://hlinksldjump"/>
          </p:cNvPr>
          <p:cNvSpPr/>
          <p:nvPr/>
        </p:nvSpPr>
        <p:spPr>
          <a:xfrm>
            <a:off x="0" y="4419720"/>
            <a:ext cx="1905120" cy="53316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6324480"/>
            <a:ext cx="1905120" cy="5335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XUẤT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0" y="5715000"/>
            <a:ext cx="1905120" cy="6094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905120" y="1143000"/>
            <a:ext cx="4876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II. XUẤT BÀO, NHẬP BÀ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1905120" y="167652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/ XUẤT BÀ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2486160" y="2124000"/>
            <a:ext cx="5286240" cy="2981520"/>
            <a:chOff x="2486160" y="2124000"/>
            <a:chExt cx="5286240" cy="2981520"/>
          </a:xfrm>
        </p:grpSpPr>
        <p:pic>
          <p:nvPicPr>
            <p:cNvPr id="849" name="" descr=""/>
            <p:cNvPicPr/>
            <p:nvPr/>
          </p:nvPicPr>
          <p:blipFill>
            <a:blip r:embed="rId8"/>
            <a:srcRect l="0" t="0" r="0" b="11819"/>
            <a:stretch/>
          </p:blipFill>
          <p:spPr>
            <a:xfrm>
              <a:off x="2486160" y="2124000"/>
              <a:ext cx="5286240" cy="298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0" name=""/>
            <p:cNvSpPr/>
            <p:nvPr/>
          </p:nvSpPr>
          <p:spPr>
            <a:xfrm>
              <a:off x="2624400" y="2250720"/>
              <a:ext cx="1074240" cy="368640"/>
            </a:xfrm>
            <a:prstGeom prst="rect">
              <a:avLst/>
            </a:prstGeom>
            <a:solidFill>
              <a:srgbClr val="c7ea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181040" y="4183200"/>
              <a:ext cx="884880" cy="368640"/>
            </a:xfrm>
            <a:prstGeom prst="rect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VNI-Times"/>
                </a:rPr>
                <a:t>Chaát tieá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456600" y="4651920"/>
              <a:ext cx="1137600" cy="368640"/>
            </a:xfrm>
            <a:prstGeom prst="rect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VNI-Times"/>
                </a:rPr>
                <a:t>Teá baøo chaá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117680" y="4674960"/>
              <a:ext cx="1390680" cy="368640"/>
            </a:xfrm>
            <a:prstGeom prst="rect">
              <a:avLst/>
            </a:pr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VNI-Times"/>
                </a:rPr>
                <a:t>Boùng xuaát baø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4" name=""/>
          <p:cNvSpPr/>
          <p:nvPr/>
        </p:nvSpPr>
        <p:spPr>
          <a:xfrm>
            <a:off x="2819520" y="5257800"/>
            <a:ext cx="4800600" cy="1143000"/>
          </a:xfrm>
          <a:prstGeom prst="cloudCallout">
            <a:avLst>
              <a:gd name="adj1" fmla="val -37402"/>
              <a:gd name="adj2" fmla="val 111388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ậy xuất bào là gì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7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7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17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IẾT 16:  VẬN CHUYỂN CÁC CHẤT QUA MÀNG SINH CHẤ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1143000"/>
            <a:ext cx="1905120" cy="5715000"/>
          </a:xfrm>
          <a:prstGeom prst="rect">
            <a:avLst/>
          </a:prstGeom>
          <a:solidFill>
            <a:srgbClr val="e4c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0" y="114300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ỘI D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>
            <a:hlinkClick r:id="rId2" action="ppaction://hlinksldjump"/>
          </p:cNvPr>
          <p:cNvSpPr/>
          <p:nvPr/>
        </p:nvSpPr>
        <p:spPr>
          <a:xfrm>
            <a:off x="0" y="1752480"/>
            <a:ext cx="1905120" cy="6098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. VẬN CHUYỂ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Ụ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>
            <a:hlinkClick r:id="rId3" action="ppaction://hlinksldjump"/>
          </p:cNvPr>
          <p:cNvSpPr/>
          <p:nvPr/>
        </p:nvSpPr>
        <p:spPr>
          <a:xfrm>
            <a:off x="0" y="3200400"/>
            <a:ext cx="1905120" cy="8380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. VẬN CHUYỂ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Ủ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>
            <a:hlinkClick r:id="rId4" action="ppaction://hlinksldjump"/>
          </p:cNvPr>
          <p:cNvSpPr/>
          <p:nvPr/>
        </p:nvSpPr>
        <p:spPr>
          <a:xfrm>
            <a:off x="0" y="4876920"/>
            <a:ext cx="1905120" cy="8380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I. XUẤT BÀ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>
            <a:hlinkClick r:id="rId5" action="ppaction://hlinksldjump"/>
          </p:cNvPr>
          <p:cNvSpPr/>
          <p:nvPr/>
        </p:nvSpPr>
        <p:spPr>
          <a:xfrm>
            <a:off x="0" y="2362320"/>
            <a:ext cx="1905120" cy="4572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THÍ NGHIỆ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>
            <a:hlinkClick r:id="rId6" action="ppaction://hlinksldjump"/>
          </p:cNvPr>
          <p:cNvSpPr/>
          <p:nvPr/>
        </p:nvSpPr>
        <p:spPr>
          <a:xfrm>
            <a:off x="0" y="2819520"/>
            <a:ext cx="1905120" cy="3808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>
            <a:hlinkClick r:id="rId7" action="ppaction://hlinksldjump"/>
          </p:cNvPr>
          <p:cNvSpPr/>
          <p:nvPr/>
        </p:nvSpPr>
        <p:spPr>
          <a:xfrm>
            <a:off x="0" y="4038480"/>
            <a:ext cx="1905120" cy="3812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HIỆN TƯỢ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">
            <a:hlinkClick r:id="rId8" action="ppaction://hlinksldjump"/>
          </p:cNvPr>
          <p:cNvSpPr/>
          <p:nvPr/>
        </p:nvSpPr>
        <p:spPr>
          <a:xfrm>
            <a:off x="0" y="4419720"/>
            <a:ext cx="1905120" cy="53316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>
            <a:hlinkClick r:id="rId9" action="ppaction://hlinksldjump"/>
          </p:cNvPr>
          <p:cNvSpPr/>
          <p:nvPr/>
        </p:nvSpPr>
        <p:spPr>
          <a:xfrm>
            <a:off x="0" y="6324480"/>
            <a:ext cx="1905120" cy="53352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XUẤT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>
            <a:hlinkClick r:id="rId10" action="ppaction://hlinksldjump"/>
          </p:cNvPr>
          <p:cNvSpPr/>
          <p:nvPr/>
        </p:nvSpPr>
        <p:spPr>
          <a:xfrm>
            <a:off x="0" y="5715000"/>
            <a:ext cx="1905120" cy="6094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905120" y="1143000"/>
            <a:ext cx="4876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II. XUẤT BÀO, NHẬP BÀ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905120" y="167652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/ XUẤT BÀ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828800" y="2144520"/>
            <a:ext cx="73152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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uất bào là phương thức tế bào đưa các chất ra ngoài bằng cách biến dạng màng sinh chất (ngược lại với nhập bào).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2514600" y="388620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Cơ chế xuất và nhập bào có gì khác so với vận chuyển qua màn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1824120" y="362880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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Xuất bào và nhập bào dựa trên cơ sở sự biến dạng của màng tế bào và tiêu thụ năng lượ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0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34" dur="1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10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10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IẾT 16:  VẬN CHUYỂN CÁC CHẤT QUA MÀNG SINH CHẤ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3" name=""/>
          <p:cNvSpPr/>
          <p:nvPr/>
        </p:nvSpPr>
        <p:spPr>
          <a:xfrm>
            <a:off x="0" y="1143000"/>
            <a:ext cx="1905120" cy="5715000"/>
          </a:xfrm>
          <a:prstGeom prst="rect">
            <a:avLst/>
          </a:prstGeom>
          <a:solidFill>
            <a:srgbClr val="e4c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0" y="114300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ỘI D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>
            <a:hlinkClick r:id="rId2" action="ppaction://hlinksldjump"/>
          </p:cNvPr>
          <p:cNvSpPr/>
          <p:nvPr/>
        </p:nvSpPr>
        <p:spPr>
          <a:xfrm>
            <a:off x="0" y="1752480"/>
            <a:ext cx="1905120" cy="6098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. VẬN CHUYỂ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Ụ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0" y="3200400"/>
            <a:ext cx="1905120" cy="8380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. VẬN CHUYỂ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Ủ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>
            <a:hlinkClick r:id="rId3" action="ppaction://hlinksldjump"/>
          </p:cNvPr>
          <p:cNvSpPr/>
          <p:nvPr/>
        </p:nvSpPr>
        <p:spPr>
          <a:xfrm>
            <a:off x="0" y="4876920"/>
            <a:ext cx="1905120" cy="8380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I. XUẤT BÀ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>
            <a:hlinkClick r:id="rId4" action="ppaction://hlinksldjump"/>
          </p:cNvPr>
          <p:cNvSpPr/>
          <p:nvPr/>
        </p:nvSpPr>
        <p:spPr>
          <a:xfrm>
            <a:off x="0" y="2362320"/>
            <a:ext cx="1905120" cy="4572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THÍ NGHIỆ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>
            <a:hlinkClick r:id="rId5" action="ppaction://hlinksldjump"/>
          </p:cNvPr>
          <p:cNvSpPr/>
          <p:nvPr/>
        </p:nvSpPr>
        <p:spPr>
          <a:xfrm>
            <a:off x="0" y="2819520"/>
            <a:ext cx="1905120" cy="3808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>
            <a:hlinkClick r:id="rId6" action="ppaction://hlinksldjump"/>
          </p:cNvPr>
          <p:cNvSpPr/>
          <p:nvPr/>
        </p:nvSpPr>
        <p:spPr>
          <a:xfrm>
            <a:off x="0" y="4038480"/>
            <a:ext cx="1905120" cy="3812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HIỆN TƯỢ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>
            <a:hlinkClick r:id="rId7" action="ppaction://hlinksldjump"/>
          </p:cNvPr>
          <p:cNvSpPr/>
          <p:nvPr/>
        </p:nvSpPr>
        <p:spPr>
          <a:xfrm>
            <a:off x="0" y="4419720"/>
            <a:ext cx="1905120" cy="53316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>
            <a:hlinkClick r:id="rId8" action="ppaction://hlinksldjump"/>
          </p:cNvPr>
          <p:cNvSpPr/>
          <p:nvPr/>
        </p:nvSpPr>
        <p:spPr>
          <a:xfrm>
            <a:off x="0" y="6324480"/>
            <a:ext cx="1905120" cy="53352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XUẤT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>
            <a:hlinkClick r:id="rId9" action="ppaction://hlinksldjump"/>
          </p:cNvPr>
          <p:cNvSpPr/>
          <p:nvPr/>
        </p:nvSpPr>
        <p:spPr>
          <a:xfrm>
            <a:off x="0" y="5715000"/>
            <a:ext cx="1905120" cy="6094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1905120" y="114300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ỦNG CỐ - VỀ NH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5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1905120" y="1676520"/>
            <a:ext cx="7238880" cy="3539880"/>
          </a:xfrm>
          <a:prstGeom prst="rect">
            <a:avLst/>
          </a:prstGeom>
          <a:ln w="0">
            <a:noFill/>
          </a:ln>
        </p:spPr>
      </p:pic>
      <p:sp>
        <p:nvSpPr>
          <p:cNvPr id="886" name=""/>
          <p:cNvSpPr/>
          <p:nvPr/>
        </p:nvSpPr>
        <p:spPr>
          <a:xfrm>
            <a:off x="8305920" y="175248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 3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952880" y="1676520"/>
            <a:ext cx="609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 2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2819520" y="175248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 1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4952880" y="1143000"/>
            <a:ext cx="4191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hép 1 , 2 , 3 , cho thích hợp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905120" y="5181480"/>
            <a:ext cx="72388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. Vận chuyển các chất nhờ kênh chuyên hó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. Vận chuyển Gluco qua kênh màng (cần có năng lượng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. Con đường vận chuyển các phân tử nhỏ ( như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y các ion nhỏ ( như Na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Cl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…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 rot="15896400">
            <a:off x="2171520" y="1485720"/>
            <a:ext cx="533520" cy="6094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e4c3b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rot="15896400">
            <a:off x="7657920" y="1562040"/>
            <a:ext cx="533520" cy="60948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e4c3b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 rot="15896400">
            <a:off x="4305240" y="1637640"/>
            <a:ext cx="533160" cy="6098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e4c3b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>
            <a:hlinkClick r:id="rId12" action="ppaction://hlinksldjump"/>
          </p:cNvPr>
          <p:cNvSpPr/>
          <p:nvPr/>
        </p:nvSpPr>
        <p:spPr>
          <a:xfrm>
            <a:off x="8305920" y="6477120"/>
            <a:ext cx="838080" cy="380880"/>
          </a:xfrm>
          <a:prstGeom prst="rightArrow">
            <a:avLst>
              <a:gd name="adj1" fmla="val 50000"/>
              <a:gd name="adj2" fmla="val 5500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8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6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9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2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7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2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7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84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IẾT 16:  VẬN CHUYỂN CÁC CHẤT QUA MÀNG SINH CHẤ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1143000"/>
            <a:ext cx="1905120" cy="5715000"/>
          </a:xfrm>
          <a:prstGeom prst="rect">
            <a:avLst/>
          </a:prstGeom>
          <a:solidFill>
            <a:srgbClr val="e4c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114300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ỘI D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>
            <a:hlinkClick r:id="rId2" action="ppaction://hlinksldjump"/>
          </p:cNvPr>
          <p:cNvSpPr/>
          <p:nvPr/>
        </p:nvSpPr>
        <p:spPr>
          <a:xfrm>
            <a:off x="0" y="1752480"/>
            <a:ext cx="1905120" cy="6098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. VẬN CHUYỂ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Ụ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>
            <a:hlinkClick r:id="rId3" action="ppaction://hlinksldjump"/>
          </p:cNvPr>
          <p:cNvSpPr/>
          <p:nvPr/>
        </p:nvSpPr>
        <p:spPr>
          <a:xfrm>
            <a:off x="0" y="3200400"/>
            <a:ext cx="1905120" cy="8380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. VẬN CHUYỂ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Ủ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>
            <a:hlinkClick r:id="rId4" action="ppaction://hlinksldjump"/>
          </p:cNvPr>
          <p:cNvSpPr/>
          <p:nvPr/>
        </p:nvSpPr>
        <p:spPr>
          <a:xfrm>
            <a:off x="0" y="4876920"/>
            <a:ext cx="1905120" cy="8380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I. XUẤT BÀ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>
            <a:hlinkClick r:id="rId5" action="ppaction://hlinksldjump"/>
          </p:cNvPr>
          <p:cNvSpPr/>
          <p:nvPr/>
        </p:nvSpPr>
        <p:spPr>
          <a:xfrm>
            <a:off x="0" y="2362320"/>
            <a:ext cx="1905120" cy="4572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THÍ NGHIỆ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>
            <a:hlinkClick r:id="rId6" action="ppaction://hlinksldjump"/>
          </p:cNvPr>
          <p:cNvSpPr/>
          <p:nvPr/>
        </p:nvSpPr>
        <p:spPr>
          <a:xfrm>
            <a:off x="0" y="2819520"/>
            <a:ext cx="1905120" cy="3808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>
            <a:hlinkClick r:id="rId7" action="ppaction://hlinksldjump"/>
          </p:cNvPr>
          <p:cNvSpPr/>
          <p:nvPr/>
        </p:nvSpPr>
        <p:spPr>
          <a:xfrm>
            <a:off x="0" y="4038480"/>
            <a:ext cx="1905120" cy="3812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HIỆN TƯỢ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>
            <a:hlinkClick r:id="rId8" action="ppaction://hlinksldjump"/>
          </p:cNvPr>
          <p:cNvSpPr/>
          <p:nvPr/>
        </p:nvSpPr>
        <p:spPr>
          <a:xfrm>
            <a:off x="0" y="4419720"/>
            <a:ext cx="1905120" cy="53316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>
            <a:hlinkClick r:id="rId9" action="ppaction://hlinksldjump"/>
          </p:cNvPr>
          <p:cNvSpPr/>
          <p:nvPr/>
        </p:nvSpPr>
        <p:spPr>
          <a:xfrm>
            <a:off x="0" y="6324480"/>
            <a:ext cx="1905120" cy="53352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XUẤT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>
            <a:hlinkClick r:id="rId10" action="ppaction://hlinksldjump"/>
          </p:cNvPr>
          <p:cNvSpPr/>
          <p:nvPr/>
        </p:nvSpPr>
        <p:spPr>
          <a:xfrm>
            <a:off x="0" y="5715000"/>
            <a:ext cx="1905120" cy="6094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1905120" y="137160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ỦNG CỐ - VỀ NH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>
            <a:hlinkClick r:id="rId11" action="ppaction://hlinksldjump"/>
          </p:cNvPr>
          <p:cNvSpPr/>
          <p:nvPr/>
        </p:nvSpPr>
        <p:spPr>
          <a:xfrm>
            <a:off x="8534520" y="6477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981080" y="1676520"/>
            <a:ext cx="6629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VNI-Times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VNI-Times"/>
              </a:rPr>
              <a:t>Caâu 2: Ñieàu kieän xaûy ra cô cheá vaän chuyeån thuï ñoäng khoâng coù tính choïn loï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Times"/>
              </a:rPr>
              <a:t>A.  Coù ATP, protein keânh vaän chuyeån ñaëc hieä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Times"/>
              </a:rPr>
              <a:t>B.  Coù söï thaåm thaáu hoaëc khueách taù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Times"/>
              </a:rPr>
              <a:t>C. Kích thöôùc cuûa chaát vaän chuyeån nhoû hôn ñöôøng kính loã maøng, coù protein ñaëc hieä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Times"/>
              </a:rPr>
              <a:t>D. Kích thöôùc cuûa chaát vaän chuyeån nhoû hôn ñöôøng kính loã maøng, coù söï cheânh leäch veà noàng ñoä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1600200" y="3962520"/>
            <a:ext cx="838080" cy="691920"/>
            <a:chOff x="1600200" y="3962520"/>
            <a:chExt cx="838080" cy="691920"/>
          </a:xfrm>
        </p:grpSpPr>
        <p:sp>
          <p:nvSpPr>
            <p:cNvPr id="911" name="">
              <a:hlinkClick r:id="rId12" action="ppaction://hlinksldjump"/>
            </p:cNvPr>
            <p:cNvSpPr/>
            <p:nvPr/>
          </p:nvSpPr>
          <p:spPr>
            <a:xfrm>
              <a:off x="1600200" y="3962520"/>
              <a:ext cx="838080" cy="69192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709640" y="4267080"/>
              <a:ext cx="65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ĐÚN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9" dur="80"/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0" dur="80"/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1" dur="80"/>
                                        <p:tgtEl>
                                          <p:spTgt spid="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9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ểm tra bài c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ựa vào hình vẽ em hãy nêu các thành phần cấu tạo của màng sinh chất và cho biết một số chức năng cơ bản của màng sinh chấ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842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IẾT 16:  VẬN CHUYỂN CÁC CHẤT QUA MÀNG SINH CHẤ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1143000"/>
            <a:ext cx="1905120" cy="5715000"/>
          </a:xfrm>
          <a:prstGeom prst="rect">
            <a:avLst/>
          </a:prstGeom>
          <a:solidFill>
            <a:srgbClr val="e4c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114300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ỘI D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>
            <a:hlinkClick r:id="rId2" action="ppaction://hlinksldjump"/>
          </p:cNvPr>
          <p:cNvSpPr/>
          <p:nvPr/>
        </p:nvSpPr>
        <p:spPr>
          <a:xfrm>
            <a:off x="0" y="1752480"/>
            <a:ext cx="1905120" cy="6098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. VẬN CHUYỂ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Ụ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0" y="3200400"/>
            <a:ext cx="1905120" cy="8380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. VẬN CHUYỂ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Ủ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0" y="4876920"/>
            <a:ext cx="1905120" cy="8380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I. XUẤT BÀ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0" y="2362320"/>
            <a:ext cx="1905120" cy="4572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THÍ NGHIỆ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0" y="2819520"/>
            <a:ext cx="1905120" cy="3808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0" y="4038480"/>
            <a:ext cx="1905120" cy="3812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HIỆN TƯỢ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0" y="4419720"/>
            <a:ext cx="1905120" cy="53316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0" y="6324480"/>
            <a:ext cx="1905120" cy="53352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XUẤT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0" y="5715000"/>
            <a:ext cx="1905120" cy="6094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1905120" y="137160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ỦNG CỐ - VỀ NH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8534520" y="64771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1981080" y="1905120"/>
            <a:ext cx="6629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Câu 3: Điều kiện xảy ra cơ chế vận chuyển thụ động có tính chọn lọc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.  Có ATP, protein kênh vận chuyển đặc hiệ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.  Có sự thẩm thấu hoặc khuếch tá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. Kích thước của chất vận chuyển nhỏ hơn đường kính lỗ màng, có protein đặc hiệ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. Kích thước của chất vận chuyển nhỏ hơn đường kính lỗ màng, có sự chênh lệch về nồng độ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8" name=""/>
          <p:cNvGrpSpPr/>
          <p:nvPr/>
        </p:nvGrpSpPr>
        <p:grpSpPr>
          <a:xfrm>
            <a:off x="1981080" y="3505320"/>
            <a:ext cx="838440" cy="691920"/>
            <a:chOff x="1981080" y="3505320"/>
            <a:chExt cx="838440" cy="691920"/>
          </a:xfrm>
        </p:grpSpPr>
        <p:sp>
          <p:nvSpPr>
            <p:cNvPr id="929" name=""/>
            <p:cNvSpPr/>
            <p:nvPr/>
          </p:nvSpPr>
          <p:spPr>
            <a:xfrm>
              <a:off x="1981080" y="3505320"/>
              <a:ext cx="838440" cy="69192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090520" y="3809880"/>
              <a:ext cx="654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ĐÚN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IẾT 16:  VẬN CHUYỂN CÁC CHẤT QUA MÀNG SINH CHẤ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1143000"/>
            <a:ext cx="1905120" cy="5715000"/>
          </a:xfrm>
          <a:prstGeom prst="rect">
            <a:avLst/>
          </a:prstGeom>
          <a:solidFill>
            <a:srgbClr val="e4c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114300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ỘI D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>
            <a:hlinkClick r:id="rId2" action="ppaction://hlinksldjump"/>
          </p:cNvPr>
          <p:cNvSpPr/>
          <p:nvPr/>
        </p:nvSpPr>
        <p:spPr>
          <a:xfrm>
            <a:off x="0" y="1752480"/>
            <a:ext cx="1905120" cy="6098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. VẬN CHUYỂ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Ụ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">
            <a:hlinkClick r:id="rId3" action="ppaction://hlinksldjump"/>
          </p:cNvPr>
          <p:cNvSpPr/>
          <p:nvPr/>
        </p:nvSpPr>
        <p:spPr>
          <a:xfrm>
            <a:off x="0" y="3200400"/>
            <a:ext cx="1905120" cy="8380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. VẬN CHUYỂ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Ủ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">
            <a:hlinkClick r:id="rId4" action="ppaction://hlinksldjump"/>
          </p:cNvPr>
          <p:cNvSpPr/>
          <p:nvPr/>
        </p:nvSpPr>
        <p:spPr>
          <a:xfrm>
            <a:off x="0" y="4876920"/>
            <a:ext cx="1905120" cy="8380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I. XUẤT BÀ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">
            <a:hlinkClick r:id="rId5" action="ppaction://hlinksldjump"/>
          </p:cNvPr>
          <p:cNvSpPr/>
          <p:nvPr/>
        </p:nvSpPr>
        <p:spPr>
          <a:xfrm>
            <a:off x="0" y="2362320"/>
            <a:ext cx="1905120" cy="4572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THÍ NGHIỆ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">
            <a:hlinkClick r:id="rId6" action="ppaction://hlinksldjump"/>
          </p:cNvPr>
          <p:cNvSpPr/>
          <p:nvPr/>
        </p:nvSpPr>
        <p:spPr>
          <a:xfrm>
            <a:off x="0" y="2819520"/>
            <a:ext cx="1905120" cy="3808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">
            <a:hlinkClick r:id="rId7" action="ppaction://hlinksldjump"/>
          </p:cNvPr>
          <p:cNvSpPr/>
          <p:nvPr/>
        </p:nvSpPr>
        <p:spPr>
          <a:xfrm>
            <a:off x="0" y="4038480"/>
            <a:ext cx="1905120" cy="3812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HIỆN TƯỢ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>
            <a:hlinkClick r:id="rId8" action="ppaction://hlinksldjump"/>
          </p:cNvPr>
          <p:cNvSpPr/>
          <p:nvPr/>
        </p:nvSpPr>
        <p:spPr>
          <a:xfrm>
            <a:off x="0" y="4419720"/>
            <a:ext cx="1905120" cy="53316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">
            <a:hlinkClick r:id="rId9" action="ppaction://hlinksldjump"/>
          </p:cNvPr>
          <p:cNvSpPr/>
          <p:nvPr/>
        </p:nvSpPr>
        <p:spPr>
          <a:xfrm>
            <a:off x="0" y="6324480"/>
            <a:ext cx="1905120" cy="53352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XUẤT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">
            <a:hlinkClick r:id="rId10" action="ppaction://hlinksldjump"/>
          </p:cNvPr>
          <p:cNvSpPr/>
          <p:nvPr/>
        </p:nvSpPr>
        <p:spPr>
          <a:xfrm>
            <a:off x="0" y="5715000"/>
            <a:ext cx="1905120" cy="6094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1905120" y="114300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ỦNG CỐ - VỀ NH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1981080" y="1600200"/>
            <a:ext cx="7162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 sánh cơ chế vận chuyển thụ động và vận chuyể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ủ động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2133720" y="2590920"/>
            <a:ext cx="2895480" cy="6094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ận chuyển thụ độ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5867280" y="2590920"/>
            <a:ext cx="2895840" cy="60948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ận chuyển chủ độ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5410080" y="2590920"/>
            <a:ext cx="0" cy="4267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1828800" y="3276720"/>
            <a:ext cx="3352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sự chênh lệch nồng đ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5486400" y="3276720"/>
            <a:ext cx="3352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nhu cầu của tế bà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1828800" y="3886200"/>
            <a:ext cx="3505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hông cần năng lượ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486400" y="3886200"/>
            <a:ext cx="35053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ần năng lượ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1819440" y="4510080"/>
            <a:ext cx="3504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o chiều gradien nồng đ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396040" y="4586400"/>
            <a:ext cx="374796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gược chiều gradien nồng đ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1905120" y="5181480"/>
            <a:ext cx="297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hông cần chất m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5495760" y="5229360"/>
            <a:ext cx="2428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ần chất m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1886040" y="5877000"/>
            <a:ext cx="3504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Đạt đến cân bằng nồng đ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5510160" y="6095880"/>
            <a:ext cx="3505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hông đạt đến cân bằ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ồng đ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3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8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3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3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IẾT 16:  VẬN CHUYỂN CÁC CHẤT QUA MÀNG SINH CHẤ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0" y="1143000"/>
            <a:ext cx="1905120" cy="5715000"/>
          </a:xfrm>
          <a:prstGeom prst="rect">
            <a:avLst/>
          </a:prstGeom>
          <a:solidFill>
            <a:srgbClr val="e4c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0" y="114300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ỘI D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">
            <a:hlinkClick r:id="rId2" action="ppaction://hlinksldjump"/>
          </p:cNvPr>
          <p:cNvSpPr/>
          <p:nvPr/>
        </p:nvSpPr>
        <p:spPr>
          <a:xfrm>
            <a:off x="0" y="1752480"/>
            <a:ext cx="1905120" cy="6098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. VẬN CHUYỂ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Ụ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">
            <a:hlinkClick r:id="rId3" action="ppaction://hlinksldjump"/>
          </p:cNvPr>
          <p:cNvSpPr/>
          <p:nvPr/>
        </p:nvSpPr>
        <p:spPr>
          <a:xfrm>
            <a:off x="0" y="3200400"/>
            <a:ext cx="1905120" cy="8380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. VẬN CHUYỂ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Ủ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">
            <a:hlinkClick r:id="rId4" action="ppaction://hlinksldjump"/>
          </p:cNvPr>
          <p:cNvSpPr/>
          <p:nvPr/>
        </p:nvSpPr>
        <p:spPr>
          <a:xfrm>
            <a:off x="0" y="4876920"/>
            <a:ext cx="1905120" cy="8380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I. XUẤT BÀ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">
            <a:hlinkClick r:id="rId5" action="ppaction://hlinksldjump"/>
          </p:cNvPr>
          <p:cNvSpPr/>
          <p:nvPr/>
        </p:nvSpPr>
        <p:spPr>
          <a:xfrm>
            <a:off x="0" y="2362320"/>
            <a:ext cx="1905120" cy="4572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THÍ NGHIỆ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5" name="">
            <a:hlinkClick r:id="rId6" action="ppaction://hlinksldjump"/>
          </p:cNvPr>
          <p:cNvSpPr/>
          <p:nvPr/>
        </p:nvSpPr>
        <p:spPr>
          <a:xfrm>
            <a:off x="0" y="2819520"/>
            <a:ext cx="1905120" cy="3808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">
            <a:hlinkClick r:id="rId7" action="ppaction://hlinksldjump"/>
          </p:cNvPr>
          <p:cNvSpPr/>
          <p:nvPr/>
        </p:nvSpPr>
        <p:spPr>
          <a:xfrm>
            <a:off x="0" y="4038480"/>
            <a:ext cx="1905120" cy="38124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HIỆN TƯỢ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">
            <a:hlinkClick r:id="rId8" action="ppaction://hlinksldjump"/>
          </p:cNvPr>
          <p:cNvSpPr/>
          <p:nvPr/>
        </p:nvSpPr>
        <p:spPr>
          <a:xfrm>
            <a:off x="0" y="4419720"/>
            <a:ext cx="1905120" cy="53316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">
            <a:hlinkClick r:id="rId9" action="ppaction://hlinksldjump"/>
          </p:cNvPr>
          <p:cNvSpPr/>
          <p:nvPr/>
        </p:nvSpPr>
        <p:spPr>
          <a:xfrm>
            <a:off x="0" y="6324480"/>
            <a:ext cx="1905120" cy="53352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XUẤT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">
            <a:hlinkClick r:id="rId10" action="ppaction://hlinksldjump"/>
          </p:cNvPr>
          <p:cNvSpPr/>
          <p:nvPr/>
        </p:nvSpPr>
        <p:spPr>
          <a:xfrm>
            <a:off x="0" y="5715000"/>
            <a:ext cx="1905120" cy="60948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905120" y="114300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ỦNG CỐ - VỀ NH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1828800" y="1676520"/>
            <a:ext cx="7315200" cy="3657600"/>
          </a:xfrm>
          <a:prstGeom prst="cloudCallout">
            <a:avLst>
              <a:gd name="adj1" fmla="val -37888"/>
              <a:gd name="adj2" fmla="val 70009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ề nhà học bài, trả lời các câu hỏi ở cuối bài. Ôn lại kiến thức chương II tiết sau làm bài tậ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ấu trúc màng sinh chấ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47520" y="990720"/>
            <a:ext cx="9144000" cy="56196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97" name=""/>
          <p:cNvSpPr/>
          <p:nvPr/>
        </p:nvSpPr>
        <p:spPr>
          <a:xfrm flipH="1">
            <a:off x="4676400" y="2038320"/>
            <a:ext cx="1390680" cy="18385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57800" y="1752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3733920" y="4952520"/>
            <a:ext cx="380880" cy="1143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05320" y="601992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5638320" y="5438520"/>
            <a:ext cx="381240" cy="5331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57800" y="57913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85840" y="2209680"/>
            <a:ext cx="152640" cy="10670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19810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057400" y="4572000"/>
            <a:ext cx="838080" cy="838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5410080"/>
            <a:ext cx="99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323880" y="1905120"/>
            <a:ext cx="762120" cy="10666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1752480"/>
            <a:ext cx="1447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81480" y="16146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Photpholip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52680" y="5867280"/>
            <a:ext cx="1905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Prôtêin xuyên mà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05520" y="5715000"/>
            <a:ext cx="2514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Prôtêin bám mà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1905120"/>
            <a:ext cx="1981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licôPrôtê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533412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Côlestêrô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1676520"/>
            <a:ext cx="16765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Cacbohiđr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2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3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2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2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2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2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ức năng cơ bản của màng sinh chấ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9360">
            <a:solidFill>
              <a:srgbClr val="0000cc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o đổi chất với môi trường có chọn lọc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àng sinh chất có tính bán thấ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ếp nhận và truyền thông tin nhờ thụ th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hận biết các tế bào cùng cơ thể và tế bào lạ nhờ “Dấu chuẩn” là glicôPrôtêin…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905120" y="114264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. VẬN CHUYỂN THỤ ĐỘ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IẾT 10:  VẬN CHUYỂN CÁC CHẤT QUA MÀNG SINH CHẤ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143000"/>
            <a:ext cx="1905120" cy="5638680"/>
          </a:xfrm>
          <a:prstGeom prst="rect">
            <a:avLst/>
          </a:prstGeom>
          <a:solidFill>
            <a:srgbClr val="e4c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03356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ỘI DU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633680"/>
            <a:ext cx="1905120" cy="609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. VẬN CHUYỂ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Ụ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071880"/>
            <a:ext cx="1905120" cy="838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. VẬN CHUYỂ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HỦ ĐỘ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819680"/>
            <a:ext cx="1905120" cy="8380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II. XUẤT BÀ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238480"/>
            <a:ext cx="1905120" cy="4572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THÍ NGHIỆ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2700360"/>
            <a:ext cx="1905120" cy="380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909960"/>
            <a:ext cx="1905120" cy="380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HIỆN TƯỢ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290840"/>
            <a:ext cx="1905120" cy="5335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KẾT LUẬ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6267600"/>
            <a:ext cx="1905120" cy="5331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/ XUẤT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5657760"/>
            <a:ext cx="1905120" cy="6098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NHẬP BÀ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81080" y="1676520"/>
            <a:ext cx="4876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/ THÍ NGHIỆ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962520" y="990720"/>
            <a:ext cx="3276360" cy="4572000"/>
          </a:xfrm>
          <a:prstGeom prst="flowChartAlternateProcess">
            <a:avLst/>
          </a:prstGeom>
          <a:noFill/>
          <a:ln w="114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762120"/>
            <a:ext cx="8458200" cy="60948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87720" y="2057400"/>
            <a:ext cx="3200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1905120"/>
            <a:ext cx="0" cy="3581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5105520"/>
            <a:ext cx="152280" cy="152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19720" y="3657600"/>
            <a:ext cx="152280" cy="152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3352680"/>
            <a:ext cx="152280" cy="152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67080" y="2743200"/>
            <a:ext cx="152640" cy="152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3809880"/>
            <a:ext cx="152280" cy="152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91120" y="4267080"/>
            <a:ext cx="152280" cy="152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4800600"/>
            <a:ext cx="152280" cy="152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91120" y="3200400"/>
            <a:ext cx="152280" cy="152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52880" y="4114800"/>
            <a:ext cx="152640" cy="152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95680" y="4495680"/>
            <a:ext cx="152640" cy="152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67080" y="5181480"/>
            <a:ext cx="152640" cy="152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91120" y="3505320"/>
            <a:ext cx="152280" cy="152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4495680"/>
            <a:ext cx="152280" cy="152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43400" y="2514600"/>
            <a:ext cx="152280" cy="152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29200" y="2514600"/>
            <a:ext cx="152280" cy="152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781680" y="2362320"/>
            <a:ext cx="15264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3048120"/>
            <a:ext cx="15264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34290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3733920"/>
            <a:ext cx="15264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50292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77120" y="36576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4191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81680" y="4952880"/>
            <a:ext cx="15264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934320" y="51055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48006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0" y="45720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2743200"/>
            <a:ext cx="15264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77120" y="46483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781680" y="4114800"/>
            <a:ext cx="15264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4267080"/>
            <a:ext cx="15264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76920" y="5181480"/>
            <a:ext cx="152280" cy="152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3733920"/>
            <a:ext cx="152280" cy="152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3276720"/>
            <a:ext cx="152640" cy="152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00800" y="24382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819520"/>
            <a:ext cx="152280" cy="152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111480" y="257796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23623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nh thể đồng sunp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77120" y="3124080"/>
            <a:ext cx="1447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848720" y="28954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nh thể K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3138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ước cấ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1871640" y="335268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562360" y="1600200"/>
            <a:ext cx="1066680" cy="3049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867280" y="1371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àng thấ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447920" y="685800"/>
            <a:ext cx="5495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6699ff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iện tượng khuếch tá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cc00"/>
                  </a:gs>
                  <a:gs pos="50000">
                    <a:srgbClr val="6699ff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 flipV="1">
            <a:off x="3022200" y="2628720"/>
            <a:ext cx="1219320" cy="6094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0" y="609552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.Vn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0" y="3885840"/>
            <a:ext cx="3581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Quan sát  nhận xét về màu nước trước và sau khi thí nghiệm </a:t>
            </a:r>
            <a:r>
              <a:rPr b="1" lang="en-U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giải thích?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3429000"/>
            <a:ext cx="259092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ác tinh thể Cu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ên A đi qua màng thấm chọn lọc sang bên B. Còn các tinh thể KI bên B đi qua màng thấm chọn lọc sang bên 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79640" y="5746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5486400"/>
            <a:ext cx="3047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" y="365760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Khuếch tán các chất tan từ nơi có nồng độ cao đến nơi có nồng độ thấ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-15840" y="5783400"/>
            <a:ext cx="49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048120" y="15238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543800" y="14479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4146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cc0099"/>
                </a:solidFill>
                <a:latin typeface="Times New Roman"/>
              </a:rPr>
              <a:t>thẩm tá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333 0.0333 L -0.21667 0.0333 E">
                                      <p:cBhvr>
                                        <p:cTn id="171" dur="9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16185E-006 L 0.25 0.02774 E">
                                      <p:cBhvr>
                                        <p:cTn id="173" dur="7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4093 L -0.17552 -0.04093 E">
                                      <p:cBhvr>
                                        <p:cTn id="175" dur="4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89017E-006 L 0.24167 0.01942 E">
                                      <p:cBhvr>
                                        <p:cTn id="177" dur="15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1.88627E-006 L 0.23333 1.88627E-006 E">
                                      <p:cBhvr>
                                        <p:cTn id="179" dur="7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166 -0.00647 L -0.28333 -0.0222 E">
                                      <p:cBhvr>
                                        <p:cTn id="181" dur="9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4 -0.10266 L 0.16666 -0.15815 E">
                                      <p:cBhvr>
                                        <p:cTn id="183" dur="10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33 -0.04439 L 0.25 -0.06658 E">
                                      <p:cBhvr>
                                        <p:cTn id="185" dur="8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46821E-007 L -0.26666 -3.46821E-007 E">
                                      <p:cBhvr>
                                        <p:cTn id="187" dur="9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8627E-006 L -0.20833 -0.03329 E">
                                      <p:cBhvr>
                                        <p:cTn id="189" dur="1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-0.01109 L 0.14166 -0.05549 E">
                                      <p:cBhvr>
                                        <p:cTn id="191" dur="15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667 -0.02497 L -0.14167 -0.02497 E">
                                      <p:cBhvr>
                                        <p:cTn id="193" dur="17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048120" y="0"/>
            <a:ext cx="4952880" cy="662940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14800" y="0"/>
            <a:ext cx="2743200" cy="571500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0"/>
            <a:ext cx="8001000" cy="16002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48120" y="24382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78520" y="259092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733920" y="34290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28954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26668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46483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00400" y="38098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886200" y="44197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33920" y="55627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55627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60958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0120" y="29718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162920" y="38862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781680" y="5334120"/>
            <a:ext cx="15264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772400" y="50292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95880" y="6248520"/>
            <a:ext cx="15264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86400" y="5715000"/>
            <a:ext cx="0" cy="91440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33920" y="50292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010280" y="3048120"/>
            <a:ext cx="76320" cy="759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391520" y="2819520"/>
            <a:ext cx="75960" cy="759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238880" y="365760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696080" y="358128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162920" y="4191120"/>
            <a:ext cx="75960" cy="759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467480" y="4419720"/>
            <a:ext cx="76320" cy="759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67480" y="518148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086600" y="4876920"/>
            <a:ext cx="76320" cy="759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81680" y="594360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477120" y="5562720"/>
            <a:ext cx="75960" cy="759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72200" y="594360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696080" y="403848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638680" y="586728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638680" y="640080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400800" y="640080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4191120"/>
            <a:ext cx="76320" cy="759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05520" y="6324480"/>
            <a:ext cx="7596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33920" y="3809880"/>
            <a:ext cx="7596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276720"/>
            <a:ext cx="76320" cy="759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449568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429000" y="502920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2819520"/>
            <a:ext cx="76320" cy="759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038480" y="5791320"/>
            <a:ext cx="76320" cy="759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62520" y="5105520"/>
            <a:ext cx="75960" cy="759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343400" y="6019920"/>
            <a:ext cx="76320" cy="759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267080" y="541008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586728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00600" y="586728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91320" y="6172200"/>
            <a:ext cx="7596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447920" y="228600"/>
            <a:ext cx="54957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6699ff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iện tượng thẩm thấu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cc00"/>
                  </a:gs>
                  <a:gs pos="50000">
                    <a:srgbClr val="6699ff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40989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hân tử đườ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" y="29559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Dung dịch đường 1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2590920" y="32004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666880" y="3886200"/>
            <a:ext cx="609840" cy="3808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2666880" y="4343400"/>
            <a:ext cx="609840" cy="3808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43400" y="4800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Màng thấm chọn lọ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486400" y="510516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6524640" y="3314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191120" y="29718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ung dịch đường 5%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191120" y="409896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hân tử nước tự 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6553080" y="4191120"/>
            <a:ext cx="609840" cy="55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6553080" y="4503240"/>
            <a:ext cx="533520" cy="373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556272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imes New Roman"/>
              </a:rPr>
              <a:t>Hãy mô tả thí nghiệm và nhận xét mực nước giữa nhánh A và nhánh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14240" y="85680"/>
            <a:ext cx="533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1523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153280" y="1676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048120" y="0"/>
            <a:ext cx="4952880" cy="662940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14800" y="0"/>
            <a:ext cx="2743200" cy="571500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0"/>
            <a:ext cx="8458200" cy="14479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048120" y="259092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78520" y="2590920"/>
            <a:ext cx="1067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733920" y="34290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28954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86200" y="26668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200400" y="46483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38098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86200" y="44197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33920" y="55627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0" y="63244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419720" y="55627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57800" y="60958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620120" y="29718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162920" y="38862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781680" y="5334120"/>
            <a:ext cx="15264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772400" y="50292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95880" y="6248520"/>
            <a:ext cx="15264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5715000"/>
            <a:ext cx="0" cy="91440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33920" y="50292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010280" y="3048120"/>
            <a:ext cx="76320" cy="759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391520" y="2819520"/>
            <a:ext cx="75960" cy="759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365760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696080" y="358128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162920" y="4191120"/>
            <a:ext cx="75960" cy="759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467480" y="4419720"/>
            <a:ext cx="76320" cy="759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467480" y="518148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086600" y="4876920"/>
            <a:ext cx="76320" cy="759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594360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477120" y="5562720"/>
            <a:ext cx="75960" cy="759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72200" y="594360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696080" y="403848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586728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640080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400800" y="640080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4191120"/>
            <a:ext cx="76320" cy="759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105520" y="6324480"/>
            <a:ext cx="7596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733920" y="3809880"/>
            <a:ext cx="7596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200400" y="3276720"/>
            <a:ext cx="76320" cy="759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581280" y="449568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429000" y="502920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657600" y="2819520"/>
            <a:ext cx="76320" cy="759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038480" y="5791320"/>
            <a:ext cx="76320" cy="759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962520" y="5105520"/>
            <a:ext cx="75960" cy="759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343400" y="6019920"/>
            <a:ext cx="76320" cy="759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267080" y="541008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257800" y="586728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800600" y="5867280"/>
            <a:ext cx="7632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791320" y="6172200"/>
            <a:ext cx="75960" cy="763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1447920" y="228600"/>
            <a:ext cx="54957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6699ff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Hiện tượng thẩm thấu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cc00"/>
                  </a:gs>
                  <a:gs pos="50000">
                    <a:srgbClr val="6699ff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523880"/>
            <a:ext cx="838080" cy="228600"/>
          </a:xfrm>
          <a:prstGeom prst="leftArrow">
            <a:avLst>
              <a:gd name="adj1" fmla="val 50000"/>
              <a:gd name="adj2" fmla="val 9165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867280" y="350532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286000" y="1523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153280" y="1447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289548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Nước nhánh A cao hơn nhánh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297180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2362320"/>
            <a:ext cx="27432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-Nồng độ chất tan nhánh A lớn hơn nhánh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-Nước tự do nhánh B nhiều hơn nhánh A </a:t>
            </a:r>
            <a:r>
              <a:rPr b="1" lang="en-US" sz="2400" spc="-1" strike="noStrike">
                <a:solidFill>
                  <a:srgbClr val="ffcc66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 nước di chuyển từ B </a:t>
            </a:r>
            <a:r>
              <a:rPr b="1" lang="en-US" sz="2400" spc="-1" strike="noStrike">
                <a:solidFill>
                  <a:srgbClr val="ffcc66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2057400"/>
            <a:ext cx="2743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imes New Roman"/>
              </a:rPr>
              <a:t>Nước được vận chuyển qua màng từ nơi có thế nước cao đến nơi có thế nước thấ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5680" y="420516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=&gt; thẩm thấ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81415E-006 L 3.33333E-006 -0.14424 E">
                                      <p:cBhvr>
                                        <p:cTn id="242" dur="20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81415E-006 L 3.61111E-006 0.14425 E">
                                      <p:cBhvr>
                                        <p:cTn id="244" dur="20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4424 E">
                                      <p:cBhvr>
                                        <p:cTn id="246" dur="20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4424 E">
                                      <p:cBhvr>
                                        <p:cTn id="248" dur="20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4424 E">
                                      <p:cBhvr>
                                        <p:cTn id="250" dur="20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4424 E">
                                      <p:cBhvr>
                                        <p:cTn id="252" dur="20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4424 E">
                                      <p:cBhvr>
                                        <p:cTn id="254" dur="20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4424 E">
                                      <p:cBhvr>
                                        <p:cTn id="256" dur="200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4424 E">
                                      <p:cBhvr>
                                        <p:cTn id="258" dur="20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4424 E">
                                      <p:cBhvr>
                                        <p:cTn id="260" dur="20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4424 E">
                                      <p:cBhvr>
                                        <p:cTn id="262" dur="20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5 0.08877 E">
                                      <p:cBhvr>
                                        <p:cTn id="264" dur="20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5 0.08877 E">
                                      <p:cBhvr>
                                        <p:cTn id="266" dur="20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5 0.08877 E">
                                      <p:cBhvr>
                                        <p:cTn id="268" dur="20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5 0.08877 E">
                                      <p:cBhvr>
                                        <p:cTn id="270" dur="20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5 0.08877 E">
                                      <p:cBhvr>
                                        <p:cTn id="272" dur="20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-0.04583 0.05 E">
                                      <p:cBhvr>
                                        <p:cTn id="274" dur="20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 L -0.025 0 E">
                                      <p:cBhvr>
                                        <p:cTn id="276" dur="20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0 E">
                                      <p:cBhvr>
                                        <p:cTn id="278" dur="20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0 E">
                                      <p:cBhvr>
                                        <p:cTn id="280" dur="20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0 E">
                                      <p:cBhvr>
                                        <p:cTn id="282" dur="20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0 E">
                                      <p:cBhvr>
                                        <p:cTn id="284" dur="20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0 E">
                                      <p:cBhvr>
                                        <p:cTn id="286" dur="20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0 E">
                                      <p:cBhvr>
                                        <p:cTn id="288" dur="20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0 E">
                                      <p:cBhvr>
                                        <p:cTn id="290" dur="20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0 E">
                                      <p:cBhvr>
                                        <p:cTn id="292" dur="20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3.33333E-006 -0.08889 E">
                                      <p:cBhvr>
                                        <p:cTn id="294" dur="20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01111 L -3.33333E-006 -0.12222 E">
                                      <p:cBhvr>
                                        <p:cTn id="296" dur="20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-3.33333E-006 -0.12222 E">
                                      <p:cBhvr>
                                        <p:cTn id="298" dur="25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 E">
                                      <p:cBhvr>
                                        <p:cTn id="300" dur="20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 E">
                                      <p:cBhvr>
                                        <p:cTn id="302" dur="20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 E">
                                      <p:cBhvr>
                                        <p:cTn id="304" dur="20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 E">
                                      <p:cBhvr>
                                        <p:cTn id="306" dur="20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 E">
                                      <p:cBhvr>
                                        <p:cTn id="308" dur="20000" fill="hold"/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 E">
                                      <p:cBhvr>
                                        <p:cTn id="310" dur="20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 E">
                                      <p:cBhvr>
                                        <p:cTn id="312" dur="20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 E">
                                      <p:cBhvr>
                                        <p:cTn id="314" dur="20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 E">
                                      <p:cBhvr>
                                        <p:cTn id="316" dur="20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-0.00417 -0.13889 E">
                                      <p:cBhvr>
                                        <p:cTn id="318" dur="20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 E">
                                      <p:cBhvr>
                                        <p:cTn id="320" dur="20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4167 -0.05555 E">
                                      <p:cBhvr>
                                        <p:cTn id="322" dur="21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4167 -0.05555 E">
                                      <p:cBhvr>
                                        <p:cTn id="324" dur="21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4167 -0.05555 E">
                                      <p:cBhvr>
                                        <p:cTn id="326" dur="21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4167 -0.05555 E">
                                      <p:cBhvr>
                                        <p:cTn id="328" dur="21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4167 -0.05555 E">
                                      <p:cBhvr>
                                        <p:cTn id="330" dur="21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833 0 E">
                                      <p:cBhvr>
                                        <p:cTn id="332" dur="20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-0.00555 L -0.0375 -0.02774 E">
                                      <p:cBhvr>
                                        <p:cTn id="334" dur="20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0"/>
                            </p:stCondLst>
                            <p:childTnLst>
                              <p:par>
                                <p:cTn id="336" nodeType="after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8" dur="250" autoRev="1" fill="hold"/>
                                        <p:tgtEl>
                                          <p:spTgt spid="3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250" autoRev="1" fill="hold"/>
                                        <p:tgtEl>
                                          <p:spTgt spid="3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6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9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3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7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96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2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06:27:35Z</dcterms:created>
  <dc:creator>NamUyen</dc:creator>
  <dc:description/>
  <dc:language>en-US</dc:language>
  <cp:lastModifiedBy>Tran Thanh Danh</cp:lastModifiedBy>
  <dcterms:modified xsi:type="dcterms:W3CDTF">2011-12-15T13:18:35Z</dcterms:modified>
  <cp:revision>74</cp:revision>
  <dc:subject/>
  <dc:title>Slide 1</dc:title>
</cp:coreProperties>
</file>