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2775-2A8D-40B6-927D-87769F0D4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Õ nµo lµ hiÖn t­îng khuyÕch t¸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547-7FFC-413F-A48F-BA3B85F0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482-0D8E-40C2-96A6-403422A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AEB-51E3-4DFC-B72D-AD7A20CC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C86-2459-4544-AB73-EE95C0EB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75285-4D96-4AC9-8B97-35C11E55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C7B18-1438-4014-A17C-0029A4A8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A9350-88AA-4D4E-93BE-5788266C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66FA2-8D59-43B4-923A-2E154EC2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1D3A1-53B4-41D2-BB5D-BDE6B504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CCE86-4C33-4F34-8213-777704F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5640B-27DD-4C98-BF84-34C3B45E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A66-52D9-477F-A66E-B4AFF7AD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6186F-BDF2-426F-AC47-2E0B190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1FA3C-1157-419F-A806-905C1C22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633E1-AC65-464A-9313-39A418E9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51DFE-9962-451A-86F4-AF567230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A0214-FAF5-45D9-B536-16957436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6E7-4A71-4B97-A8C8-488B62D4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7F5-39FB-4811-BCCB-11DCBDF4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D51-D114-4757-929C-1FDE3394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035-C258-4260-9927-8E6C2947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50B-62DD-4B10-B74A-DEC78DB2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EA9-4FC4-4F17-9536-2F816BF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B6D-7F4F-4D86-982E-9EA908C4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130A-0DAE-4ED0-9762-5ABF689F5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CFCD-A5A0-4C23-B987-1159094CA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28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4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28.xml"/><Relationship Id="rId9" Type="http://schemas.openxmlformats.org/officeDocument/2006/relationships/slide" Target="slide24.xml"/><Relationship Id="rId10" Type="http://schemas.openxmlformats.org/officeDocument/2006/relationships/slide" Target="slide15.xml"/><Relationship Id="rId11" Type="http://schemas.openxmlformats.org/officeDocument/2006/relationships/image" Target="../media/image11.png"/><Relationship Id="rId12" Type="http://schemas.openxmlformats.org/officeDocument/2006/relationships/slide" Target="slide32.xml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28.xml"/><Relationship Id="rId10" Type="http://schemas.openxmlformats.org/officeDocument/2006/relationships/slide" Target="slide24.xml"/><Relationship Id="rId11" Type="http://schemas.openxmlformats.org/officeDocument/2006/relationships/slide" Target="slide32.xml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28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28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2514600"/>
            <a:ext cx="8686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TRƯỜNG THPT QUỐC HỌC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1676520"/>
            <a:ext cx="1981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21337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uếch tán là hiện tượ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Vận chuyển các chất từ nơi có nồng độ cao đến nơi có nồng độ thấ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Không tiêu tốn năng lượ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381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ự vận chuyển nước qua màn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ẩm thấ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419112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ự vận chuyển của các chất tan qua màn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ẩm tá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2133720"/>
            <a:ext cx="5029200" cy="1066680"/>
          </a:xfrm>
          <a:prstGeom prst="cloudCallout">
            <a:avLst>
              <a:gd name="adj1" fmla="val -23486"/>
              <a:gd name="adj2" fmla="val 33422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uếch tán là gì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905120" y="1143000"/>
            <a:ext cx="4952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5238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728120" y="3409920"/>
            <a:ext cx="1315800" cy="1712880"/>
            <a:chOff x="7728120" y="3409920"/>
            <a:chExt cx="1315800" cy="1712880"/>
          </a:xfrm>
        </p:grpSpPr>
        <p:grpSp>
          <p:nvGrpSpPr>
            <p:cNvPr id="353" name=""/>
            <p:cNvGrpSpPr/>
            <p:nvPr/>
          </p:nvGrpSpPr>
          <p:grpSpPr>
            <a:xfrm>
              <a:off x="7728120" y="3409920"/>
              <a:ext cx="1315800" cy="1712880"/>
              <a:chOff x="7728120" y="3409920"/>
              <a:chExt cx="1315800" cy="1712880"/>
            </a:xfrm>
          </p:grpSpPr>
          <p:sp>
            <p:nvSpPr>
              <p:cNvPr id="354" name=""/>
              <p:cNvSpPr/>
              <p:nvPr/>
            </p:nvSpPr>
            <p:spPr>
              <a:xfrm>
                <a:off x="7769160" y="340992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988480" y="340992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28120" y="4760640"/>
                <a:ext cx="1315800" cy="362160"/>
              </a:xfrm>
              <a:custGeom>
                <a:avLst/>
                <a:gdLst/>
                <a:ahLst/>
                <a:rect l="l" t="t" r="r" b="b"/>
                <a:pathLst>
                  <a:path w="2118" h="432">
                    <a:moveTo>
                      <a:pt x="77" y="55"/>
                    </a:moveTo>
                    <a:cubicBezTo>
                      <a:pt x="110" y="110"/>
                      <a:pt x="0" y="330"/>
                      <a:pt x="291" y="381"/>
                    </a:cubicBezTo>
                    <a:cubicBezTo>
                      <a:pt x="583" y="432"/>
                      <a:pt x="1538" y="426"/>
                      <a:pt x="1828" y="362"/>
                    </a:cubicBezTo>
                    <a:cubicBezTo>
                      <a:pt x="2118" y="298"/>
                      <a:pt x="1987" y="76"/>
                      <a:pt x="2029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8018280" y="38876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20000" y="38876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83320" y="38876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10200" y="39574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38800" y="40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840520" y="40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04200" y="401940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00920" y="414324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591400" y="3978000"/>
              <a:ext cx="151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39000" y="4143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81800" y="4143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10200" y="4275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13680" y="427500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840520" y="42750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94560" y="42750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32680" y="442116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605800" y="4421160"/>
              <a:ext cx="151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34400" y="442116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97720" y="44211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00920" y="455292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39000" y="4552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81800" y="4552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32680" y="467676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834400" y="467676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97720" y="46767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24600" y="4808520"/>
              <a:ext cx="151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189640" y="48085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854920" y="48085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570880" y="480852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53200" y="49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54920" y="49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18240" y="49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45120" y="50511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89640" y="50511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646840" y="50511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37200" y="3290760"/>
            <a:ext cx="1391400" cy="1814040"/>
            <a:chOff x="5137200" y="3290760"/>
            <a:chExt cx="1391400" cy="1814040"/>
          </a:xfrm>
        </p:grpSpPr>
        <p:grpSp>
          <p:nvGrpSpPr>
            <p:cNvPr id="393" name=""/>
            <p:cNvGrpSpPr/>
            <p:nvPr/>
          </p:nvGrpSpPr>
          <p:grpSpPr>
            <a:xfrm>
              <a:off x="5137200" y="3290760"/>
              <a:ext cx="1391400" cy="1814040"/>
              <a:chOff x="5137200" y="3290760"/>
              <a:chExt cx="1391400" cy="1814040"/>
            </a:xfrm>
          </p:grpSpPr>
          <p:sp>
            <p:nvSpPr>
              <p:cNvPr id="394" name=""/>
              <p:cNvSpPr/>
              <p:nvPr/>
            </p:nvSpPr>
            <p:spPr>
              <a:xfrm>
                <a:off x="5180760" y="3290760"/>
                <a:ext cx="0" cy="1452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70280" y="3290760"/>
                <a:ext cx="0" cy="1452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137200" y="4721400"/>
                <a:ext cx="1391400" cy="383400"/>
              </a:xfrm>
              <a:custGeom>
                <a:avLst/>
                <a:gdLst/>
                <a:ahLst/>
                <a:rect l="l" t="t" r="r" b="b"/>
                <a:pathLst>
                  <a:path w="2118" h="432">
                    <a:moveTo>
                      <a:pt x="77" y="55"/>
                    </a:moveTo>
                    <a:cubicBezTo>
                      <a:pt x="110" y="110"/>
                      <a:pt x="0" y="330"/>
                      <a:pt x="291" y="381"/>
                    </a:cubicBezTo>
                    <a:cubicBezTo>
                      <a:pt x="583" y="432"/>
                      <a:pt x="1538" y="426"/>
                      <a:pt x="1828" y="362"/>
                    </a:cubicBezTo>
                    <a:cubicBezTo>
                      <a:pt x="2118" y="298"/>
                      <a:pt x="1987" y="76"/>
                      <a:pt x="2029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5202360" y="379656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44280" y="379656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50520" y="379656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92440" y="379656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89000" y="37965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30920" y="379656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24680" y="39362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66240" y="393624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72480" y="39362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314400" y="393624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10600" y="39362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52520" y="39362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02360" y="40676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44280" y="40676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50520" y="40676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92440" y="40676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9000" y="40676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30920" y="406764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24680" y="42069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66240" y="420696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72480" y="42069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14400" y="420696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10600" y="42069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52520" y="420696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17840" y="436212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59400" y="43621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65640" y="436212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07560" y="43621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03760" y="436212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45680" y="43621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39440" y="45014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1360" y="45014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87600" y="45014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29160" y="45014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26080" y="45014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67640" y="450144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17840" y="46328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59400" y="46328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65640" y="46328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7560" y="46328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03760" y="46328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45680" y="46328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39440" y="477252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81360" y="47725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87600" y="477252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9160" y="47725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6080" y="477252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640" y="477252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39440" y="488988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81360" y="488988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87600" y="488988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9160" y="488988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26080" y="488988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67640" y="488988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61400" y="50295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03320" y="502956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09560" y="50295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47680" y="50295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89600" y="502956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666880" y="3352680"/>
            <a:ext cx="1316160" cy="1712880"/>
            <a:chOff x="2666880" y="3352680"/>
            <a:chExt cx="1316160" cy="1712880"/>
          </a:xfrm>
        </p:grpSpPr>
        <p:grpSp>
          <p:nvGrpSpPr>
            <p:cNvPr id="457" name=""/>
            <p:cNvGrpSpPr/>
            <p:nvPr/>
          </p:nvGrpSpPr>
          <p:grpSpPr>
            <a:xfrm>
              <a:off x="2666880" y="3352680"/>
              <a:ext cx="1316160" cy="1712880"/>
              <a:chOff x="2666880" y="3352680"/>
              <a:chExt cx="1316160" cy="1712880"/>
            </a:xfrm>
          </p:grpSpPr>
          <p:sp>
            <p:nvSpPr>
              <p:cNvPr id="458" name=""/>
              <p:cNvSpPr/>
              <p:nvPr/>
            </p:nvSpPr>
            <p:spPr>
              <a:xfrm>
                <a:off x="2708280" y="335268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27600" y="335268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66880" y="4703400"/>
                <a:ext cx="1316160" cy="362160"/>
              </a:xfrm>
              <a:custGeom>
                <a:avLst/>
                <a:gdLst/>
                <a:ahLst/>
                <a:rect l="l" t="t" r="r" b="b"/>
                <a:pathLst>
                  <a:path w="2118" h="432">
                    <a:moveTo>
                      <a:pt x="77" y="55"/>
                    </a:moveTo>
                    <a:cubicBezTo>
                      <a:pt x="110" y="110"/>
                      <a:pt x="0" y="330"/>
                      <a:pt x="291" y="381"/>
                    </a:cubicBezTo>
                    <a:cubicBezTo>
                      <a:pt x="583" y="432"/>
                      <a:pt x="1538" y="426"/>
                      <a:pt x="1828" y="362"/>
                    </a:cubicBezTo>
                    <a:cubicBezTo>
                      <a:pt x="2118" y="298"/>
                      <a:pt x="1987" y="76"/>
                      <a:pt x="2029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2728800" y="38304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57400" y="38304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30520" y="38304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9120" y="38304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93840" y="383040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22440" y="38304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49320" y="39621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77920" y="39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51040" y="39621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9640" y="39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14720" y="39621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43320" y="39621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28800" y="4086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57400" y="4086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30520" y="4086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59120" y="4086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93840" y="408600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22440" y="4086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49320" y="42177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77920" y="42177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51040" y="42177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79640" y="42177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14720" y="42177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43320" y="42177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43200" y="43639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71800" y="4363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44920" y="43639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73520" y="4363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08240" y="43639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36840" y="436392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63720" y="44956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92320" y="44956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65440" y="44956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94040" y="44956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8760" y="449568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57360" y="44956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3200" y="46195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1800" y="46195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44920" y="46195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73520" y="46195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08240" y="46195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36840" y="461952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63720" y="47512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92320" y="47512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47512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94040" y="47512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8760" y="475128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57360" y="47512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3720" y="48621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992320" y="48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65440" y="48621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94040" y="48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28760" y="48621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57360" y="48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84240" y="499392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12840" y="499392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85960" y="499392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9640" y="49939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78240" y="4993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3200" y="39002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71800" y="3900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44920" y="39002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73520" y="3900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08240" y="39002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36840" y="390024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22320" y="402408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50920" y="40240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24040" y="402408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52640" y="40240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87720" y="40240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16320" y="402408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43200" y="41558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71800" y="41558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44920" y="41558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73520" y="41558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08240" y="41558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36840" y="415584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36720" y="430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65320" y="4302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38440" y="430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67040" y="4302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01760" y="430200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30360" y="4302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57240" y="44337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85840" y="44337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58960" y="44337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87560" y="44337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22640" y="44337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51240" y="44337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36720" y="45576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65320" y="45576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38440" y="45576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67040" y="45576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01760" y="455760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30360" y="45576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7240" y="46893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85840" y="46893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58960" y="46893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87560" y="46893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2640" y="46893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351240" y="46893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7240" y="480024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85840" y="480024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58960" y="480024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87560" y="480024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2640" y="48002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51240" y="4800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78120" y="493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06720" y="49320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79840" y="493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43160" y="493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71760" y="4932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990800" y="2563920"/>
            <a:ext cx="457200" cy="457200"/>
          </a:xfrm>
          <a:custGeom>
            <a:avLst/>
            <a:gdLst/>
            <a:ahLst/>
            <a:rect l="l" t="t" r="r" b="b"/>
            <a:pathLst>
              <a:path w="975" h="866">
                <a:moveTo>
                  <a:pt x="254" y="128"/>
                </a:moveTo>
                <a:cubicBezTo>
                  <a:pt x="192" y="143"/>
                  <a:pt x="195" y="161"/>
                  <a:pt x="134" y="181"/>
                </a:cubicBezTo>
                <a:cubicBezTo>
                  <a:pt x="116" y="208"/>
                  <a:pt x="98" y="234"/>
                  <a:pt x="80" y="261"/>
                </a:cubicBezTo>
                <a:cubicBezTo>
                  <a:pt x="71" y="275"/>
                  <a:pt x="53" y="302"/>
                  <a:pt x="53" y="302"/>
                </a:cubicBezTo>
                <a:cubicBezTo>
                  <a:pt x="44" y="329"/>
                  <a:pt x="36" y="355"/>
                  <a:pt x="27" y="382"/>
                </a:cubicBezTo>
                <a:cubicBezTo>
                  <a:pt x="23" y="395"/>
                  <a:pt x="18" y="409"/>
                  <a:pt x="13" y="422"/>
                </a:cubicBezTo>
                <a:cubicBezTo>
                  <a:pt x="9" y="435"/>
                  <a:pt x="0" y="462"/>
                  <a:pt x="0" y="462"/>
                </a:cubicBezTo>
                <a:cubicBezTo>
                  <a:pt x="4" y="520"/>
                  <a:pt x="6" y="579"/>
                  <a:pt x="13" y="637"/>
                </a:cubicBezTo>
                <a:cubicBezTo>
                  <a:pt x="15" y="651"/>
                  <a:pt x="17" y="667"/>
                  <a:pt x="27" y="677"/>
                </a:cubicBezTo>
                <a:cubicBezTo>
                  <a:pt x="50" y="699"/>
                  <a:pt x="107" y="730"/>
                  <a:pt x="107" y="730"/>
                </a:cubicBezTo>
                <a:cubicBezTo>
                  <a:pt x="144" y="787"/>
                  <a:pt x="191" y="817"/>
                  <a:pt x="254" y="837"/>
                </a:cubicBezTo>
                <a:cubicBezTo>
                  <a:pt x="316" y="854"/>
                  <a:pt x="404" y="866"/>
                  <a:pt x="482" y="864"/>
                </a:cubicBezTo>
                <a:cubicBezTo>
                  <a:pt x="560" y="862"/>
                  <a:pt x="670" y="835"/>
                  <a:pt x="723" y="824"/>
                </a:cubicBezTo>
                <a:cubicBezTo>
                  <a:pt x="751" y="822"/>
                  <a:pt x="803" y="797"/>
                  <a:pt x="803" y="797"/>
                </a:cubicBezTo>
                <a:cubicBezTo>
                  <a:pt x="866" y="704"/>
                  <a:pt x="830" y="735"/>
                  <a:pt x="897" y="690"/>
                </a:cubicBezTo>
                <a:cubicBezTo>
                  <a:pt x="921" y="641"/>
                  <a:pt x="964" y="600"/>
                  <a:pt x="964" y="529"/>
                </a:cubicBezTo>
                <a:cubicBezTo>
                  <a:pt x="975" y="480"/>
                  <a:pt x="975" y="440"/>
                  <a:pt x="964" y="395"/>
                </a:cubicBezTo>
                <a:cubicBezTo>
                  <a:pt x="953" y="350"/>
                  <a:pt x="928" y="299"/>
                  <a:pt x="897" y="261"/>
                </a:cubicBezTo>
                <a:cubicBezTo>
                  <a:pt x="858" y="201"/>
                  <a:pt x="834" y="207"/>
                  <a:pt x="777" y="168"/>
                </a:cubicBezTo>
                <a:cubicBezTo>
                  <a:pt x="738" y="110"/>
                  <a:pt x="712" y="139"/>
                  <a:pt x="656" y="101"/>
                </a:cubicBezTo>
                <a:cubicBezTo>
                  <a:pt x="588" y="0"/>
                  <a:pt x="494" y="52"/>
                  <a:pt x="361" y="61"/>
                </a:cubicBezTo>
                <a:cubicBezTo>
                  <a:pt x="312" y="77"/>
                  <a:pt x="254" y="87"/>
                  <a:pt x="254" y="128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2523960"/>
            <a:ext cx="457200" cy="457200"/>
          </a:xfrm>
          <a:custGeom>
            <a:avLst/>
            <a:gdLst/>
            <a:ahLst/>
            <a:rect l="l" t="t" r="r" b="b"/>
            <a:pathLst>
              <a:path w="975" h="866">
                <a:moveTo>
                  <a:pt x="254" y="128"/>
                </a:moveTo>
                <a:cubicBezTo>
                  <a:pt x="192" y="143"/>
                  <a:pt x="195" y="161"/>
                  <a:pt x="134" y="181"/>
                </a:cubicBezTo>
                <a:cubicBezTo>
                  <a:pt x="116" y="208"/>
                  <a:pt x="98" y="234"/>
                  <a:pt x="80" y="261"/>
                </a:cubicBezTo>
                <a:cubicBezTo>
                  <a:pt x="71" y="275"/>
                  <a:pt x="53" y="302"/>
                  <a:pt x="53" y="302"/>
                </a:cubicBezTo>
                <a:cubicBezTo>
                  <a:pt x="44" y="329"/>
                  <a:pt x="36" y="355"/>
                  <a:pt x="27" y="382"/>
                </a:cubicBezTo>
                <a:cubicBezTo>
                  <a:pt x="23" y="395"/>
                  <a:pt x="18" y="409"/>
                  <a:pt x="13" y="422"/>
                </a:cubicBezTo>
                <a:cubicBezTo>
                  <a:pt x="9" y="435"/>
                  <a:pt x="0" y="462"/>
                  <a:pt x="0" y="462"/>
                </a:cubicBezTo>
                <a:cubicBezTo>
                  <a:pt x="4" y="520"/>
                  <a:pt x="6" y="579"/>
                  <a:pt x="13" y="637"/>
                </a:cubicBezTo>
                <a:cubicBezTo>
                  <a:pt x="15" y="651"/>
                  <a:pt x="17" y="667"/>
                  <a:pt x="27" y="677"/>
                </a:cubicBezTo>
                <a:cubicBezTo>
                  <a:pt x="50" y="699"/>
                  <a:pt x="107" y="730"/>
                  <a:pt x="107" y="730"/>
                </a:cubicBezTo>
                <a:cubicBezTo>
                  <a:pt x="144" y="787"/>
                  <a:pt x="191" y="817"/>
                  <a:pt x="254" y="837"/>
                </a:cubicBezTo>
                <a:cubicBezTo>
                  <a:pt x="316" y="854"/>
                  <a:pt x="404" y="866"/>
                  <a:pt x="482" y="864"/>
                </a:cubicBezTo>
                <a:cubicBezTo>
                  <a:pt x="560" y="862"/>
                  <a:pt x="670" y="835"/>
                  <a:pt x="723" y="824"/>
                </a:cubicBezTo>
                <a:cubicBezTo>
                  <a:pt x="751" y="822"/>
                  <a:pt x="803" y="797"/>
                  <a:pt x="803" y="797"/>
                </a:cubicBezTo>
                <a:cubicBezTo>
                  <a:pt x="866" y="704"/>
                  <a:pt x="830" y="735"/>
                  <a:pt x="897" y="690"/>
                </a:cubicBezTo>
                <a:cubicBezTo>
                  <a:pt x="921" y="641"/>
                  <a:pt x="964" y="600"/>
                  <a:pt x="964" y="529"/>
                </a:cubicBezTo>
                <a:cubicBezTo>
                  <a:pt x="975" y="480"/>
                  <a:pt x="975" y="440"/>
                  <a:pt x="964" y="395"/>
                </a:cubicBezTo>
                <a:cubicBezTo>
                  <a:pt x="953" y="350"/>
                  <a:pt x="928" y="299"/>
                  <a:pt x="897" y="261"/>
                </a:cubicBezTo>
                <a:cubicBezTo>
                  <a:pt x="858" y="201"/>
                  <a:pt x="834" y="207"/>
                  <a:pt x="777" y="168"/>
                </a:cubicBezTo>
                <a:cubicBezTo>
                  <a:pt x="738" y="110"/>
                  <a:pt x="712" y="139"/>
                  <a:pt x="656" y="101"/>
                </a:cubicBezTo>
                <a:cubicBezTo>
                  <a:pt x="588" y="0"/>
                  <a:pt x="494" y="52"/>
                  <a:pt x="361" y="61"/>
                </a:cubicBezTo>
                <a:cubicBezTo>
                  <a:pt x="312" y="77"/>
                  <a:pt x="254" y="87"/>
                  <a:pt x="254" y="128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2681280"/>
            <a:ext cx="457200" cy="457200"/>
          </a:xfrm>
          <a:custGeom>
            <a:avLst/>
            <a:gdLst/>
            <a:ahLst/>
            <a:rect l="l" t="t" r="r" b="b"/>
            <a:pathLst>
              <a:path w="975" h="866">
                <a:moveTo>
                  <a:pt x="254" y="128"/>
                </a:moveTo>
                <a:cubicBezTo>
                  <a:pt x="192" y="143"/>
                  <a:pt x="195" y="161"/>
                  <a:pt x="134" y="181"/>
                </a:cubicBezTo>
                <a:cubicBezTo>
                  <a:pt x="116" y="208"/>
                  <a:pt x="98" y="234"/>
                  <a:pt x="80" y="261"/>
                </a:cubicBezTo>
                <a:cubicBezTo>
                  <a:pt x="71" y="275"/>
                  <a:pt x="53" y="302"/>
                  <a:pt x="53" y="302"/>
                </a:cubicBezTo>
                <a:cubicBezTo>
                  <a:pt x="44" y="329"/>
                  <a:pt x="36" y="355"/>
                  <a:pt x="27" y="382"/>
                </a:cubicBezTo>
                <a:cubicBezTo>
                  <a:pt x="23" y="395"/>
                  <a:pt x="18" y="409"/>
                  <a:pt x="13" y="422"/>
                </a:cubicBezTo>
                <a:cubicBezTo>
                  <a:pt x="9" y="435"/>
                  <a:pt x="0" y="462"/>
                  <a:pt x="0" y="462"/>
                </a:cubicBezTo>
                <a:cubicBezTo>
                  <a:pt x="4" y="520"/>
                  <a:pt x="6" y="579"/>
                  <a:pt x="13" y="637"/>
                </a:cubicBezTo>
                <a:cubicBezTo>
                  <a:pt x="15" y="651"/>
                  <a:pt x="17" y="667"/>
                  <a:pt x="27" y="677"/>
                </a:cubicBezTo>
                <a:cubicBezTo>
                  <a:pt x="50" y="699"/>
                  <a:pt x="107" y="730"/>
                  <a:pt x="107" y="730"/>
                </a:cubicBezTo>
                <a:cubicBezTo>
                  <a:pt x="144" y="787"/>
                  <a:pt x="191" y="817"/>
                  <a:pt x="254" y="837"/>
                </a:cubicBezTo>
                <a:cubicBezTo>
                  <a:pt x="316" y="854"/>
                  <a:pt x="404" y="866"/>
                  <a:pt x="482" y="864"/>
                </a:cubicBezTo>
                <a:cubicBezTo>
                  <a:pt x="560" y="862"/>
                  <a:pt x="670" y="835"/>
                  <a:pt x="723" y="824"/>
                </a:cubicBezTo>
                <a:cubicBezTo>
                  <a:pt x="751" y="822"/>
                  <a:pt x="803" y="797"/>
                  <a:pt x="803" y="797"/>
                </a:cubicBezTo>
                <a:cubicBezTo>
                  <a:pt x="866" y="704"/>
                  <a:pt x="830" y="735"/>
                  <a:pt x="897" y="690"/>
                </a:cubicBezTo>
                <a:cubicBezTo>
                  <a:pt x="921" y="641"/>
                  <a:pt x="964" y="600"/>
                  <a:pt x="964" y="529"/>
                </a:cubicBezTo>
                <a:cubicBezTo>
                  <a:pt x="975" y="480"/>
                  <a:pt x="975" y="440"/>
                  <a:pt x="964" y="395"/>
                </a:cubicBezTo>
                <a:cubicBezTo>
                  <a:pt x="953" y="350"/>
                  <a:pt x="928" y="299"/>
                  <a:pt x="897" y="261"/>
                </a:cubicBezTo>
                <a:cubicBezTo>
                  <a:pt x="858" y="201"/>
                  <a:pt x="834" y="207"/>
                  <a:pt x="777" y="168"/>
                </a:cubicBezTo>
                <a:cubicBezTo>
                  <a:pt x="738" y="110"/>
                  <a:pt x="712" y="139"/>
                  <a:pt x="656" y="101"/>
                </a:cubicBezTo>
                <a:cubicBezTo>
                  <a:pt x="588" y="0"/>
                  <a:pt x="494" y="52"/>
                  <a:pt x="361" y="61"/>
                </a:cubicBezTo>
                <a:cubicBezTo>
                  <a:pt x="312" y="77"/>
                  <a:pt x="254" y="87"/>
                  <a:pt x="254" y="128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486400" y="4200480"/>
            <a:ext cx="457200" cy="457200"/>
          </a:xfrm>
          <a:custGeom>
            <a:avLst/>
            <a:gdLst/>
            <a:ahLst/>
            <a:rect l="l" t="t" r="r" b="b"/>
            <a:pathLst>
              <a:path w="975" h="866">
                <a:moveTo>
                  <a:pt x="254" y="128"/>
                </a:moveTo>
                <a:cubicBezTo>
                  <a:pt x="192" y="143"/>
                  <a:pt x="195" y="161"/>
                  <a:pt x="134" y="181"/>
                </a:cubicBezTo>
                <a:cubicBezTo>
                  <a:pt x="116" y="208"/>
                  <a:pt x="98" y="234"/>
                  <a:pt x="80" y="261"/>
                </a:cubicBezTo>
                <a:cubicBezTo>
                  <a:pt x="71" y="275"/>
                  <a:pt x="53" y="302"/>
                  <a:pt x="53" y="302"/>
                </a:cubicBezTo>
                <a:cubicBezTo>
                  <a:pt x="44" y="329"/>
                  <a:pt x="36" y="355"/>
                  <a:pt x="27" y="382"/>
                </a:cubicBezTo>
                <a:cubicBezTo>
                  <a:pt x="23" y="395"/>
                  <a:pt x="18" y="409"/>
                  <a:pt x="13" y="422"/>
                </a:cubicBezTo>
                <a:cubicBezTo>
                  <a:pt x="9" y="435"/>
                  <a:pt x="0" y="462"/>
                  <a:pt x="0" y="462"/>
                </a:cubicBezTo>
                <a:cubicBezTo>
                  <a:pt x="4" y="520"/>
                  <a:pt x="6" y="579"/>
                  <a:pt x="13" y="637"/>
                </a:cubicBezTo>
                <a:cubicBezTo>
                  <a:pt x="15" y="651"/>
                  <a:pt x="17" y="667"/>
                  <a:pt x="27" y="677"/>
                </a:cubicBezTo>
                <a:cubicBezTo>
                  <a:pt x="50" y="699"/>
                  <a:pt x="107" y="730"/>
                  <a:pt x="107" y="730"/>
                </a:cubicBezTo>
                <a:cubicBezTo>
                  <a:pt x="144" y="787"/>
                  <a:pt x="191" y="817"/>
                  <a:pt x="254" y="837"/>
                </a:cubicBezTo>
                <a:cubicBezTo>
                  <a:pt x="316" y="854"/>
                  <a:pt x="404" y="866"/>
                  <a:pt x="482" y="864"/>
                </a:cubicBezTo>
                <a:cubicBezTo>
                  <a:pt x="560" y="862"/>
                  <a:pt x="670" y="835"/>
                  <a:pt x="723" y="824"/>
                </a:cubicBezTo>
                <a:cubicBezTo>
                  <a:pt x="751" y="822"/>
                  <a:pt x="803" y="797"/>
                  <a:pt x="803" y="797"/>
                </a:cubicBezTo>
                <a:cubicBezTo>
                  <a:pt x="866" y="704"/>
                  <a:pt x="830" y="735"/>
                  <a:pt x="897" y="690"/>
                </a:cubicBezTo>
                <a:cubicBezTo>
                  <a:pt x="921" y="641"/>
                  <a:pt x="964" y="600"/>
                  <a:pt x="964" y="529"/>
                </a:cubicBezTo>
                <a:cubicBezTo>
                  <a:pt x="975" y="480"/>
                  <a:pt x="975" y="440"/>
                  <a:pt x="964" y="395"/>
                </a:cubicBezTo>
                <a:cubicBezTo>
                  <a:pt x="953" y="350"/>
                  <a:pt x="928" y="299"/>
                  <a:pt x="897" y="261"/>
                </a:cubicBezTo>
                <a:cubicBezTo>
                  <a:pt x="858" y="201"/>
                  <a:pt x="834" y="207"/>
                  <a:pt x="777" y="168"/>
                </a:cubicBezTo>
                <a:cubicBezTo>
                  <a:pt x="738" y="110"/>
                  <a:pt x="712" y="139"/>
                  <a:pt x="656" y="101"/>
                </a:cubicBezTo>
                <a:cubicBezTo>
                  <a:pt x="588" y="0"/>
                  <a:pt x="494" y="52"/>
                  <a:pt x="361" y="61"/>
                </a:cubicBezTo>
                <a:cubicBezTo>
                  <a:pt x="312" y="77"/>
                  <a:pt x="254" y="87"/>
                  <a:pt x="254" y="128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153280" y="4248000"/>
            <a:ext cx="533520" cy="457200"/>
          </a:xfrm>
          <a:prstGeom prst="irregularSeal2">
            <a:avLst/>
          </a:pr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153280" y="4361040"/>
            <a:ext cx="457200" cy="182520"/>
          </a:xfrm>
          <a:custGeom>
            <a:avLst/>
            <a:gdLst/>
            <a:ahLst/>
            <a:rect l="l" t="t" r="r" b="b"/>
            <a:pathLst>
              <a:path w="1703" h="963">
                <a:moveTo>
                  <a:pt x="724" y="0"/>
                </a:moveTo>
                <a:cubicBezTo>
                  <a:pt x="694" y="11"/>
                  <a:pt x="659" y="280"/>
                  <a:pt x="665" y="37"/>
                </a:cubicBezTo>
                <a:cubicBezTo>
                  <a:pt x="579" y="307"/>
                  <a:pt x="627" y="447"/>
                  <a:pt x="619" y="467"/>
                </a:cubicBezTo>
                <a:cubicBezTo>
                  <a:pt x="613" y="475"/>
                  <a:pt x="45" y="252"/>
                  <a:pt x="45" y="252"/>
                </a:cubicBezTo>
                <a:cubicBezTo>
                  <a:pt x="0" y="210"/>
                  <a:pt x="338" y="332"/>
                  <a:pt x="432" y="320"/>
                </a:cubicBezTo>
                <a:cubicBezTo>
                  <a:pt x="526" y="308"/>
                  <a:pt x="581" y="200"/>
                  <a:pt x="610" y="182"/>
                </a:cubicBezTo>
                <a:cubicBezTo>
                  <a:pt x="609" y="191"/>
                  <a:pt x="605" y="202"/>
                  <a:pt x="604" y="210"/>
                </a:cubicBezTo>
                <a:cubicBezTo>
                  <a:pt x="602" y="221"/>
                  <a:pt x="597" y="241"/>
                  <a:pt x="597" y="241"/>
                </a:cubicBezTo>
                <a:cubicBezTo>
                  <a:pt x="598" y="282"/>
                  <a:pt x="600" y="325"/>
                  <a:pt x="604" y="366"/>
                </a:cubicBezTo>
                <a:cubicBezTo>
                  <a:pt x="604" y="375"/>
                  <a:pt x="605" y="388"/>
                  <a:pt x="610" y="395"/>
                </a:cubicBezTo>
                <a:cubicBezTo>
                  <a:pt x="622" y="410"/>
                  <a:pt x="651" y="434"/>
                  <a:pt x="651" y="434"/>
                </a:cubicBezTo>
                <a:cubicBezTo>
                  <a:pt x="670" y="475"/>
                  <a:pt x="694" y="910"/>
                  <a:pt x="726" y="923"/>
                </a:cubicBezTo>
                <a:cubicBezTo>
                  <a:pt x="750" y="963"/>
                  <a:pt x="721" y="667"/>
                  <a:pt x="740" y="601"/>
                </a:cubicBezTo>
                <a:cubicBezTo>
                  <a:pt x="759" y="535"/>
                  <a:pt x="801" y="546"/>
                  <a:pt x="838" y="529"/>
                </a:cubicBezTo>
                <a:cubicBezTo>
                  <a:pt x="875" y="512"/>
                  <a:pt x="934" y="509"/>
                  <a:pt x="961" y="501"/>
                </a:cubicBezTo>
                <a:cubicBezTo>
                  <a:pt x="975" y="499"/>
                  <a:pt x="1000" y="481"/>
                  <a:pt x="1000" y="481"/>
                </a:cubicBezTo>
                <a:cubicBezTo>
                  <a:pt x="1033" y="414"/>
                  <a:pt x="1657" y="701"/>
                  <a:pt x="1691" y="668"/>
                </a:cubicBezTo>
                <a:cubicBezTo>
                  <a:pt x="1703" y="634"/>
                  <a:pt x="1183" y="367"/>
                  <a:pt x="1082" y="288"/>
                </a:cubicBezTo>
                <a:cubicBezTo>
                  <a:pt x="979" y="250"/>
                  <a:pt x="1092" y="416"/>
                  <a:pt x="1075" y="441"/>
                </a:cubicBezTo>
                <a:cubicBezTo>
                  <a:pt x="1058" y="466"/>
                  <a:pt x="990" y="446"/>
                  <a:pt x="981" y="441"/>
                </a:cubicBezTo>
                <a:cubicBezTo>
                  <a:pt x="960" y="397"/>
                  <a:pt x="1048" y="443"/>
                  <a:pt x="1021" y="414"/>
                </a:cubicBezTo>
                <a:cubicBezTo>
                  <a:pt x="1001" y="373"/>
                  <a:pt x="1008" y="400"/>
                  <a:pt x="981" y="374"/>
                </a:cubicBezTo>
                <a:cubicBezTo>
                  <a:pt x="947" y="300"/>
                  <a:pt x="873" y="354"/>
                  <a:pt x="807" y="360"/>
                </a:cubicBezTo>
                <a:cubicBezTo>
                  <a:pt x="781" y="373"/>
                  <a:pt x="673" y="347"/>
                  <a:pt x="724" y="0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930400" y="4241880"/>
            <a:ext cx="493920" cy="393480"/>
          </a:xfrm>
          <a:custGeom>
            <a:avLst/>
            <a:gdLst/>
            <a:ahLst/>
            <a:rect l="l" t="t" r="r" b="b"/>
            <a:pathLst>
              <a:path w="888" h="826">
                <a:moveTo>
                  <a:pt x="285" y="190"/>
                </a:moveTo>
                <a:cubicBezTo>
                  <a:pt x="230" y="205"/>
                  <a:pt x="173" y="109"/>
                  <a:pt x="119" y="129"/>
                </a:cubicBezTo>
                <a:cubicBezTo>
                  <a:pt x="103" y="156"/>
                  <a:pt x="87" y="181"/>
                  <a:pt x="71" y="208"/>
                </a:cubicBezTo>
                <a:cubicBezTo>
                  <a:pt x="63" y="222"/>
                  <a:pt x="125" y="297"/>
                  <a:pt x="125" y="297"/>
                </a:cubicBezTo>
                <a:cubicBezTo>
                  <a:pt x="117" y="324"/>
                  <a:pt x="32" y="302"/>
                  <a:pt x="24" y="329"/>
                </a:cubicBezTo>
                <a:cubicBezTo>
                  <a:pt x="20" y="342"/>
                  <a:pt x="16" y="356"/>
                  <a:pt x="12" y="369"/>
                </a:cubicBezTo>
                <a:cubicBezTo>
                  <a:pt x="8" y="382"/>
                  <a:pt x="0" y="409"/>
                  <a:pt x="0" y="409"/>
                </a:cubicBezTo>
                <a:cubicBezTo>
                  <a:pt x="4" y="467"/>
                  <a:pt x="158" y="440"/>
                  <a:pt x="165" y="498"/>
                </a:cubicBezTo>
                <a:cubicBezTo>
                  <a:pt x="166" y="511"/>
                  <a:pt x="15" y="613"/>
                  <a:pt x="24" y="623"/>
                </a:cubicBezTo>
                <a:cubicBezTo>
                  <a:pt x="44" y="645"/>
                  <a:pt x="95" y="676"/>
                  <a:pt x="95" y="676"/>
                </a:cubicBezTo>
                <a:cubicBezTo>
                  <a:pt x="128" y="733"/>
                  <a:pt x="203" y="733"/>
                  <a:pt x="259" y="753"/>
                </a:cubicBezTo>
                <a:cubicBezTo>
                  <a:pt x="285" y="672"/>
                  <a:pt x="387" y="826"/>
                  <a:pt x="427" y="810"/>
                </a:cubicBezTo>
                <a:cubicBezTo>
                  <a:pt x="474" y="799"/>
                  <a:pt x="499" y="700"/>
                  <a:pt x="540" y="686"/>
                </a:cubicBezTo>
                <a:cubicBezTo>
                  <a:pt x="565" y="684"/>
                  <a:pt x="674" y="726"/>
                  <a:pt x="674" y="726"/>
                </a:cubicBezTo>
                <a:cubicBezTo>
                  <a:pt x="729" y="633"/>
                  <a:pt x="682" y="597"/>
                  <a:pt x="741" y="552"/>
                </a:cubicBezTo>
                <a:cubicBezTo>
                  <a:pt x="762" y="504"/>
                  <a:pt x="835" y="511"/>
                  <a:pt x="854" y="476"/>
                </a:cubicBezTo>
                <a:cubicBezTo>
                  <a:pt x="873" y="441"/>
                  <a:pt x="888" y="374"/>
                  <a:pt x="854" y="342"/>
                </a:cubicBezTo>
                <a:cubicBezTo>
                  <a:pt x="820" y="310"/>
                  <a:pt x="674" y="322"/>
                  <a:pt x="647" y="284"/>
                </a:cubicBezTo>
                <a:cubicBezTo>
                  <a:pt x="612" y="225"/>
                  <a:pt x="739" y="155"/>
                  <a:pt x="689" y="116"/>
                </a:cubicBezTo>
                <a:cubicBezTo>
                  <a:pt x="654" y="58"/>
                  <a:pt x="563" y="148"/>
                  <a:pt x="513" y="110"/>
                </a:cubicBezTo>
                <a:cubicBezTo>
                  <a:pt x="453" y="9"/>
                  <a:pt x="438" y="0"/>
                  <a:pt x="320" y="9"/>
                </a:cubicBezTo>
                <a:cubicBezTo>
                  <a:pt x="276" y="25"/>
                  <a:pt x="285" y="149"/>
                  <a:pt x="285" y="190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4002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4048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10280" y="4048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29192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ồng cầ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696000" y="3014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ồng cầ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14600" y="260676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Ưu trươ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05520" y="263844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Đẳng trươ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77040" y="26668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hược trươ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147760" y="18288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ếu ngâm một tế bào vào một dung dịch bất kì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ì có những trường hợp nào xảy 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62320" y="5181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l 0,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453440" y="5114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l 0,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143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l 0,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2949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ồng cầ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153280" y="4248000"/>
            <a:ext cx="533520" cy="457200"/>
          </a:xfrm>
          <a:prstGeom prst="irregularSeal2">
            <a:avLst/>
          </a:pr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153280" y="4390920"/>
            <a:ext cx="457200" cy="182520"/>
          </a:xfrm>
          <a:custGeom>
            <a:avLst/>
            <a:gdLst/>
            <a:ahLst/>
            <a:rect l="l" t="t" r="r" b="b"/>
            <a:pathLst>
              <a:path w="1703" h="963">
                <a:moveTo>
                  <a:pt x="724" y="0"/>
                </a:moveTo>
                <a:cubicBezTo>
                  <a:pt x="694" y="11"/>
                  <a:pt x="659" y="280"/>
                  <a:pt x="665" y="37"/>
                </a:cubicBezTo>
                <a:cubicBezTo>
                  <a:pt x="579" y="307"/>
                  <a:pt x="627" y="447"/>
                  <a:pt x="619" y="467"/>
                </a:cubicBezTo>
                <a:cubicBezTo>
                  <a:pt x="613" y="475"/>
                  <a:pt x="45" y="252"/>
                  <a:pt x="45" y="252"/>
                </a:cubicBezTo>
                <a:cubicBezTo>
                  <a:pt x="0" y="210"/>
                  <a:pt x="338" y="332"/>
                  <a:pt x="432" y="320"/>
                </a:cubicBezTo>
                <a:cubicBezTo>
                  <a:pt x="526" y="308"/>
                  <a:pt x="581" y="200"/>
                  <a:pt x="610" y="182"/>
                </a:cubicBezTo>
                <a:cubicBezTo>
                  <a:pt x="609" y="191"/>
                  <a:pt x="605" y="202"/>
                  <a:pt x="604" y="210"/>
                </a:cubicBezTo>
                <a:cubicBezTo>
                  <a:pt x="602" y="221"/>
                  <a:pt x="597" y="241"/>
                  <a:pt x="597" y="241"/>
                </a:cubicBezTo>
                <a:cubicBezTo>
                  <a:pt x="598" y="282"/>
                  <a:pt x="600" y="325"/>
                  <a:pt x="604" y="366"/>
                </a:cubicBezTo>
                <a:cubicBezTo>
                  <a:pt x="604" y="375"/>
                  <a:pt x="605" y="388"/>
                  <a:pt x="610" y="395"/>
                </a:cubicBezTo>
                <a:cubicBezTo>
                  <a:pt x="622" y="410"/>
                  <a:pt x="651" y="434"/>
                  <a:pt x="651" y="434"/>
                </a:cubicBezTo>
                <a:cubicBezTo>
                  <a:pt x="670" y="475"/>
                  <a:pt x="694" y="910"/>
                  <a:pt x="726" y="923"/>
                </a:cubicBezTo>
                <a:cubicBezTo>
                  <a:pt x="750" y="963"/>
                  <a:pt x="721" y="667"/>
                  <a:pt x="740" y="601"/>
                </a:cubicBezTo>
                <a:cubicBezTo>
                  <a:pt x="759" y="535"/>
                  <a:pt x="801" y="546"/>
                  <a:pt x="838" y="529"/>
                </a:cubicBezTo>
                <a:cubicBezTo>
                  <a:pt x="875" y="512"/>
                  <a:pt x="934" y="509"/>
                  <a:pt x="961" y="501"/>
                </a:cubicBezTo>
                <a:cubicBezTo>
                  <a:pt x="975" y="499"/>
                  <a:pt x="1000" y="481"/>
                  <a:pt x="1000" y="481"/>
                </a:cubicBezTo>
                <a:cubicBezTo>
                  <a:pt x="1033" y="414"/>
                  <a:pt x="1657" y="701"/>
                  <a:pt x="1691" y="668"/>
                </a:cubicBezTo>
                <a:cubicBezTo>
                  <a:pt x="1703" y="634"/>
                  <a:pt x="1183" y="367"/>
                  <a:pt x="1082" y="288"/>
                </a:cubicBezTo>
                <a:cubicBezTo>
                  <a:pt x="979" y="250"/>
                  <a:pt x="1092" y="416"/>
                  <a:pt x="1075" y="441"/>
                </a:cubicBezTo>
                <a:cubicBezTo>
                  <a:pt x="1058" y="466"/>
                  <a:pt x="990" y="446"/>
                  <a:pt x="981" y="441"/>
                </a:cubicBezTo>
                <a:cubicBezTo>
                  <a:pt x="960" y="397"/>
                  <a:pt x="1048" y="443"/>
                  <a:pt x="1021" y="414"/>
                </a:cubicBezTo>
                <a:cubicBezTo>
                  <a:pt x="1001" y="373"/>
                  <a:pt x="1008" y="400"/>
                  <a:pt x="981" y="374"/>
                </a:cubicBezTo>
                <a:cubicBezTo>
                  <a:pt x="947" y="300"/>
                  <a:pt x="873" y="354"/>
                  <a:pt x="807" y="360"/>
                </a:cubicBezTo>
                <a:cubicBezTo>
                  <a:pt x="781" y="373"/>
                  <a:pt x="673" y="347"/>
                  <a:pt x="724" y="0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0.00624 C 0.0375 -0.0074 0.08142 -0.02105 0.10069 0.00624 C 0.11996 0.03352 0.1092 0.13109 0.10989 0.17086 C 0.11059 0.21063 0.10607 0.23306 0.10538 0.24531 E">
                                      <p:cBhvr>
                                        <p:cTn id="454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6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6.85834E-006 C 0.0519 -0.02828 0.10381 -0.05633 0.12326 -0.01553 C 0.1427 0.02528 0.11753 0.20265 0.11631 0.24554 E">
                                      <p:cBhvr>
                                        <p:cTn id="464" dur="5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6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1 C 0.05017 -0.02474 0.10035 -0.03885 0.12326 -0.01665 C 0.14618 0.00554 0.13767 0.07976 0.13733 0.12323 C 0.13698 0.16647 0.12378 0.2245 0.12101 0.24416 E">
                                      <p:cBhvr>
                                        <p:cTn id="474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81080" y="1676520"/>
            <a:ext cx="5867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38240" y="2286000"/>
            <a:ext cx="70106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ương thức vận chuyển thụ động là quá trìn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uếch tán các chất qua màng sinh chấ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362320" y="2133720"/>
            <a:ext cx="5029200" cy="1828800"/>
          </a:xfrm>
          <a:prstGeom prst="cloudCallout">
            <a:avLst>
              <a:gd name="adj1" fmla="val -23486"/>
              <a:gd name="adj2" fmla="val 17413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ận chuyển thụ động là gì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71800" y="28954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ột số hình thức vận chuyển các chất qua mà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o phương thức thụ độ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228600" y="190512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ó những con đường vận chuyển thụ động nà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38280" y="1266840"/>
            <a:ext cx="243864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goài tế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477120" y="1266840"/>
            <a:ext cx="213336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ế bào chấ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3186000"/>
            <a:ext cx="2514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ôtêin mà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86520" y="5186520"/>
            <a:ext cx="24382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ôtêin mà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6224760"/>
            <a:ext cx="251460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ớp kép photpholip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81080" y="1676520"/>
            <a:ext cx="5867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057400" y="2286000"/>
            <a:ext cx="6858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ác con đường vận chuyển thụ động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huếch tán trực tiế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qua lớp phôtpholipit ké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+Khuếch tán qua kênh Prôtêin xuyên mà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ang tính chọn lọ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71800" y="2514600"/>
            <a:ext cx="4114800" cy="1828800"/>
          </a:xfrm>
          <a:prstGeom prst="cloudCallout">
            <a:avLst>
              <a:gd name="adj1" fmla="val -88194"/>
              <a:gd name="adj2" fmla="val 20164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ơ chế khuếch tán và tốc độ vận chuyể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57400" y="228600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ơ chế khuếch tán: các chất vận chuyển từ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ơi có nồng độ cao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ồng độ thấp (do s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ênh lệch nồng độ giữa các chất trong v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goài màn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ốc độ vận chuyển tỉ lệ thuận với diện t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uếch tán và không đòi hỏi năng lượng, cù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ều građien nồng đ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VẬN CHUYỂN CHỦ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>
            <a:hlinkClick r:id="rId4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05120" y="16002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/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05120" y="2133720"/>
            <a:ext cx="6400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 Ở một số loài tảo biển,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ồng độ iôt trong tế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bào tảo cao gấp 1000 lần nồng độ iôt trong nướ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biể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Nhưng iôt vẫn được vận chuyển từ nướ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ển qua màng vào tế bào t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 Tại ống thận,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ồng độ Glucôzơ trong nướ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iểu thấp hơn trong má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Nhưng Glucôz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ẫn được thu hồi trở về má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5638680"/>
            <a:ext cx="7238880" cy="381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Giải thích như thế nào về các hiện tượng nà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5715000"/>
            <a:ext cx="7238880" cy="914400"/>
          </a:xfrm>
          <a:prstGeom prst="rect">
            <a:avLst/>
          </a:prstGeom>
          <a:solidFill>
            <a:srgbClr val="c5c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=&gt;Đó là nhờ sự vận chuyển chủ động (tích cự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của màng sinh chấ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095560" y="1066680"/>
            <a:ext cx="135252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144880" y="3009960"/>
            <a:ext cx="1298520" cy="1298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95560" y="3505320"/>
            <a:ext cx="320760" cy="320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295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229840" y="3870720"/>
            <a:ext cx="1999440" cy="1221840"/>
            <a:chOff x="2229840" y="3870720"/>
            <a:chExt cx="1999440" cy="1221840"/>
          </a:xfrm>
        </p:grpSpPr>
        <p:grpSp>
          <p:nvGrpSpPr>
            <p:cNvPr id="659" name=""/>
            <p:cNvGrpSpPr/>
            <p:nvPr/>
          </p:nvGrpSpPr>
          <p:grpSpPr>
            <a:xfrm>
              <a:off x="2229840" y="3870720"/>
              <a:ext cx="1358640" cy="883800"/>
              <a:chOff x="2229840" y="3870720"/>
              <a:chExt cx="1358640" cy="8838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2324160" y="4510080"/>
                <a:ext cx="1264320" cy="244440"/>
                <a:chOff x="2324160" y="4510080"/>
                <a:chExt cx="1264320" cy="2444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2324160" y="4510080"/>
                  <a:ext cx="126432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619" y="18867"/>
                      </a:moveTo>
                      <a:arcTo wR="10800" hR="10800" stAng="7900308" swAng="116307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619" y="18867"/>
                      </a:moveTo>
                      <a:arcTo wR="10800" hR="10800" stAng="7900308" swAng="11630749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414960" y="4557960"/>
                  <a:ext cx="128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"/>
              <p:cNvSpPr/>
              <p:nvPr/>
            </p:nvSpPr>
            <p:spPr>
              <a:xfrm flipV="1">
                <a:off x="2229840" y="3870360"/>
                <a:ext cx="1030320" cy="63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21" y="3009"/>
                    </a:moveTo>
                    <a:arcTo wR="10800" hR="10800" stAng="-8029852" swAng="668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21" y="3009"/>
                    </a:moveTo>
                    <a:arcTo wR="10800" hR="10800" stAng="-8029852" swAng="6688632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3238200" y="4238280"/>
                <a:ext cx="6408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2552760" y="4495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43480" y="4724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7" name=""/>
          <p:cNvSpPr txBox="1"/>
          <p:nvPr/>
        </p:nvSpPr>
        <p:spPr>
          <a:xfrm>
            <a:off x="380880" y="0"/>
            <a:ext cx="5496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99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ơ chế vận chuyển tích cực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6699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05240" y="1106640"/>
            <a:ext cx="137160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300560" y="3048120"/>
            <a:ext cx="1336680" cy="1298520"/>
            <a:chOff x="4300560" y="3048120"/>
            <a:chExt cx="1336680" cy="1298520"/>
          </a:xfrm>
        </p:grpSpPr>
        <p:grpSp>
          <p:nvGrpSpPr>
            <p:cNvPr id="670" name=""/>
            <p:cNvGrpSpPr/>
            <p:nvPr/>
          </p:nvGrpSpPr>
          <p:grpSpPr>
            <a:xfrm>
              <a:off x="4300560" y="3048120"/>
              <a:ext cx="1336680" cy="1298520"/>
              <a:chOff x="4300560" y="3048120"/>
              <a:chExt cx="1336680" cy="12985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38720" y="3048120"/>
                <a:ext cx="1298520" cy="129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00560" y="3543480"/>
                <a:ext cx="320400" cy="32040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4338720" y="3581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439520" y="3910320"/>
            <a:ext cx="1999440" cy="1221840"/>
            <a:chOff x="4439520" y="3910320"/>
            <a:chExt cx="1999440" cy="1221840"/>
          </a:xfrm>
        </p:grpSpPr>
        <p:grpSp>
          <p:nvGrpSpPr>
            <p:cNvPr id="675" name=""/>
            <p:cNvGrpSpPr/>
            <p:nvPr/>
          </p:nvGrpSpPr>
          <p:grpSpPr>
            <a:xfrm>
              <a:off x="4439520" y="3910320"/>
              <a:ext cx="1358640" cy="883800"/>
              <a:chOff x="4439520" y="3910320"/>
              <a:chExt cx="1358640" cy="8838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4533840" y="4549680"/>
                <a:ext cx="1264320" cy="244440"/>
                <a:chOff x="4533840" y="4549680"/>
                <a:chExt cx="1264320" cy="24444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4533840" y="4549680"/>
                  <a:ext cx="126432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619" y="18867"/>
                      </a:moveTo>
                      <a:arcTo wR="10800" hR="10800" stAng="7900308" swAng="116307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619" y="18867"/>
                      </a:moveTo>
                      <a:arcTo wR="10800" hR="10800" stAng="7900308" swAng="11630749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24640" y="4597560"/>
                  <a:ext cx="128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flipV="1">
                <a:off x="4439520" y="3909960"/>
                <a:ext cx="1030320" cy="63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21" y="3009"/>
                    </a:moveTo>
                    <a:arcTo wR="10800" hR="10800" stAng="-8029852" swAng="668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21" y="3009"/>
                    </a:moveTo>
                    <a:arcTo wR="10800" hR="10800" stAng="-8029852" swAng="6688632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5447880" y="4277880"/>
                <a:ext cx="6408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4762440" y="4535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53160" y="4763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372360" y="1117440"/>
            <a:ext cx="137160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400800" y="3048120"/>
            <a:ext cx="1298520" cy="1298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6522480" y="3921480"/>
            <a:ext cx="1998720" cy="1221840"/>
            <a:chOff x="6522480" y="3921480"/>
            <a:chExt cx="1998720" cy="1221840"/>
          </a:xfrm>
        </p:grpSpPr>
        <p:grpSp>
          <p:nvGrpSpPr>
            <p:cNvPr id="686" name=""/>
            <p:cNvGrpSpPr/>
            <p:nvPr/>
          </p:nvGrpSpPr>
          <p:grpSpPr>
            <a:xfrm>
              <a:off x="6522480" y="3921480"/>
              <a:ext cx="1358280" cy="883800"/>
              <a:chOff x="6522480" y="3921480"/>
              <a:chExt cx="1358280" cy="88380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616800" y="4560840"/>
                <a:ext cx="1263960" cy="244440"/>
                <a:chOff x="6616800" y="4560840"/>
                <a:chExt cx="1263960" cy="2444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616800" y="4560840"/>
                  <a:ext cx="126396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619" y="18867"/>
                      </a:moveTo>
                      <a:arcTo wR="10800" hR="10800" stAng="7900308" swAng="116307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619" y="18867"/>
                      </a:moveTo>
                      <a:arcTo wR="10800" hR="10800" stAng="7900308" swAng="11630749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707240" y="4608720"/>
                  <a:ext cx="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 flipV="1">
                <a:off x="6522480" y="3921120"/>
                <a:ext cx="1030320" cy="63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21" y="3009"/>
                    </a:moveTo>
                    <a:arcTo wR="10800" hR="10800" stAng="-8029852" swAng="668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21" y="3009"/>
                    </a:moveTo>
                    <a:arcTo wR="10800" hR="10800" stAng="-8029852" swAng="6688632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7530840" y="4289040"/>
                <a:ext cx="6408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6845040" y="45464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35760" y="477504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391520" y="3581280"/>
            <a:ext cx="320400" cy="3207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429680" y="36194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761760" y="2514600"/>
            <a:ext cx="609480" cy="45720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2058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ơ chấ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752120" y="4025880"/>
            <a:ext cx="76212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772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ôtêin mà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371600" y="5257800"/>
            <a:ext cx="137160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à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6324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ô tả cơ chế vận chuyển chủ độ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075 0.08889 E">
                                      <p:cBhvr>
                                        <p:cTn id="616" dur="5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20" dur="5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1666 3.33333E-006 E">
                                      <p:cBhvr>
                                        <p:cTn id="624" dur="10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. VẬN CHUYỂN CHỦ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1905120" y="17524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133720" y="266688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ế bào cần tiêu tốn năng lượng để vận chuyển nó ngược chiều građien nồng đ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362320" y="2362320"/>
            <a:ext cx="5333760" cy="2133360"/>
          </a:xfrm>
          <a:prstGeom prst="cloudCallout">
            <a:avLst>
              <a:gd name="adj1" fmla="val -38037"/>
              <a:gd name="adj2" fmla="val 10431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ận chuyển chủ động khác với thụ động như thế nà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886040" y="2133720"/>
            <a:ext cx="6629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ận chuyển chủ động là phương thức vận chuyển các chất qua mà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ừ nơi nồng độ chất tan thấp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ồng độ chất tan cao (ngược chiều građien nồng độ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ần tiêu tốn năng lượ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66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7400" y="1752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ột số con đường vận chuyển chủ độ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3200400" y="3200400"/>
          <a:ext cx="373392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200400"/>
                    <a:ext cx="3733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36" name="FOfficeDoc1"/>
          <p:cNvGraphicFramePr/>
          <p:nvPr/>
        </p:nvGraphicFramePr>
        <p:xfrm>
          <a:off x="533520" y="1066680"/>
          <a:ext cx="796608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7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6680"/>
                    <a:ext cx="79660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3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	</a:t>
            </a:r>
            <a:br>
              <a:rPr sz="2000"/>
            </a:br>
            <a:r>
              <a:rPr b="0" lang="en-US" sz="4000" spc="-1" strike="noStrike" u="sng">
                <a:solidFill>
                  <a:srgbClr val="0000cc"/>
                </a:solidFill>
                <a:uFillTx/>
                <a:latin typeface="VNI-Times"/>
              </a:rPr>
              <a:t>BAØI 18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         VẬN CHUYỂN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ÁC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 CHẤT    QUA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ÀNG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 SINH CHẤ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( Tieát 16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480060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/v : </a:t>
            </a:r>
            <a:r>
              <a:rPr b="1" i="1" lang="en-US" sz="2800" spc="-1" strike="noStrike">
                <a:solidFill>
                  <a:srgbClr val="ffffff"/>
                </a:solidFill>
                <a:latin typeface="VNI-Times"/>
              </a:rPr>
              <a:t>Đỗ Thò Thu Hieà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VẬN CHUYỂN CHỦ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05120" y="1676520"/>
            <a:ext cx="3886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981080" y="2286000"/>
            <a:ext cx="685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ận chuyển chủ động được thực hiện qua các kênh prôtêin xuyên mà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ỗi kênh prôtêin chỉ đặc hiệu vận chuyển một chất nhất địn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ó sự tham gia cung cấp năng lượng của AT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895480" y="2438280"/>
            <a:ext cx="4953240" cy="2590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ận chuyển chủ động thực hiện được nhờ vào đâ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9" dur="5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7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200400" y="2590920"/>
          <a:ext cx="3276720" cy="16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590920"/>
                    <a:ext cx="327672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8" name="FOfficeDoc1"/>
          <p:cNvGraphicFramePr/>
          <p:nvPr/>
        </p:nvGraphicFramePr>
        <p:xfrm>
          <a:off x="533520" y="457200"/>
          <a:ext cx="80010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9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2305080" y="2762280"/>
            <a:ext cx="6438960" cy="2400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ó những vật chất kích thước lớn, không phù hợp với vận chuyển thụ động và chủ động thì sẽ được vận chuyển qua màng bằng cách nà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2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2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3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1430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XUẤT BÀO, NHẬP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16765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362320" y="1856160"/>
            <a:ext cx="6545160" cy="3553920"/>
            <a:chOff x="2362320" y="1856160"/>
            <a:chExt cx="6545160" cy="3553920"/>
          </a:xfrm>
        </p:grpSpPr>
        <p:pic>
          <p:nvPicPr>
            <p:cNvPr id="798" name="" descr=""/>
            <p:cNvPicPr/>
            <p:nvPr/>
          </p:nvPicPr>
          <p:blipFill>
            <a:blip r:embed="rId8"/>
            <a:srcRect l="0" t="0" r="0" b="11819"/>
            <a:stretch/>
          </p:blipFill>
          <p:spPr>
            <a:xfrm>
              <a:off x="2362320" y="2209680"/>
              <a:ext cx="61768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523600" y="2345760"/>
              <a:ext cx="1255680" cy="395640"/>
            </a:xfrm>
            <a:prstGeom prst="rect">
              <a:avLst/>
            </a:prstGeom>
            <a:solidFill>
              <a:srgbClr val="c7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42680" y="4420080"/>
              <a:ext cx="1389240" cy="395640"/>
            </a:xfrm>
            <a:prstGeom prst="rect">
              <a:avLst/>
            </a:prstGeom>
            <a:solidFill>
              <a:srgbClr val="ffe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Gioït thöùc aê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02000" y="4923360"/>
              <a:ext cx="1329480" cy="395640"/>
            </a:xfrm>
            <a:prstGeom prst="rect">
              <a:avLst/>
            </a:prstGeom>
            <a:solidFill>
              <a:srgbClr val="ffe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Teá baøo chaá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68880" y="4947840"/>
              <a:ext cx="1625040" cy="395640"/>
            </a:xfrm>
            <a:prstGeom prst="rect">
              <a:avLst/>
            </a:prstGeom>
            <a:solidFill>
              <a:srgbClr val="ffe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Boùng nhaäp baø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11680" y="3496320"/>
              <a:ext cx="443160" cy="391320"/>
            </a:xfrm>
            <a:prstGeom prst="ellipse">
              <a:avLst/>
            </a:prstGeom>
            <a:solidFill>
              <a:srgbClr val="f7d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07600" y="3430440"/>
              <a:ext cx="443160" cy="391680"/>
            </a:xfrm>
            <a:prstGeom prst="ellipse">
              <a:avLst/>
            </a:prstGeom>
            <a:solidFill>
              <a:srgbClr val="f7d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643400">
              <a:off x="3575880" y="3543840"/>
              <a:ext cx="1327320" cy="15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 rot="3108600">
              <a:off x="5374440" y="3313440"/>
              <a:ext cx="1185480" cy="177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61760" y="2386800"/>
              <a:ext cx="147600" cy="527760"/>
            </a:xfrm>
            <a:custGeom>
              <a:avLst/>
              <a:gdLst/>
              <a:ahLst/>
              <a:rect l="l" t="t" r="r" b="b"/>
              <a:pathLst>
                <a:path w="96" h="384">
                  <a:moveTo>
                    <a:pt x="0" y="0"/>
                  </a:moveTo>
                  <a:lnTo>
                    <a:pt x="48" y="384"/>
                  </a:lnTo>
                  <a:lnTo>
                    <a:pt x="96" y="336"/>
                  </a:lnTo>
                  <a:lnTo>
                    <a:pt x="96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30960" y="2751480"/>
              <a:ext cx="407520" cy="314280"/>
            </a:xfrm>
            <a:custGeom>
              <a:avLst/>
              <a:gdLst/>
              <a:ahLst/>
              <a:rect l="l" t="t" r="r" b="b"/>
              <a:pathLst>
                <a:path w="265" h="229">
                  <a:moveTo>
                    <a:pt x="146" y="0"/>
                  </a:moveTo>
                  <a:lnTo>
                    <a:pt x="0" y="183"/>
                  </a:lnTo>
                  <a:lnTo>
                    <a:pt x="73" y="229"/>
                  </a:lnTo>
                  <a:lnTo>
                    <a:pt x="173" y="174"/>
                  </a:lnTo>
                  <a:lnTo>
                    <a:pt x="265" y="37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d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24800" y="2638440"/>
              <a:ext cx="393840" cy="452160"/>
            </a:xfrm>
            <a:custGeom>
              <a:avLst/>
              <a:gdLst/>
              <a:ahLst/>
              <a:rect l="l" t="t" r="r" b="b"/>
              <a:pathLst>
                <a:path w="256" h="329">
                  <a:moveTo>
                    <a:pt x="29" y="0"/>
                  </a:moveTo>
                  <a:lnTo>
                    <a:pt x="0" y="101"/>
                  </a:lnTo>
                  <a:lnTo>
                    <a:pt x="54" y="119"/>
                  </a:lnTo>
                  <a:lnTo>
                    <a:pt x="173" y="274"/>
                  </a:lnTo>
                  <a:lnTo>
                    <a:pt x="256" y="329"/>
                  </a:lnTo>
                  <a:lnTo>
                    <a:pt x="91" y="8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d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 rot="17410200">
              <a:off x="7067880" y="1831320"/>
              <a:ext cx="1185480" cy="177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 rot="19723800">
              <a:off x="7265520" y="2108160"/>
              <a:ext cx="1326600" cy="15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 rot="378600">
              <a:off x="7270920" y="2669040"/>
              <a:ext cx="1327320" cy="15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2286000" y="54100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ậy nhập bào là gì? Có mấy hình thức nhập bà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752480" y="57150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33720" y="54864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hập bào là phương thức tế bào đưa các chất vào bên trong bằng cách biến dạng màng sinh chấ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1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905120" y="11430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XUẤT BÀO, NHẬP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5120" y="16765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8"/>
          <a:stretch/>
        </p:blipFill>
        <p:spPr>
          <a:xfrm>
            <a:off x="4753080" y="1766880"/>
            <a:ext cx="4114800" cy="22017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9"/>
          <a:stretch/>
        </p:blipFill>
        <p:spPr>
          <a:xfrm>
            <a:off x="4800600" y="4114800"/>
            <a:ext cx="4043520" cy="244008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2057400" y="226692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+Thực bào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ất vận chuyển ở dạng rắ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057400" y="431496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+Ẩm bào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ất vận chuyển ở dạng lỏ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905120" y="11430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XUẤT BÀO, NHẬP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05120" y="16765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486160" y="2124000"/>
            <a:ext cx="5286240" cy="2981520"/>
            <a:chOff x="2486160" y="2124000"/>
            <a:chExt cx="5286240" cy="2981520"/>
          </a:xfrm>
        </p:grpSpPr>
        <p:pic>
          <p:nvPicPr>
            <p:cNvPr id="849" name="" descr=""/>
            <p:cNvPicPr/>
            <p:nvPr/>
          </p:nvPicPr>
          <p:blipFill>
            <a:blip r:embed="rId8"/>
            <a:srcRect l="0" t="0" r="0" b="11819"/>
            <a:stretch/>
          </p:blipFill>
          <p:spPr>
            <a:xfrm>
              <a:off x="2486160" y="2124000"/>
              <a:ext cx="528624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2624400" y="2250720"/>
              <a:ext cx="1074240" cy="368640"/>
            </a:xfrm>
            <a:prstGeom prst="rect">
              <a:avLst/>
            </a:prstGeom>
            <a:solidFill>
              <a:srgbClr val="c7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81040" y="4183200"/>
              <a:ext cx="884880" cy="368640"/>
            </a:xfrm>
            <a:prstGeom prst="rect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Chaát tieá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56600" y="4651920"/>
              <a:ext cx="1137600" cy="368640"/>
            </a:xfrm>
            <a:prstGeom prst="rect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Teá baøo chaá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17680" y="4674960"/>
              <a:ext cx="1390680" cy="368640"/>
            </a:xfrm>
            <a:prstGeom prst="rect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Boùng xuaát baø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2819520" y="5257800"/>
            <a:ext cx="4800600" cy="1143000"/>
          </a:xfrm>
          <a:prstGeom prst="cloudCallout">
            <a:avLst>
              <a:gd name="adj1" fmla="val -37402"/>
              <a:gd name="adj2" fmla="val 11138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ậy xuất bào là gì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>
            <a:hlinkClick r:id="rId4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>
            <a:hlinkClick r:id="rId5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>
            <a:hlinkClick r:id="rId6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>
            <a:hlinkClick r:id="rId7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>
            <a:hlinkClick r:id="rId8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>
            <a:hlinkClick r:id="rId9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>
            <a:hlinkClick r:id="rId10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905120" y="11430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XUẤT BÀO, NHẬP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905120" y="16765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28800" y="2144520"/>
            <a:ext cx="73152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uất bào là phương thức tế bào đưa các chất ra ngoài bằng cách biến dạng màng sinh chất (ngược lại với nhập bào)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3886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ơ chế xuất và nhập bào có gì khác so với vận chuyển qua mà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4120" y="36288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uất bào và nhập bào dựa trên cơ sở sự biến dạng của màng tế bào và tiêu thụ năng lượ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6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>
            <a:hlinkClick r:id="rId8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>
            <a:hlinkClick r:id="rId9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905120" y="1143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905120" y="1676520"/>
            <a:ext cx="7238880" cy="35398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8305920" y="1752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 3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952880" y="1676520"/>
            <a:ext cx="609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 2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819520" y="1752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 1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11430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hép 1 , 2 , 3 , cho thích hợ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05120" y="5181480"/>
            <a:ext cx="7238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Vận chuyển các chất nhờ kênh chuyên hó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Vận chuyển Gluco qua kênh màng (cần có năng lượ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Con đường vận chuyển các phân tử nhỏ ( như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y các ion nhỏ ( như 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15896400">
            <a:off x="2171520" y="1485720"/>
            <a:ext cx="533520" cy="6094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c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5896400">
            <a:off x="7657920" y="1562040"/>
            <a:ext cx="533520" cy="6094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c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rot="15896400">
            <a:off x="4305240" y="1637640"/>
            <a:ext cx="53316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c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>
            <a:hlinkClick r:id="rId12" action="ppaction://hlinksldjump"/>
          </p:cNvPr>
          <p:cNvSpPr/>
          <p:nvPr/>
        </p:nvSpPr>
        <p:spPr>
          <a:xfrm>
            <a:off x="8305920" y="6477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>
            <a:hlinkClick r:id="rId4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>
            <a:hlinkClick r:id="rId5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>
            <a:hlinkClick r:id="rId6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>
            <a:hlinkClick r:id="rId7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>
            <a:hlinkClick r:id="rId8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>
            <a:hlinkClick r:id="rId9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>
            <a:hlinkClick r:id="rId10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905120" y="13716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>
            <a:hlinkClick r:id="rId1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16765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NI-Times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Caâu 2: Ñieàu kieän xaûy ra cô cheá vaän chuyeån thuï ñoäng khoâng coù tính choïn loï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A.  Coù ATP, protein keânh vaän chuyeån ñaëc hieä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B.  Coù söï thaåm thaáu hoaëc khueách taù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C. Kích thöôùc cuûa chaát vaän chuyeån nhoû hôn ñöôøng kính loã maøng, coù protein ñaëc hieä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D. Kích thöôùc cuûa chaát vaän chuyeån nhoû hôn ñöôøng kính loã maøng, coù söï cheânh leäch veà noàng ñoä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600200" y="3962520"/>
            <a:ext cx="838080" cy="691920"/>
            <a:chOff x="1600200" y="3962520"/>
            <a:chExt cx="838080" cy="691920"/>
          </a:xfrm>
        </p:grpSpPr>
        <p:sp>
          <p:nvSpPr>
            <p:cNvPr id="911" name="">
              <a:hlinkClick r:id="rId12" action="ppaction://hlinksldjump"/>
            </p:cNvPr>
            <p:cNvSpPr/>
            <p:nvPr/>
          </p:nvSpPr>
          <p:spPr>
            <a:xfrm>
              <a:off x="1600200" y="3962520"/>
              <a:ext cx="838080" cy="691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09640" y="4267080"/>
              <a:ext cx="6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ĐÚ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ểm tra bài c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ựa vào hình vẽ em hãy nêu các thành phần cấu tạo của màng sinh chất và cho biết một số chức năng cơ bản của màng sinh chấ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905120" y="13716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534520" y="6477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1905120"/>
            <a:ext cx="6629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âu 3: Điều kiện xảy ra cơ chế vận chuyển thụ động có tính chọn lọ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 Có ATP, protein kênh vận chuyển đặc hiệ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 Có sự thẩm thấu hoặc khuếch tá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Kích thước của chất vận chuyển nhỏ hơn đường kính lỗ màng, có protein đặc hiệ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Kích thước của chất vận chuyển nhỏ hơn đường kính lỗ màng, có sự chênh lệch về nồng đ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981080" y="3505320"/>
            <a:ext cx="838440" cy="691920"/>
            <a:chOff x="1981080" y="3505320"/>
            <a:chExt cx="838440" cy="691920"/>
          </a:xfrm>
        </p:grpSpPr>
        <p:sp>
          <p:nvSpPr>
            <p:cNvPr id="929" name=""/>
            <p:cNvSpPr/>
            <p:nvPr/>
          </p:nvSpPr>
          <p:spPr>
            <a:xfrm>
              <a:off x="1981080" y="3505320"/>
              <a:ext cx="838440" cy="691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90520" y="3809880"/>
              <a:ext cx="65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ĐÚ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>
            <a:hlinkClick r:id="rId4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>
            <a:hlinkClick r:id="rId5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>
            <a:hlinkClick r:id="rId6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>
            <a:hlinkClick r:id="rId7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>
            <a:hlinkClick r:id="rId8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>
            <a:hlinkClick r:id="rId9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>
            <a:hlinkClick r:id="rId10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905120" y="1143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81080" y="160020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sánh cơ chế vận chuyển thụ động và vận chuyể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ủ độ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2590920"/>
            <a:ext cx="289548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ận chuyển thụ độ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2590920"/>
            <a:ext cx="289584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ận chuyển chủ độ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10080" y="25909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828800" y="327672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sự chênh lệch 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86400" y="327672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hu cầu của tế bà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828800" y="388620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ông cần năng lượ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86400" y="3886200"/>
            <a:ext cx="350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ần năng lượ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19440" y="451008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 chiều gradien 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396040" y="4586400"/>
            <a:ext cx="37479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ược chiều gradien 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5120" y="51814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ông cần chất m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495760" y="5229360"/>
            <a:ext cx="2428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ần chất m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886040" y="587700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ạt đến cân bằng 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510160" y="609588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ông đạt đến cân bằ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>
            <a:hlinkClick r:id="rId4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>
            <a:hlinkClick r:id="rId5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>
            <a:hlinkClick r:id="rId6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>
            <a:hlinkClick r:id="rId7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>
            <a:hlinkClick r:id="rId8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>
            <a:hlinkClick r:id="rId9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>
            <a:hlinkClick r:id="rId10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905120" y="1143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828800" y="1676520"/>
            <a:ext cx="7315200" cy="3657600"/>
          </a:xfrm>
          <a:prstGeom prst="cloudCallout">
            <a:avLst>
              <a:gd name="adj1" fmla="val -37888"/>
              <a:gd name="adj2" fmla="val 7000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ề nhà học bài, trả lời các câu hỏi ở cuối bài. Ôn lại kiến thức chương II tiết sau làm bài tậ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ấu trúc màng sinh chấ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990720"/>
            <a:ext cx="9144000" cy="5619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"/>
          <p:cNvSpPr/>
          <p:nvPr/>
        </p:nvSpPr>
        <p:spPr>
          <a:xfrm flipH="1">
            <a:off x="4676400" y="2038320"/>
            <a:ext cx="1390680" cy="1838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1752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733920" y="4952520"/>
            <a:ext cx="380880" cy="11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6019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638320" y="5438520"/>
            <a:ext cx="381240" cy="533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57913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85840" y="2209680"/>
            <a:ext cx="15264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9810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4572000"/>
            <a:ext cx="83808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5410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23880" y="1905120"/>
            <a:ext cx="76212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7524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1614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Photpholip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8672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Prôtêin xuyên mà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57150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Prôtêin bám mà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051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licôPrôtê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3341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Côlestêrô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1676520"/>
            <a:ext cx="167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Cacbohiđr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ức năng cơ bản của màng sinh chấ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o đổi chất với môi trường có chọn lọ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àng sinh chất có tính bán thấ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ếp nhận và truyền thông tin nhờ thụ th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hận biết các tế bào cùng cơ thể và tế bào lạ nhờ “Dấu chuẩn” là glicôPrôtêin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0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1905120" cy="563868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3356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3368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7188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81968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38480"/>
            <a:ext cx="19051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700360"/>
            <a:ext cx="1905120" cy="380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909960"/>
            <a:ext cx="1905120" cy="380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9084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26760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657760"/>
            <a:ext cx="1905120" cy="609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676520"/>
            <a:ext cx="4876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62520" y="990720"/>
            <a:ext cx="3276360" cy="4572000"/>
          </a:xfrm>
          <a:prstGeom prst="flowChartAlternateProcess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762120"/>
            <a:ext cx="84582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87720" y="20574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9051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6576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74320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3809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42670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8006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11480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4495680"/>
            <a:ext cx="15264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5181480"/>
            <a:ext cx="15264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35053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25146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30481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6576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4952880"/>
            <a:ext cx="15264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8006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4572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46483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1814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7339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27672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4382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8195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11480" y="257796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62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nh thể đồng sunp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1240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289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nh thể 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138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ước cấ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871640" y="3352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562360" y="1600200"/>
            <a:ext cx="1066680" cy="30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àng thấ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47920" y="685800"/>
            <a:ext cx="549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99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ện tượng khuếch tá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6699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022200" y="262872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60955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0" y="388584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Quan sát  nhận xét về màu nước trước và sau khi thí nghiệm </a:t>
            </a:r>
            <a:r>
              <a:rPr b="1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giải thích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429000"/>
            <a:ext cx="25909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ác tinh thể Cu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ên A đi qua màng thấm chọn lọc sang bên B. Còn các tinh thể KI bên B đi qua màng thấm chọn lọc sang bên 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79640" y="5746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4864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36576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Khuếch tán các chất tan từ nơi có nồng độ cao đến nơi có nồng độ thấ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5840" y="578340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1523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414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thẩm t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0.0333 L -0.21667 0.0333 E">
                                      <p:cBhvr>
                                        <p:cTn id="171" dur="9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6185E-006 L 0.25 0.02774 E">
                                      <p:cBhvr>
                                        <p:cTn id="173" dur="7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4093 L -0.17552 -0.04093 E">
                                      <p:cBhvr>
                                        <p:cTn id="175" dur="4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0.24167 0.01942 E">
                                      <p:cBhvr>
                                        <p:cTn id="177" dur="1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1.88627E-006 L 0.23333 1.88627E-006 E">
                                      <p:cBhvr>
                                        <p:cTn id="179" dur="7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6 -0.00647 L -0.28333 -0.0222 E">
                                      <p:cBhvr>
                                        <p:cTn id="181" dur="9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-0.10266 L 0.16666 -0.15815 E">
                                      <p:cBhvr>
                                        <p:cTn id="183" dur="10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4439 L 0.25 -0.06658 E">
                                      <p:cBhvr>
                                        <p:cTn id="185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6821E-007 L -0.26666 -3.46821E-007 E">
                                      <p:cBhvr>
                                        <p:cTn id="187" dur="9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8627E-006 L -0.20833 -0.03329 E">
                                      <p:cBhvr>
                                        <p:cTn id="189" dur="1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1109 L 0.14166 -0.05549 E">
                                      <p:cBhvr>
                                        <p:cTn id="191" dur="1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02497 L -0.14167 -0.02497 E">
                                      <p:cBhvr>
                                        <p:cTn id="193" dur="17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8120" y="0"/>
            <a:ext cx="4952880" cy="662940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0"/>
            <a:ext cx="2743200" cy="571500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0"/>
            <a:ext cx="8001000" cy="1600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8520" y="25909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3429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666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4419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5562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5562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6095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62485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5715000"/>
            <a:ext cx="0" cy="9144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30481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28195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3657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6080" y="3581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41911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44197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51814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48769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943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55627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5943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40384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64008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64008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41911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632448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2767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44956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50292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28195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7913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1055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60199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54100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617220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47920" y="228600"/>
            <a:ext cx="5495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99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ện tượng thẩm thấ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6699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098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hân tử đườ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29559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ung dịch đường 1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590920" y="3200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666880" y="38862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666880" y="43434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àng thấm chọn lọ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86400" y="5105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524640" y="3314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29718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ung dịch đường 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409896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hân tử nước tự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553080" y="4191120"/>
            <a:ext cx="609840" cy="55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553080" y="4503240"/>
            <a:ext cx="533520" cy="373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5627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imes New Roman"/>
              </a:rPr>
              <a:t>Hãy mô tả thí nghiệm và nhận xét mực nước giữa nhánh A và nhánh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4240" y="85680"/>
            <a:ext cx="53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1532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8120" y="0"/>
            <a:ext cx="4952880" cy="662940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0"/>
            <a:ext cx="2743200" cy="571500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0"/>
            <a:ext cx="8458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25909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78520" y="25909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3429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666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4419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5562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5562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6095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62485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715000"/>
            <a:ext cx="0" cy="9144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30481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91520" y="28195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657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96080" y="3581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41911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67480" y="44197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467480" y="51814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8769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5943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55627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5943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96080" y="40384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64008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64008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911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632448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2767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44956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50292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7600" y="28195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57913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51055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60199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54100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617220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447920" y="228600"/>
            <a:ext cx="549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99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ện tượng thẩm thấ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6699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52388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5053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895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ước nhánh A cao hơn nhánh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29718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362320"/>
            <a:ext cx="2743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-Nồng độ chất tan nhánh A lớn hơn nhánh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-Nước tự do nhánh B nhiều hơn nhánh A </a:t>
            </a:r>
            <a:r>
              <a:rPr b="1" lang="en-U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nước di chuyển từ B </a:t>
            </a:r>
            <a:r>
              <a:rPr b="1" lang="en-U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05740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ước được vận chuyển qua màng từ nơi có thế nước cao đến nơi có thế nước thấ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680" y="42051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&gt; thẩm thấ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81415E-006 L 3.33333E-006 -0.14424 E">
                                      <p:cBhvr>
                                        <p:cTn id="244" dur="20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81415E-006 L 3.61111E-006 0.14425 E">
                                      <p:cBhvr>
                                        <p:cTn id="246" dur="20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48" dur="20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0" dur="20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2" dur="20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4" dur="20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6" dur="20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8" dur="20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60" dur="20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62" dur="20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64" dur="20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66" dur="20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68" dur="20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70" dur="20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72" dur="20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74" dur="20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04583 0.05 E">
                                      <p:cBhvr>
                                        <p:cTn id="276" dur="20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025 0 E">
                                      <p:cBhvr>
                                        <p:cTn id="278" dur="20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0" dur="20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2" dur="20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4" dur="20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6" dur="20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8" dur="20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90" dur="20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92" dur="20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94" dur="20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08889 E">
                                      <p:cBhvr>
                                        <p:cTn id="296" dur="20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111 L -3.33333E-006 -0.12222 E">
                                      <p:cBhvr>
                                        <p:cTn id="298" dur="2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2222 E">
                                      <p:cBhvr>
                                        <p:cTn id="300" dur="2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02" dur="2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04" dur="2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06" dur="2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08" dur="20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10" dur="20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12" dur="20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14" dur="2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16" dur="2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18" dur="20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00417 -0.13889 E">
                                      <p:cBhvr>
                                        <p:cTn id="320" dur="20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22" dur="20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24" dur="2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26" dur="2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28" dur="2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30" dur="2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32" dur="2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334" dur="20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0555 L -0.0375 -0.02774 E">
                                      <p:cBhvr>
                                        <p:cTn id="336" dur="20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8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98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6:27:35Z</dcterms:created>
  <dc:creator>NamUyen</dc:creator>
  <dc:description/>
  <dc:language>en-US</dc:language>
  <cp:lastModifiedBy>Tran Thanh Danh</cp:lastModifiedBy>
  <dcterms:modified xsi:type="dcterms:W3CDTF">2011-12-15T13:18:35Z</dcterms:modified>
  <cp:revision>74</cp:revision>
  <dc:subject/>
  <dc:title>Slide 1</dc:title>
</cp:coreProperties>
</file>