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B4AB-B13C-4A0E-B9C1-6907FE1AB76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3FF1-09BA-485F-900F-73632274EAD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2FD-B62A-4BF3-B7A2-9D0E7968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829-2FB2-4271-99EC-2DF0364E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620-350B-46B2-8357-798192FF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C9A-B864-4E67-A60E-4850AACC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325-ACE3-4FDA-BBBF-8FAE1800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811-E3C1-4E07-83C8-880405E8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627-F030-427C-8497-63928CDE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F46-A093-4E92-B055-3198854B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96B-EB87-469D-B73C-52601274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849-FC7D-426D-AE48-ED773034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093-705C-4A3A-9DC3-8012482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E44-3700-4339-B999-9C7066D2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0D06-D07B-4BB0-8404-3D5FDCA0B9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sciechimiche.org/" TargetMode="External"/><Relationship Id="rId2" Type="http://schemas.openxmlformats.org/officeDocument/2006/relationships/hyperlink" Target="http://www.rense.com/politics6/chemdatapage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ERONET_Lille"/>
          <p:cNvPicPr/>
          <p:nvPr/>
        </p:nvPicPr>
        <p:blipFill>
          <a:blip r:embed="rId1"/>
          <a:stretch/>
        </p:blipFill>
        <p:spPr>
          <a:xfrm>
            <a:off x="182520" y="190440"/>
            <a:ext cx="8637480" cy="647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549360"/>
            <a:ext cx="31766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ια φυσιολογική μέρα πάνω από την Μάγχ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059-img"/>
          <p:cNvPicPr/>
          <p:nvPr/>
        </p:nvPicPr>
        <p:blipFill>
          <a:blip r:embed="rId1"/>
          <a:stretch/>
        </p:blipFill>
        <p:spPr>
          <a:xfrm>
            <a:off x="179280" y="189000"/>
            <a:ext cx="3051360" cy="2492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353803469_6cee081ce5"/>
          <p:cNvPicPr/>
          <p:nvPr/>
        </p:nvPicPr>
        <p:blipFill>
          <a:blip r:embed="rId2"/>
          <a:stretch/>
        </p:blipFill>
        <p:spPr>
          <a:xfrm>
            <a:off x="3348000" y="333360"/>
            <a:ext cx="4572000" cy="33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fakepic"/>
          <p:cNvPicPr/>
          <p:nvPr/>
        </p:nvPicPr>
        <p:blipFill>
          <a:blip r:embed="rId3"/>
          <a:stretch/>
        </p:blipFill>
        <p:spPr>
          <a:xfrm>
            <a:off x="250920" y="2924280"/>
            <a:ext cx="4681440" cy="301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353841591_2c14b3032b"/>
          <p:cNvPicPr/>
          <p:nvPr/>
        </p:nvPicPr>
        <p:blipFill>
          <a:blip r:embed="rId4"/>
          <a:stretch/>
        </p:blipFill>
        <p:spPr>
          <a:xfrm>
            <a:off x="5364000" y="3500280"/>
            <a:ext cx="3613320" cy="3249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6192720"/>
            <a:ext cx="60962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εροπλάνα που ψεκάζουν τις χημικές ουσί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6" descr="03"/>
          <p:cNvPicPr/>
          <p:nvPr/>
        </p:nvPicPr>
        <p:blipFill>
          <a:blip r:embed="rId1"/>
          <a:stretch/>
        </p:blipFill>
        <p:spPr>
          <a:xfrm>
            <a:off x="179280" y="662040"/>
            <a:ext cx="4897440" cy="2968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07"/>
          <p:cNvPicPr/>
          <p:nvPr/>
        </p:nvPicPr>
        <p:blipFill>
          <a:blip r:embed="rId2"/>
          <a:stretch/>
        </p:blipFill>
        <p:spPr>
          <a:xfrm>
            <a:off x="5111640" y="189000"/>
            <a:ext cx="4032360" cy="316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67a1dbda856ac4398706a17e6811024"/>
          <p:cNvPicPr/>
          <p:nvPr/>
        </p:nvPicPr>
        <p:blipFill>
          <a:blip r:embed="rId3"/>
          <a:stretch/>
        </p:blipFill>
        <p:spPr>
          <a:xfrm>
            <a:off x="4140360" y="3429000"/>
            <a:ext cx="500364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18352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Άλλα παραδείγ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5"/>
          <p:cNvPicPr/>
          <p:nvPr/>
        </p:nvPicPr>
        <p:blipFill>
          <a:blip r:embed="rId4"/>
          <a:stretch/>
        </p:blipFill>
        <p:spPr>
          <a:xfrm>
            <a:off x="314280" y="364500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5" descr="frparigi2004090812h1500ck5"/>
          <p:cNvPicPr/>
          <p:nvPr/>
        </p:nvPicPr>
        <p:blipFill>
          <a:blip r:embed="rId1"/>
          <a:stretch/>
        </p:blipFill>
        <p:spPr>
          <a:xfrm>
            <a:off x="3419640" y="3284640"/>
            <a:ext cx="5735520" cy="3162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hemtrails2"/>
          <p:cNvPicPr/>
          <p:nvPr/>
        </p:nvPicPr>
        <p:blipFill>
          <a:blip r:embed="rId2"/>
          <a:stretch/>
        </p:blipFill>
        <p:spPr>
          <a:xfrm>
            <a:off x="250920" y="260280"/>
            <a:ext cx="4825800" cy="320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direct to 3"/>
          <p:cNvPicPr/>
          <p:nvPr/>
        </p:nvPicPr>
        <p:blipFill>
          <a:blip r:embed="rId3"/>
          <a:stretch/>
        </p:blipFill>
        <p:spPr>
          <a:xfrm>
            <a:off x="5364000" y="260280"/>
            <a:ext cx="3438720" cy="316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direct to"/>
          <p:cNvPicPr/>
          <p:nvPr/>
        </p:nvPicPr>
        <p:blipFill>
          <a:blip r:embed="rId4"/>
          <a:stretch/>
        </p:blipFill>
        <p:spPr>
          <a:xfrm>
            <a:off x="250920" y="3716280"/>
            <a:ext cx="3744720" cy="2233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280" y="6087960"/>
            <a:ext cx="925056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Arial"/>
              </a:rPr>
              <a:t>Δεν είναι αεροσκάφη αερογραμμώ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Arial"/>
              </a:rPr>
              <a:t>Τα αεροσκάφη αερογραμμών δεν πετάνε σε σχηματισμούς , ούτε ακολουθούν τέτοιες πορείες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frquintfonsegrives20040pg1"/>
          <p:cNvPicPr/>
          <p:nvPr/>
        </p:nvPicPr>
        <p:blipFill>
          <a:blip r:embed="rId1"/>
          <a:stretch/>
        </p:blipFill>
        <p:spPr>
          <a:xfrm>
            <a:off x="0" y="0"/>
            <a:ext cx="4572000" cy="609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hem_interrupted_Colorado_99"/>
          <p:cNvPicPr/>
          <p:nvPr/>
        </p:nvPicPr>
        <p:blipFill>
          <a:blip r:embed="rId2"/>
          <a:stretch/>
        </p:blipFill>
        <p:spPr>
          <a:xfrm>
            <a:off x="3851280" y="3473280"/>
            <a:ext cx="5292720" cy="338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59280" y="476280"/>
            <a:ext cx="410544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Δεν κάνουν σχέδια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Δεν σβήνουν και επανεκκινούν τους κινητήρε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71680" y="571680"/>
            <a:ext cx="80643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Οι κυβερνήσεις , όταν ρωτήθηκαν από πολίτες ή οργανώσεις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γενικά αγνόησαν το ερώτημα ( Ιταλία , Γαλλία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όταν απάντησαν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έδωσαν αόριστες απαντήσεις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όπω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ότι είναι μέρος των ερευνών για το φαινόμενο του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θερμοκηπίου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(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ότι είναι μέρος των ερευνών για  την αντιμετώπιση της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         τρομοκρατία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Γερμανία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την πραγματικότητα ερευνούν τον τρόπο ελέγχου  του κλίματος  κατά βούληση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tanzaorroriih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443560"/>
            <a:ext cx="237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Παρεμπόδιση βροχής πάνω από την Αδριατικ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van_chem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2376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Προσπάθεια ελέγχου ενός κυκλώ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4"/>
          <p:cNvSpPr/>
          <p:nvPr/>
        </p:nvSpPr>
        <p:spPr>
          <a:xfrm flipH="1">
            <a:off x="1116000" y="2708280"/>
            <a:ext cx="1170000" cy="792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5"/>
          <p:cNvSpPr/>
          <p:nvPr/>
        </p:nvSpPr>
        <p:spPr>
          <a:xfrm flipH="1">
            <a:off x="4356000" y="2565360"/>
            <a:ext cx="720720" cy="13683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6"/>
          <p:cNvSpPr/>
          <p:nvPr/>
        </p:nvSpPr>
        <p:spPr>
          <a:xfrm flipH="1">
            <a:off x="2842560" y="3429000"/>
            <a:ext cx="649080" cy="11523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00" y="333360"/>
          <a:ext cx="8569080" cy="6335280"/>
        </p:xfrm>
        <a:graphic>
          <a:graphicData uri="http://schemas.openxmlformats.org/drawingml/2006/table">
            <a:tbl>
              <a:tblPr/>
              <a:tblGrid>
                <a:gridCol w="1008000"/>
                <a:gridCol w="7561080"/>
              </a:tblGrid>
              <a:tr h="1377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Η ικανότητα ελέγχου του κλίματος ισοδυναμεί με την κατοχή ενός όπλου μαζικής καταστροφής απείρως πιο ισχυρού και αποτελεσματικού από τα πυρηνικά όπλα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α πυρηνικά όπλα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ταστρέφουν και μολύνουν με ακτινοβολία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α πάντα στην περιοχή δράσης τους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: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α έμβια όντα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ο έδαφος και τις πλουτοπαραγωγικές πηγές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ετρέλαιο , μεταλλεύματα κλπ.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η ξηρασία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οι πλημμύρες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οι κυκλώνες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ταστρέφουν «μόνο»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α έμβια όντα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αλλά αφήνουν ανέγγιχτες τις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λουτοπαραγωγικές πηγές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στην διάθεση των « κυρίαρχων του κλίματος 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επίσης , μπορούν να χρησιμοποιηθούν χωρίς την συγκατάθεση της κοινής γνώμης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η δράση του όπλου δεν μπορεί να διακριθεί από μια φυσική καταστροφή ) . Αν πχ. ξηρασία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λήξει μια περιοχή , αυτή θα αποδοθεί σε φυσικά αίτια και όχι σε ένα κράτος που θέλει να οικειοποιηθεί τον πλούτο της περιοχής αυτής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416530522097tn"/>
          <p:cNvPicPr/>
          <p:nvPr/>
        </p:nvPicPr>
        <p:blipFill>
          <a:blip r:embed="rId1"/>
          <a:stretch/>
        </p:blipFill>
        <p:spPr>
          <a:xfrm>
            <a:off x="2428920" y="857160"/>
            <a:ext cx="3900600" cy="2927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rparigi2005052607h4000wy8"/>
          <p:cNvPicPr/>
          <p:nvPr/>
        </p:nvPicPr>
        <p:blipFill>
          <a:blip r:embed="rId2"/>
          <a:stretch/>
        </p:blipFill>
        <p:spPr>
          <a:xfrm>
            <a:off x="293760" y="3716280"/>
            <a:ext cx="4062240" cy="271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lasvegas20050611kira6od"/>
          <p:cNvPicPr/>
          <p:nvPr/>
        </p:nvPicPr>
        <p:blipFill>
          <a:blip r:embed="rId3"/>
          <a:stretch/>
        </p:blipFill>
        <p:spPr>
          <a:xfrm>
            <a:off x="4643280" y="3454560"/>
            <a:ext cx="4286520" cy="321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heshireengland20041130ua8"/>
          <p:cNvPicPr/>
          <p:nvPr/>
        </p:nvPicPr>
        <p:blipFill>
          <a:blip r:embed="rId4"/>
          <a:stretch/>
        </p:blipFill>
        <p:spPr>
          <a:xfrm>
            <a:off x="6227640" y="189000"/>
            <a:ext cx="2916360" cy="2808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0" y="620640"/>
            <a:ext cx="241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ικόνες από το έδαφος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λίγο μετά  τον ψεκασμό  των χημικών ουσιών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1" descr="photo-20060103ccc"/>
          <p:cNvPicPr/>
          <p:nvPr/>
        </p:nvPicPr>
        <p:blipFill>
          <a:blip r:embed="rId1"/>
          <a:stretch/>
        </p:blipFill>
        <p:spPr>
          <a:xfrm>
            <a:off x="250920" y="2421000"/>
            <a:ext cx="2809800" cy="423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369035000109"/>
          <p:cNvPicPr/>
          <p:nvPr/>
        </p:nvPicPr>
        <p:blipFill>
          <a:blip r:embed="rId2"/>
          <a:stretch/>
        </p:blipFill>
        <p:spPr>
          <a:xfrm>
            <a:off x="179280" y="1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2268360" y="333360"/>
            <a:ext cx="6661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την συνέχεια ο άνεμος τα διασκορπίζει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ι σε λίγες ώρες ( 3 - 4 ) …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17022007419ni8"/>
          <p:cNvPicPr/>
          <p:nvPr/>
        </p:nvPicPr>
        <p:blipFill>
          <a:blip r:embed="rId3"/>
          <a:stretch/>
        </p:blipFill>
        <p:spPr>
          <a:xfrm>
            <a:off x="3132000" y="1197000"/>
            <a:ext cx="5185080" cy="244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cielooscuratoja3"/>
          <p:cNvPicPr/>
          <p:nvPr/>
        </p:nvPicPr>
        <p:blipFill>
          <a:blip r:embed="rId4"/>
          <a:stretch/>
        </p:blipFill>
        <p:spPr>
          <a:xfrm>
            <a:off x="5435640" y="3691080"/>
            <a:ext cx="3708360" cy="2977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986200" y="4869000"/>
            <a:ext cx="2514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. σχηματίζονται τεχνητά σύννεφα από σκόνη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ου κρύβουν τον ήλι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AERONET_Rome_Tor_Vergata"/>
          <p:cNvPicPr/>
          <p:nvPr/>
        </p:nvPicPr>
        <p:blipFill>
          <a:blip r:embed="rId1"/>
          <a:stretch/>
        </p:blipFill>
        <p:spPr>
          <a:xfrm>
            <a:off x="255600" y="190440"/>
            <a:ext cx="8637480" cy="647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824120" y="404640"/>
          <a:ext cx="2033640" cy="1024200"/>
        </p:xfrm>
        <a:graphic>
          <a:graphicData uri="http://schemas.openxmlformats.org/drawingml/2006/table">
            <a:tbl>
              <a:tblPr/>
              <a:tblGrid>
                <a:gridCol w="2033640"/>
              </a:tblGrid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ι  την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Ιταλ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353801933_5bae8f50e6"/>
          <p:cNvPicPr/>
          <p:nvPr/>
        </p:nvPicPr>
        <p:blipFill>
          <a:blip r:embed="rId1"/>
          <a:stretch/>
        </p:blipFill>
        <p:spPr>
          <a:xfrm>
            <a:off x="3348000" y="2781360"/>
            <a:ext cx="5629320" cy="3897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5867280" y="47628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Τα τεχνητά σύννεφα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ιριδίζουν εξαιτίας της σκόνης που τα δημιούργησ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1gg8"/>
          <p:cNvPicPr/>
          <p:nvPr/>
        </p:nvPicPr>
        <p:blipFill>
          <a:blip r:embed="rId2"/>
          <a:stretch/>
        </p:blipFill>
        <p:spPr>
          <a:xfrm>
            <a:off x="0" y="0"/>
            <a:ext cx="5576760" cy="364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photo-20060124i"/>
          <p:cNvPicPr/>
          <p:nvPr/>
        </p:nvPicPr>
        <p:blipFill>
          <a:blip r:embed="rId3"/>
          <a:stretch/>
        </p:blipFill>
        <p:spPr>
          <a:xfrm>
            <a:off x="179280" y="2421000"/>
            <a:ext cx="318132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398-img"/>
          <p:cNvPicPr/>
          <p:nvPr/>
        </p:nvPicPr>
        <p:blipFill>
          <a:blip r:embed="rId1"/>
          <a:stretch/>
        </p:blipFill>
        <p:spPr>
          <a:xfrm>
            <a:off x="179280" y="189000"/>
            <a:ext cx="44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353803467_4783621658"/>
          <p:cNvPicPr/>
          <p:nvPr/>
        </p:nvPicPr>
        <p:blipFill>
          <a:blip r:embed="rId2"/>
          <a:stretch/>
        </p:blipFill>
        <p:spPr>
          <a:xfrm>
            <a:off x="539640" y="3357720"/>
            <a:ext cx="4280040" cy="33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353803456_69dd7b4647"/>
          <p:cNvPicPr/>
          <p:nvPr/>
        </p:nvPicPr>
        <p:blipFill>
          <a:blip r:embed="rId3"/>
          <a:stretch/>
        </p:blipFill>
        <p:spPr>
          <a:xfrm>
            <a:off x="5003640" y="981000"/>
            <a:ext cx="38894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250920" y="2919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Έχουν σχήμα και σύσταση διαφορετική από τα φυσικά σύννεφα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0024640x480"/>
          <p:cNvPicPr/>
          <p:nvPr/>
        </p:nvPicPr>
        <p:blipFill>
          <a:blip r:embed="rId1"/>
          <a:stretch/>
        </p:blipFill>
        <p:spPr>
          <a:xfrm>
            <a:off x="324000" y="1266840"/>
            <a:ext cx="3743280" cy="244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630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292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0622"/>
          <p:cNvPicPr/>
          <p:nvPr/>
        </p:nvPicPr>
        <p:blipFill>
          <a:blip r:embed="rId3"/>
          <a:stretch/>
        </p:blipFill>
        <p:spPr>
          <a:xfrm>
            <a:off x="4572000" y="3500280"/>
            <a:ext cx="4381560" cy="292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aparcowh6"/>
          <p:cNvPicPr/>
          <p:nvPr/>
        </p:nvPicPr>
        <p:blipFill>
          <a:blip r:embed="rId4"/>
          <a:stretch/>
        </p:blipFill>
        <p:spPr>
          <a:xfrm>
            <a:off x="250920" y="4149720"/>
            <a:ext cx="417672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hoto-20061218-01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4406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nube"/>
          <p:cNvPicPr/>
          <p:nvPr/>
        </p:nvPicPr>
        <p:blipFill>
          <a:blip r:embed="rId2"/>
          <a:stretch/>
        </p:blipFill>
        <p:spPr>
          <a:xfrm>
            <a:off x="5219640" y="1916280"/>
            <a:ext cx="3924360" cy="4176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250920" y="5157720"/>
            <a:ext cx="48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νάλογα με τις ουσίες που χρησιμοποιούνται για την παραγωγή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294301762_3fb8e074a2"/>
          <p:cNvPicPr/>
          <p:nvPr/>
        </p:nvPicPr>
        <p:blipFill>
          <a:blip r:embed="rId1"/>
          <a:stretch/>
        </p:blipFill>
        <p:spPr>
          <a:xfrm>
            <a:off x="4356000" y="4149720"/>
            <a:ext cx="4788000" cy="2612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294303057_e970d909b4"/>
          <p:cNvPicPr/>
          <p:nvPr/>
        </p:nvPicPr>
        <p:blipFill>
          <a:blip r:embed="rId2"/>
          <a:stretch/>
        </p:blipFill>
        <p:spPr>
          <a:xfrm>
            <a:off x="4572000" y="189000"/>
            <a:ext cx="4572000" cy="2519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294657884_0ee1d83baf"/>
          <p:cNvPicPr/>
          <p:nvPr/>
        </p:nvPicPr>
        <p:blipFill>
          <a:blip r:embed="rId3"/>
          <a:stretch/>
        </p:blipFill>
        <p:spPr>
          <a:xfrm>
            <a:off x="179280" y="3357720"/>
            <a:ext cx="4176720" cy="331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294309678_82ff9498e8"/>
          <p:cNvPicPr/>
          <p:nvPr/>
        </p:nvPicPr>
        <p:blipFill>
          <a:blip r:embed="rId4"/>
          <a:stretch/>
        </p:blipFill>
        <p:spPr>
          <a:xfrm>
            <a:off x="395280" y="260280"/>
            <a:ext cx="4248000" cy="3079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4500720" y="2708280"/>
            <a:ext cx="4535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ι της επεξεργασίας στην οποία υποβάλλοντ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ύννεφα βομβαρδισμένα με μικροκύματα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– Pr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ect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H.A.A.R.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photo-20060324-02"/>
          <p:cNvPicPr/>
          <p:nvPr/>
        </p:nvPicPr>
        <p:blipFill>
          <a:blip r:embed="rId1"/>
          <a:stretch/>
        </p:blipFill>
        <p:spPr>
          <a:xfrm>
            <a:off x="179280" y="189000"/>
            <a:ext cx="4238640" cy="309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hoto-20061218-05"/>
          <p:cNvPicPr/>
          <p:nvPr/>
        </p:nvPicPr>
        <p:blipFill>
          <a:blip r:embed="rId2"/>
          <a:stretch/>
        </p:blipFill>
        <p:spPr>
          <a:xfrm>
            <a:off x="3924360" y="2708280"/>
            <a:ext cx="5087880" cy="396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photo-20070331-08"/>
          <p:cNvPicPr/>
          <p:nvPr/>
        </p:nvPicPr>
        <p:blipFill>
          <a:blip r:embed="rId3"/>
          <a:stretch/>
        </p:blipFill>
        <p:spPr>
          <a:xfrm>
            <a:off x="4859280" y="189000"/>
            <a:ext cx="4143600" cy="310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photo-20060307-15"/>
          <p:cNvPicPr/>
          <p:nvPr/>
        </p:nvPicPr>
        <p:blipFill>
          <a:blip r:embed="rId4"/>
          <a:stretch/>
        </p:blipFill>
        <p:spPr>
          <a:xfrm>
            <a:off x="179280" y="342900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cloud_waves062406_2"/>
          <p:cNvPicPr/>
          <p:nvPr/>
        </p:nvPicPr>
        <p:blipFill>
          <a:blip r:embed="rId1"/>
          <a:stretch/>
        </p:blipFill>
        <p:spPr>
          <a:xfrm>
            <a:off x="179280" y="189000"/>
            <a:ext cx="5400720" cy="4032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kcrg_weather_pciclouds"/>
          <p:cNvPicPr/>
          <p:nvPr/>
        </p:nvPicPr>
        <p:blipFill>
          <a:blip r:embed="rId2"/>
          <a:stretch/>
        </p:blipFill>
        <p:spPr>
          <a:xfrm>
            <a:off x="3851280" y="3213000"/>
            <a:ext cx="501480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mam4"/>
          <p:cNvPicPr/>
          <p:nvPr/>
        </p:nvPicPr>
        <p:blipFill>
          <a:blip r:embed="rId1"/>
          <a:stretch/>
        </p:blipFill>
        <p:spPr>
          <a:xfrm>
            <a:off x="250920" y="189000"/>
            <a:ext cx="4286160" cy="3152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mam3"/>
          <p:cNvPicPr/>
          <p:nvPr/>
        </p:nvPicPr>
        <p:blipFill>
          <a:blip r:embed="rId2"/>
          <a:stretch/>
        </p:blipFill>
        <p:spPr>
          <a:xfrm>
            <a:off x="3429000" y="1413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hoto-20050531e"/>
          <p:cNvPicPr/>
          <p:nvPr/>
        </p:nvPicPr>
        <p:blipFill>
          <a:blip r:embed="rId3"/>
          <a:stretch/>
        </p:blipFill>
        <p:spPr>
          <a:xfrm>
            <a:off x="179280" y="3500280"/>
            <a:ext cx="4238640" cy="31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111200cloud1"/>
          <p:cNvPicPr/>
          <p:nvPr/>
        </p:nvPicPr>
        <p:blipFill>
          <a:blip r:embed="rId1"/>
          <a:stretch/>
        </p:blipFill>
        <p:spPr>
          <a:xfrm>
            <a:off x="179280" y="1341360"/>
            <a:ext cx="4610160" cy="44769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395280" y="333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ύννεφα με τρύπε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DSCN3325"/>
          <p:cNvPicPr/>
          <p:nvPr/>
        </p:nvPicPr>
        <p:blipFill>
          <a:blip r:embed="rId2"/>
          <a:stretch/>
        </p:blipFill>
        <p:spPr>
          <a:xfrm>
            <a:off x="4500720" y="907920"/>
            <a:ext cx="4238640" cy="3181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gall_5_circles_1small"/>
          <p:cNvPicPr/>
          <p:nvPr/>
        </p:nvPicPr>
        <p:blipFill>
          <a:blip r:embed="rId3"/>
          <a:stretch/>
        </p:blipFill>
        <p:spPr>
          <a:xfrm>
            <a:off x="4932360" y="4221000"/>
            <a:ext cx="4032360" cy="24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photo-20061005-11"/>
          <p:cNvPicPr/>
          <p:nvPr/>
        </p:nvPicPr>
        <p:blipFill>
          <a:blip r:embed="rId1"/>
          <a:stretch/>
        </p:blipFill>
        <p:spPr>
          <a:xfrm>
            <a:off x="0" y="3619440"/>
            <a:ext cx="5880240" cy="3238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gall_5_2smalljpg"/>
          <p:cNvPicPr/>
          <p:nvPr/>
        </p:nvPicPr>
        <p:blipFill>
          <a:blip r:embed="rId2"/>
          <a:stretch/>
        </p:blipFill>
        <p:spPr>
          <a:xfrm>
            <a:off x="179280" y="18900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all_5_holepunch_001"/>
          <p:cNvPicPr/>
          <p:nvPr/>
        </p:nvPicPr>
        <p:blipFill>
          <a:blip r:embed="rId3"/>
          <a:stretch/>
        </p:blipFill>
        <p:spPr>
          <a:xfrm>
            <a:off x="1763640" y="177336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gall_5_image005"/>
          <p:cNvPicPr/>
          <p:nvPr/>
        </p:nvPicPr>
        <p:blipFill>
          <a:blip r:embed="rId4"/>
          <a:stretch/>
        </p:blipFill>
        <p:spPr>
          <a:xfrm>
            <a:off x="3348000" y="260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gall_5_holepunch2"/>
          <p:cNvPicPr/>
          <p:nvPr/>
        </p:nvPicPr>
        <p:blipFill>
          <a:blip r:embed="rId5"/>
          <a:stretch/>
        </p:blipFill>
        <p:spPr>
          <a:xfrm>
            <a:off x="6084720" y="260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gall_5_strangecircle3"/>
          <p:cNvPicPr/>
          <p:nvPr/>
        </p:nvPicPr>
        <p:blipFill>
          <a:blip r:embed="rId6"/>
          <a:stretch/>
        </p:blipFill>
        <p:spPr>
          <a:xfrm>
            <a:off x="5076720" y="2637000"/>
            <a:ext cx="3810240" cy="25905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222960" y="5589720"/>
            <a:ext cx="25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..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πό τις οποίες τι πέφτει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asa01720031209francecq8"/>
          <p:cNvPicPr/>
          <p:nvPr/>
        </p:nvPicPr>
        <p:blipFill>
          <a:blip r:embed="rId1"/>
          <a:stretch/>
        </p:blipFill>
        <p:spPr>
          <a:xfrm>
            <a:off x="250920" y="192240"/>
            <a:ext cx="8637480" cy="647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7358040" y="4929120"/>
            <a:ext cx="1219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cc00"/>
                </a:solidFill>
                <a:latin typeface="Arial"/>
              </a:rPr>
              <a:t>Γαλλ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 flipH="1">
            <a:off x="1785240" y="135720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cc00"/>
                </a:solidFill>
                <a:latin typeface="Arial"/>
              </a:rPr>
              <a:t>Αγγλ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 flipH="1">
            <a:off x="2629800" y="6165720"/>
            <a:ext cx="237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cc00"/>
                </a:solidFill>
                <a:latin typeface="Arial"/>
              </a:rPr>
              <a:t>Χημικά  ίχ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 flipH="1" flipV="1">
            <a:off x="3418920" y="5445000"/>
            <a:ext cx="431640" cy="648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 flipV="1">
            <a:off x="2124000" y="5373720"/>
            <a:ext cx="1224000" cy="792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7"/>
          <p:cNvSpPr/>
          <p:nvPr/>
        </p:nvSpPr>
        <p:spPr>
          <a:xfrm rot="17200200">
            <a:off x="2273040" y="582480"/>
            <a:ext cx="5680080" cy="467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7118000">
            <a:off x="-549720" y="3648600"/>
            <a:ext cx="4316400" cy="158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43760" y="285840"/>
            <a:ext cx="281916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c00"/>
                </a:solidFill>
                <a:latin typeface="Arial"/>
              </a:rPr>
              <a:t>Πειράματα ελέγχου του κλίματος πάνω από την Μάγχ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106709835_8cbcce5cf8_m"/>
          <p:cNvPicPr/>
          <p:nvPr/>
        </p:nvPicPr>
        <p:blipFill>
          <a:blip r:embed="rId1"/>
          <a:stretch/>
        </p:blipFill>
        <p:spPr>
          <a:xfrm>
            <a:off x="179280" y="260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106709838_f02e90d143_m"/>
          <p:cNvPicPr/>
          <p:nvPr/>
        </p:nvPicPr>
        <p:blipFill>
          <a:blip r:embed="rId2"/>
          <a:stretch/>
        </p:blipFill>
        <p:spPr>
          <a:xfrm>
            <a:off x="320364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gall_5_cloud_tail"/>
          <p:cNvPicPr/>
          <p:nvPr/>
        </p:nvPicPr>
        <p:blipFill>
          <a:blip r:embed="rId3"/>
          <a:stretch/>
        </p:blipFill>
        <p:spPr>
          <a:xfrm>
            <a:off x="755640" y="21337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250920" y="5805360"/>
            <a:ext cx="35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Ίχνη χημικής σκόνης που σχηματίζουν σκιές οι οποίες δεν θα έπρεπε να υπάρχουν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3"/>
          <p:cNvSpPr/>
          <p:nvPr/>
        </p:nvSpPr>
        <p:spPr>
          <a:xfrm flipH="1" rot="5208600">
            <a:off x="4924800" y="3237120"/>
            <a:ext cx="2117880" cy="23605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"/>
          <p:cNvSpPr/>
          <p:nvPr/>
        </p:nvSpPr>
        <p:spPr>
          <a:xfrm flipH="1" flipV="1" rot="16401600">
            <a:off x="-485640" y="3264480"/>
            <a:ext cx="3733560" cy="9108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4" descr="lasvegas20050523shadowb0bj"/>
          <p:cNvPicPr/>
          <p:nvPr/>
        </p:nvPicPr>
        <p:blipFill>
          <a:blip r:embed="rId4"/>
          <a:stretch/>
        </p:blipFill>
        <p:spPr>
          <a:xfrm>
            <a:off x="4427640" y="2651040"/>
            <a:ext cx="4521240" cy="4206960"/>
          </a:xfrm>
          <a:prstGeom prst="rect">
            <a:avLst/>
          </a:prstGeom>
          <a:ln w="0">
            <a:noFill/>
          </a:ln>
        </p:spPr>
      </p:pic>
      <p:sp>
        <p:nvSpPr>
          <p:cNvPr id="173" name="Freeform 15"/>
          <p:cNvSpPr/>
          <p:nvPr/>
        </p:nvSpPr>
        <p:spPr>
          <a:xfrm flipV="1" rot="5208600">
            <a:off x="715680" y="4113000"/>
            <a:ext cx="2663640" cy="431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6"/>
          <p:cNvSpPr/>
          <p:nvPr/>
        </p:nvSpPr>
        <p:spPr>
          <a:xfrm flipV="1" rot="5208600">
            <a:off x="4029840" y="2989800"/>
            <a:ext cx="693720" cy="45021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7"/>
          <p:cNvSpPr/>
          <p:nvPr/>
        </p:nvSpPr>
        <p:spPr>
          <a:xfrm flipV="1" rot="5208600">
            <a:off x="1198080" y="2272320"/>
            <a:ext cx="4014720" cy="2471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398628729_2c8bbcf53c"/>
          <p:cNvPicPr/>
          <p:nvPr/>
        </p:nvPicPr>
        <p:blipFill>
          <a:blip r:embed="rId1"/>
          <a:stretch/>
        </p:blipFill>
        <p:spPr>
          <a:xfrm>
            <a:off x="3851280" y="3141720"/>
            <a:ext cx="5126040" cy="3566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5076720" y="260280"/>
            <a:ext cx="3456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ύννεφα που σχηματίζουν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γωνίες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6"/>
          <p:cNvSpPr/>
          <p:nvPr/>
        </p:nvSpPr>
        <p:spPr>
          <a:xfrm flipV="1" rot="13753200">
            <a:off x="5204160" y="2230200"/>
            <a:ext cx="725400" cy="34480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anomalies_meteorologiques_002_2006-06-14_allemagne_a"/>
          <p:cNvPicPr/>
          <p:nvPr/>
        </p:nvPicPr>
        <p:blipFill>
          <a:blip r:embed="rId2"/>
          <a:stretch/>
        </p:blipFill>
        <p:spPr>
          <a:xfrm>
            <a:off x="179280" y="260280"/>
            <a:ext cx="4643640" cy="3483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4572000" y="1413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φαίρα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116-img"/>
          <p:cNvPicPr/>
          <p:nvPr/>
        </p:nvPicPr>
        <p:blipFill>
          <a:blip r:embed="rId3"/>
          <a:stretch/>
        </p:blipFill>
        <p:spPr>
          <a:xfrm>
            <a:off x="0" y="4076640"/>
            <a:ext cx="3790800" cy="2781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"/>
          <p:cNvSpPr/>
          <p:nvPr/>
        </p:nvSpPr>
        <p:spPr>
          <a:xfrm>
            <a:off x="179280" y="4221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;;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ynomatvq7"/>
          <p:cNvPicPr/>
          <p:nvPr/>
        </p:nvPicPr>
        <p:blipFill>
          <a:blip r:embed="rId1"/>
          <a:stretch/>
        </p:blipFill>
        <p:spPr>
          <a:xfrm>
            <a:off x="650880" y="168120"/>
            <a:ext cx="7993080" cy="5832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0" y="60008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Τα χημικά προϊόντα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για την παραγωγή των τεχνητών σύννεφων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πορούν να αγοραστούν ελεύθερα από το διαδίκτυο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magine 1" descr="003_chemtrails_plane_pnl_gov_bfed.jpg"/>
          <p:cNvPicPr/>
          <p:nvPr/>
        </p:nvPicPr>
        <p:blipFill>
          <a:blip r:embed="rId1"/>
          <a:stretch/>
        </p:blipFill>
        <p:spPr>
          <a:xfrm>
            <a:off x="857160" y="1285920"/>
            <a:ext cx="7643880" cy="5357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08000" y="2142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ι μπορείτε να βρείτε εξειδικευμένες συμβουλές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"/>
          <p:cNvSpPr/>
          <p:nvPr/>
        </p:nvSpPr>
        <p:spPr>
          <a:xfrm flipV="1" rot="13753200">
            <a:off x="6362280" y="600840"/>
            <a:ext cx="347400" cy="5824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57120" y="795240"/>
          <a:ext cx="8569440" cy="5288040"/>
        </p:xfrm>
        <a:graphic>
          <a:graphicData uri="http://schemas.openxmlformats.org/drawingml/2006/table">
            <a:tbl>
              <a:tblPr/>
              <a:tblGrid>
                <a:gridCol w="1008000"/>
                <a:gridCol w="239760"/>
                <a:gridCol w="182520"/>
                <a:gridCol w="7139160"/>
              </a:tblGrid>
              <a:tr h="765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ροφανώς , οι σκόνες αυτές απελευθερούμενες στην ατμόσφαιρα είναι πάρα πολύ επικίνδυνες για την υγεία .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Αυτό συμβαίνει διότι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Όλες προκαλούν αναπνευστικά προβλήμα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Τα πολυμερή είναι ινίδια πυριτίου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ι η εισπνοή πυριτίου προκαλεί την σιλίκω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Η σκόνη αλουμινί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ραχυπρόθεσμα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επιδρά αρνητικά στην μνήμη και στην ικανότητα συγκέντρωσης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μακροπρόθεσμα , προκαλεί συμπτώματα παρόμοια με την νόσο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zheim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Η σκόνη βαρίου προκαλεί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χρόνια κόπωση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μέσω χρόνιας αύξησης του μυικού τόνου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ταστολή του ανοσοποιητικού συστήματος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αυξάνοντας την πιθανότητα νόση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85840" y="357120"/>
          <a:ext cx="8569080" cy="6640560"/>
        </p:xfrm>
        <a:graphic>
          <a:graphicData uri="http://schemas.openxmlformats.org/drawingml/2006/table">
            <a:tbl>
              <a:tblPr/>
              <a:tblGrid>
                <a:gridCol w="1500120"/>
                <a:gridCol w="7068960"/>
              </a:tblGrid>
              <a:tr h="107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Για να μάθετε περισσότερα μπορείτε να αναζητήσετε στο διαδίκτυο χρησιμοποιώντας τις λέξεις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ie chimiche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ι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emtrail</a:t>
                      </a:r>
                      <a:r>
                        <a:rPr b="1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Στο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YouTube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υπάρχουν πολλά σχετικά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lm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και ειδικότερα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ένα που διδάσκει τον τρόπο διάκρισης των απλών και αθώων σύννεφων συμπύκνωσης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Contrail)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ου παράγονται από τα αεροσκάφη σε συγκεκριμένες ατμοσφαιρικές συνθήκες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από τα χημικά ίχνη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Chemtrail)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που χρησιμοποιούνται για τον έλεγχο του κλίματος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Καλές ιστοσελίδες εισαγωγής στο αντικείμενο είναι </a:t>
                      </a:r>
                      <a:r>
                        <a:rPr b="0" lang="it-IT" sz="20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στ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ιταλικά</a:t>
                      </a:r>
                      <a:r>
                        <a:rPr b="0" lang="it-IT" sz="20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: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 u="sng">
                          <a:solidFill>
                            <a:srgbClr val="009999"/>
                          </a:solidFill>
                          <a:uFillTx/>
                          <a:latin typeface="Calibri"/>
                          <a:hlinkClick r:id="rId1"/>
                        </a:rPr>
                        <a:t>www.sciechimiche.org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συμπληρωματική ιστοσελίδα αφιερωμένη στα χημικά ίχ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στα αγγλικά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 u="sng">
                          <a:solidFill>
                            <a:srgbClr val="009999"/>
                          </a:solidFill>
                          <a:uFillTx/>
                          <a:latin typeface="Calibri"/>
                          <a:hlinkClick r:id="rId2"/>
                        </a:rPr>
                        <a:t>www.rense.com/politics6/chemdatapage.ht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περιέχει μια μεγάλη συλλογή </a:t>
                      </a: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links</a:t>
                      </a:r>
                      <a:r>
                        <a:rPr b="0" lang="el-GR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 πάνω στο αντικείμεν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Παρακαλώ να διαδώσετε το ντοκουμέντο αυτό 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nasa02720060624norduo2"/>
          <p:cNvPicPr/>
          <p:nvPr/>
        </p:nvPicPr>
        <p:blipFill>
          <a:blip r:embed="rId1"/>
          <a:stretch/>
        </p:blipFill>
        <p:spPr>
          <a:xfrm>
            <a:off x="250920" y="189000"/>
            <a:ext cx="8637480" cy="647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 flipH="1">
            <a:off x="1499400" y="92880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Αγγλ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020000" y="5661000"/>
            <a:ext cx="1218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2060"/>
                </a:solidFill>
                <a:latin typeface="Arial"/>
              </a:rPr>
              <a:t>Γαλλ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 flipH="1">
            <a:off x="250200" y="1989000"/>
            <a:ext cx="1873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Χημικά ίχ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2"/>
          <p:cNvSpPr/>
          <p:nvPr/>
        </p:nvSpPr>
        <p:spPr>
          <a:xfrm flipH="1">
            <a:off x="1258200" y="2565360"/>
            <a:ext cx="576360" cy="13683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 rot="19861200">
            <a:off x="-180720" y="3860640"/>
            <a:ext cx="4753080" cy="158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/>
          <p:cNvSpPr/>
          <p:nvPr/>
        </p:nvSpPr>
        <p:spPr>
          <a:xfrm rot="20745000">
            <a:off x="5501880" y="1006200"/>
            <a:ext cx="3672000" cy="158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5"/>
          <p:cNvSpPr/>
          <p:nvPr/>
        </p:nvSpPr>
        <p:spPr>
          <a:xfrm flipH="1" flipV="1">
            <a:off x="1835280" y="2205000"/>
            <a:ext cx="3673440" cy="216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arzsardegnaaeronet21gen2007640x480"/>
          <p:cNvPicPr/>
          <p:nvPr/>
        </p:nvPicPr>
        <p:blipFill>
          <a:blip r:embed="rId1"/>
          <a:stretch/>
        </p:blipFill>
        <p:spPr>
          <a:xfrm>
            <a:off x="507960" y="628560"/>
            <a:ext cx="8128080" cy="5600880"/>
          </a:xfrm>
          <a:prstGeom prst="rect">
            <a:avLst/>
          </a:prstGeom>
          <a:ln w="0">
            <a:noFill/>
          </a:ln>
        </p:spPr>
      </p:pic>
      <p:sp>
        <p:nvSpPr>
          <p:cNvPr id="70" name="Oval 9"/>
          <p:cNvSpPr/>
          <p:nvPr/>
        </p:nvSpPr>
        <p:spPr>
          <a:xfrm rot="20947200">
            <a:off x="394920" y="2349000"/>
            <a:ext cx="810900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 flipH="1">
            <a:off x="540720" y="465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00"/>
                </a:solidFill>
                <a:latin typeface="Arial"/>
              </a:rPr>
              <a:t>Χημικά ίχν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1"/>
          <p:cNvSpPr/>
          <p:nvPr/>
        </p:nvSpPr>
        <p:spPr>
          <a:xfrm flipH="1" rot="17955000">
            <a:off x="1439280" y="4313160"/>
            <a:ext cx="696960" cy="2746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00840" y="4653000"/>
            <a:ext cx="24480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και πάνω από την Ιταλία (Σαρδηνί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AERONET_Rome_Tor_Vergata"/>
          <p:cNvPicPr/>
          <p:nvPr/>
        </p:nvPicPr>
        <p:blipFill>
          <a:blip r:embed="rId1"/>
          <a:stretch/>
        </p:blipFill>
        <p:spPr>
          <a:xfrm>
            <a:off x="324000" y="189000"/>
            <a:ext cx="8600760" cy="6451560"/>
          </a:xfrm>
          <a:prstGeom prst="rect">
            <a:avLst/>
          </a:prstGeom>
          <a:ln w="0">
            <a:noFill/>
          </a:ln>
        </p:spPr>
      </p:pic>
      <p:sp>
        <p:nvSpPr>
          <p:cNvPr id="75" name="Oval 8"/>
          <p:cNvSpPr/>
          <p:nvPr/>
        </p:nvSpPr>
        <p:spPr>
          <a:xfrm rot="20947200">
            <a:off x="320400" y="2963520"/>
            <a:ext cx="4564080" cy="3603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 flipH="1">
            <a:off x="1072440" y="206064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00"/>
                </a:solidFill>
                <a:latin typeface="Arial"/>
              </a:rPr>
              <a:t>Χημικά ίχν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0"/>
          <p:cNvSpPr/>
          <p:nvPr/>
        </p:nvSpPr>
        <p:spPr>
          <a:xfrm flipH="1" flipV="1" rot="6842400">
            <a:off x="2022120" y="2249280"/>
            <a:ext cx="274320" cy="7858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AERONET_Rome_Tor_Vergata"/>
          <p:cNvPicPr/>
          <p:nvPr/>
        </p:nvPicPr>
        <p:blipFill>
          <a:blip r:embed="rId1"/>
          <a:stretch/>
        </p:blipFill>
        <p:spPr>
          <a:xfrm>
            <a:off x="250920" y="379440"/>
            <a:ext cx="8637480" cy="6478560"/>
          </a:xfrm>
          <a:prstGeom prst="rect">
            <a:avLst/>
          </a:prstGeom>
          <a:ln w="0">
            <a:noFill/>
          </a:ln>
        </p:spPr>
      </p:pic>
      <p:sp>
        <p:nvSpPr>
          <p:cNvPr id="79" name="Oval 5"/>
          <p:cNvSpPr/>
          <p:nvPr/>
        </p:nvSpPr>
        <p:spPr>
          <a:xfrm rot="20947200">
            <a:off x="2768760" y="3642840"/>
            <a:ext cx="6124320" cy="288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 flipH="1">
            <a:off x="7092360" y="242100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Χημικά ίχ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7"/>
          <p:cNvSpPr/>
          <p:nvPr/>
        </p:nvSpPr>
        <p:spPr>
          <a:xfrm flipH="1" rot="6843000">
            <a:off x="7507080" y="3183120"/>
            <a:ext cx="723960" cy="907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341360"/>
            <a:ext cx="242892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Νότια  Ιταλ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79280" y="907920"/>
            <a:ext cx="87854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Τι είναι οι χημικές γραμμές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ίναι γραμμές εναιωρήματος απ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βάρι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λουμίνιο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ι πολυμερή ( ινίδια ) πυριτ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ου απελευθερώνονται κατά χιλιάδες τόνους σε όλους τους ουρανούς του     κόσμου από αεροπλάνα με κατάλληλο εξοπλισμ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01"/>
          <p:cNvPicPr/>
          <p:nvPr/>
        </p:nvPicPr>
        <p:blipFill>
          <a:blip r:embed="rId1"/>
          <a:stretch/>
        </p:blipFill>
        <p:spPr>
          <a:xfrm>
            <a:off x="179280" y="189000"/>
            <a:ext cx="3133800" cy="466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6" descr="SI-ejector_0554sm"/>
          <p:cNvPicPr/>
          <p:nvPr/>
        </p:nvPicPr>
        <p:blipFill>
          <a:blip r:embed="rId2"/>
          <a:stretch/>
        </p:blipFill>
        <p:spPr>
          <a:xfrm>
            <a:off x="2411280" y="3573360"/>
            <a:ext cx="5220000" cy="328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19640" y="260280"/>
            <a:ext cx="5545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ξοπλισμός απελευθέρωσης των χημικών ουσ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144501872_ee6f8a1259"/>
          <p:cNvPicPr/>
          <p:nvPr/>
        </p:nvPicPr>
        <p:blipFill>
          <a:blip r:embed="rId3"/>
          <a:stretch/>
        </p:blipFill>
        <p:spPr>
          <a:xfrm>
            <a:off x="5076720" y="692280"/>
            <a:ext cx="3678480" cy="35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22:27:03Z</dcterms:created>
  <dc:creator>xxx</dc:creator>
  <dc:description/>
  <dc:language>en-US</dc:language>
  <cp:lastModifiedBy>Lab of Physiology</cp:lastModifiedBy>
  <dcterms:modified xsi:type="dcterms:W3CDTF">2007-11-19T16:06:07Z</dcterms:modified>
  <cp:revision>111</cp:revision>
  <dc:subject/>
  <dc:title>Diapositiva 1</dc:title>
</cp:coreProperties>
</file>