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1D9B-0BD2-44C8-A16C-3869C95AD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8E6B-8368-4A2D-AE88-DD750ED0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238C-1AE0-4575-A086-89A9CDCB7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5221-8A0E-4A8F-AE75-DE7139B54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5F79-93D1-4F1C-A6E2-737AA9BD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BA56-96DF-426B-9A7C-DCFCC406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8064-3F18-497C-B005-1B7EA62C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8988-C62F-40D9-A0EA-EE3877A2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D9C8-8600-4CAE-B73B-4145546C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11C3-3607-4568-8E13-17F31DD6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72DD-4502-4D96-8F78-1D16FC14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E81B-1912-45DD-AF74-70352ACC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70EB-9CC9-4073-99FC-C9EAACDAB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85800" y="3352680"/>
            <a:ext cx="769608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>
                    <a:alpha val="2000"/>
                  </a:srgbClr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VNI-Top"/>
              </a:rPr>
              <a:t>CHÍNH TRÒ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>
                  <a:alpha val="2000"/>
                </a:srgbClr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VNI-Top"/>
              <a:ea typeface="VNI-Top"/>
            </a:endParaRPr>
          </a:p>
        </p:txBody>
      </p:sp>
      <p:sp>
        <p:nvSpPr>
          <p:cNvPr id="43" name=""/>
          <p:cNvSpPr/>
          <p:nvPr/>
        </p:nvSpPr>
        <p:spPr>
          <a:xfrm>
            <a:off x="3033720" y="2438280"/>
            <a:ext cx="336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ff"/>
                </a:solidFill>
                <a:uFillTx/>
                <a:latin typeface="VNI-Broad"/>
              </a:rPr>
              <a:t>Moân hoïc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62120" y="304920"/>
            <a:ext cx="7696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VNI-Jamai"/>
              </a:rPr>
              <a:t> </a:t>
            </a:r>
            <a:r>
              <a:rPr b="0" lang="en-US" sz="24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VNI-Jamai"/>
              </a:rPr>
              <a:t>NHAÄN THÖÙC KHOA HOÏC VAØ HOAÏT ÑOÄNG THÖÏC TIEÃN CUÛA CON NGÖÔØI</a:t>
            </a:r>
            <a:endParaRPr b="0" lang="en-US" sz="2400" spc="1" strike="noStrike">
              <a:ln w="9360">
                <a:solidFill>
                  <a:srgbClr val="ff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VNI-Jamai"/>
              <a:ea typeface="VNI-Jamai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0" y="1295280"/>
            <a:ext cx="9423360" cy="2945880"/>
            <a:chOff x="0" y="1295280"/>
            <a:chExt cx="9423360" cy="2945880"/>
          </a:xfrm>
        </p:grpSpPr>
        <p:grpSp>
          <p:nvGrpSpPr>
            <p:cNvPr id="279" name=""/>
            <p:cNvGrpSpPr/>
            <p:nvPr/>
          </p:nvGrpSpPr>
          <p:grpSpPr>
            <a:xfrm>
              <a:off x="533520" y="1357200"/>
              <a:ext cx="3503880" cy="1746000"/>
              <a:chOff x="533520" y="1357200"/>
              <a:chExt cx="3503880" cy="1746000"/>
            </a:xfrm>
          </p:grpSpPr>
          <p:grpSp>
            <p:nvGrpSpPr>
              <p:cNvPr id="280" name=""/>
              <p:cNvGrpSpPr/>
              <p:nvPr/>
            </p:nvGrpSpPr>
            <p:grpSpPr>
              <a:xfrm>
                <a:off x="533520" y="1357200"/>
                <a:ext cx="3503880" cy="1746000"/>
                <a:chOff x="533520" y="1357200"/>
                <a:chExt cx="3503880" cy="174600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533520" y="1357200"/>
                  <a:ext cx="3503880" cy="1746000"/>
                </a:xfrm>
                <a:prstGeom prst="bevel">
                  <a:avLst>
                    <a:gd name="adj" fmla="val 11606"/>
                  </a:avLst>
                </a:prstGeom>
                <a:noFill/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8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52040" y="1606320"/>
                  <a:ext cx="3175920" cy="1351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83" name=""/>
              <p:cNvSpPr/>
              <p:nvPr/>
            </p:nvSpPr>
            <p:spPr>
              <a:xfrm>
                <a:off x="2212560" y="1357200"/>
                <a:ext cx="1836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3886200" y="2043720"/>
              <a:ext cx="9907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86200" y="2480040"/>
              <a:ext cx="9907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14400" y="1605600"/>
              <a:ext cx="26845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NI-Zap"/>
                </a:rPr>
                <a:t>NHAÄN THÖÙ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NI-Zap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VNI-Zap"/>
                </a:rPr>
                <a:t>CAÛM TÍN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4876920" y="1295280"/>
              <a:ext cx="3503880" cy="1745640"/>
              <a:chOff x="4876920" y="1295280"/>
              <a:chExt cx="3503880" cy="1745640"/>
            </a:xfrm>
          </p:grpSpPr>
          <p:grpSp>
            <p:nvGrpSpPr>
              <p:cNvPr id="288" name=""/>
              <p:cNvGrpSpPr/>
              <p:nvPr/>
            </p:nvGrpSpPr>
            <p:grpSpPr>
              <a:xfrm>
                <a:off x="4876920" y="1295280"/>
                <a:ext cx="3503880" cy="1745640"/>
                <a:chOff x="4876920" y="1295280"/>
                <a:chExt cx="3503880" cy="174564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4876920" y="1295280"/>
                  <a:ext cx="3503880" cy="1745640"/>
                </a:xfrm>
                <a:prstGeom prst="bevel">
                  <a:avLst>
                    <a:gd name="adj" fmla="val 11606"/>
                  </a:avLst>
                </a:prstGeom>
                <a:noFill/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9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095440" y="1544400"/>
                  <a:ext cx="3175920" cy="1350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91" name=""/>
              <p:cNvSpPr/>
              <p:nvPr/>
            </p:nvSpPr>
            <p:spPr>
              <a:xfrm>
                <a:off x="6555960" y="1295280"/>
                <a:ext cx="1836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5110920" y="1626480"/>
              <a:ext cx="3362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NI-Zap"/>
                </a:rPr>
                <a:t>NHAÄN THÖÙC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NI-Zap"/>
                </a:rPr>
                <a:t>LYÙ TÍN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0" y="3415680"/>
              <a:ext cx="942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VNI-Duff"/>
                </a:rPr>
                <a:t>Sô ñoà 3 8: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VNI-Duff"/>
                </a:rPr>
                <a:t>Moái quan heä giöõa nhaän thöùc caûm tính vaø nhaän thöùc lyù tín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447920" y="0"/>
            <a:ext cx="7696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VNI-Jamai"/>
              </a:rPr>
              <a:t> </a:t>
            </a:r>
            <a:r>
              <a:rPr b="0" lang="en-US" sz="24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VNI-Jamai"/>
              </a:rPr>
              <a:t>NHAÄN THÖÙC KHOA HOÏC VAØ HOAÏT ÑOÄNG THÖÏC TIEÃN CUÛA CON NGÖÔØI</a:t>
            </a:r>
            <a:endParaRPr b="0" lang="en-US" sz="2400" spc="1" strike="noStrike">
              <a:ln w="9360">
                <a:solidFill>
                  <a:srgbClr val="ff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VNI-Jamai"/>
              <a:ea typeface="VNI-Jama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28600" y="457200"/>
            <a:ext cx="241920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IV. Chân lý</a:t>
            </a:r>
            <a:endParaRPr b="1" lang="en-US" sz="32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6095880"/>
            <a:ext cx="94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NI-Duff"/>
              </a:rPr>
              <a:t>Sô ñoà 3.9: TÍNH CHAÁT CUÛA CHAÂN LY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2514600"/>
            <a:ext cx="1752480" cy="2286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NI-Vari"/>
              </a:rPr>
              <a:t>CHAÂ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NI-Va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NI-Vari"/>
              </a:rPr>
              <a:t>LY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6200" y="1752480"/>
            <a:ext cx="3886200" cy="8384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Times"/>
              </a:rPr>
              <a:t>Tính khaùch qu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86200" y="2666880"/>
            <a:ext cx="3962520" cy="8384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Times"/>
              </a:rPr>
              <a:t>Tính tuyeät ñoá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86200" y="3657600"/>
            <a:ext cx="3962520" cy="6858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Times"/>
              </a:rPr>
              <a:t>Tính töông ñoá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6200" y="4495680"/>
            <a:ext cx="3962520" cy="7621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Times"/>
              </a:rPr>
              <a:t>Tính cuï the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1752480" y="2209680"/>
            <a:ext cx="213372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752480" y="3047760"/>
            <a:ext cx="221004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52480" y="3581280"/>
            <a:ext cx="221004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752480" y="3581280"/>
            <a:ext cx="213372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4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7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2120" y="2438280"/>
            <a:ext cx="2133360" cy="838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Times"/>
              </a:rPr>
              <a:t>Sô ñoà 6.2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77777"/>
                </a:solidFill>
                <a:latin typeface="VNI-Tekon"/>
              </a:rPr>
              <a:t>KN thöïc tieã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447920" y="0"/>
            <a:ext cx="7696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VNI-Jamai"/>
              </a:rPr>
              <a:t> </a:t>
            </a:r>
            <a:r>
              <a:rPr b="0" lang="en-US" sz="24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VNI-Jamai"/>
              </a:rPr>
              <a:t>NHAÄN THÖÙC KHOA HOÏC VAØ HOAÏT ÑOÄNG THÖÏC TIEÃN CUÛA CON NGÖÔØI</a:t>
            </a:r>
            <a:endParaRPr b="0" lang="en-US" sz="2400" spc="1" strike="noStrike">
              <a:ln w="9360">
                <a:solidFill>
                  <a:srgbClr val="ff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VNI-Jamai"/>
              <a:ea typeface="VNI-Jamai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609480" y="914400"/>
            <a:ext cx="7994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NI-Times"/>
              </a:rPr>
              <a:t>Keát thuùc baøi 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ÚC CÁC EM HỌC TỐ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066680"/>
            <a:ext cx="8610480" cy="5715000"/>
          </a:xfrm>
          <a:prstGeom prst="rect">
            <a:avLst/>
          </a:prstGeom>
          <a:gradFill rotWithShape="0">
            <a:gsLst>
              <a:gs pos="0">
                <a:srgbClr val="631223"/>
              </a:gs>
              <a:gs pos="50000">
                <a:srgbClr val="d7294e"/>
              </a:gs>
              <a:gs pos="100000">
                <a:srgbClr val="631223"/>
              </a:gs>
            </a:gsLst>
            <a:lin ang="13500000"/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NI-Times"/>
                <a:ea typeface="Times New Roman"/>
              </a:rPr>
              <a:t>I. BAÛN CHAÁT CUÛA NHAÄN THÖÙ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NI-Times"/>
                <a:ea typeface="Times New Roman"/>
              </a:rPr>
              <a:t>1. Nhöõng quan ñieåm khaùc nhau veà baûn chaát cuûa nhaän thöù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NI-Times"/>
                <a:ea typeface="Times New Roman"/>
              </a:rPr>
              <a:t>2. Quan ñieåm cuûa trieát hoïc Maùc-Leânin veà baûn chaát cuûa nhaän thöù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NI-Times"/>
                <a:ea typeface="Times New Roman"/>
              </a:rPr>
              <a:t>II. THÖÏC TIEÃN VAØ VAI TROØ CUÛA THÖÏC TIEÃN ÑOÁI VÔÙI NHAÄN THÖÙ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NI-Times"/>
                <a:ea typeface="Times New Roman"/>
              </a:rPr>
              <a:t>1. Phaïm truø thöïc tieã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NI-Times"/>
                <a:ea typeface="Times New Roman"/>
              </a:rPr>
              <a:t>2. Vai troø cuûa thöïc tieãn ñoái vôùi nhaän thöù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NI-Times"/>
                <a:ea typeface="Times New Roman"/>
              </a:rPr>
              <a:t>III. HAI GIAI ÑOAÏN CUÛA QUAÙ TRÌNH NHAÄN THÖÙ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NI-Times"/>
                <a:ea typeface="Times New Roman"/>
              </a:rPr>
              <a:t>1. Tröïc quan sinh ñoä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NI-Times"/>
                <a:ea typeface="Times New Roman"/>
              </a:rPr>
              <a:t>2. Tö duy tröøu töôï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NI-Times"/>
                <a:ea typeface="Times New Roman"/>
              </a:rPr>
              <a:t>3. Söï thoáng nhaát bieän chöùng giöõa NTCt vaø NT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NI-Times"/>
                <a:ea typeface="Times New Roman"/>
              </a:rPr>
              <a:t>IV. VAÁN ÑEÀ CHAÂN LY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NI-Times"/>
                <a:ea typeface="Times New Roman"/>
              </a:rPr>
              <a:t>V. QUAN HEÄ GIÖÕA ÑOÅI MÔÙI NHAÄN THÖÙC VÔÙI ÑOÅI MÔÙI XAÕ HOÄI ÔÛ NÖÔÙC 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2280" y="0"/>
            <a:ext cx="8915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cap="sq" w="9360">
                  <a:solidFill>
                    <a:srgbClr val="ffffcc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BÀI 3: NHẬN THỨC KHOA HỌC VÀ HOẠT ĐỘNG THỰC TIỄN</a:t>
            </a:r>
            <a:endParaRPr b="1" lang="en-US" sz="2800" spc="1" strike="noStrike">
              <a:ln cap="sq" w="9360">
                <a:solidFill>
                  <a:srgbClr val="ffffcc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447920" y="0"/>
            <a:ext cx="7696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VNI-Jamai"/>
              </a:rPr>
              <a:t> </a:t>
            </a:r>
            <a:r>
              <a:rPr b="0" lang="en-US" sz="24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VNI-Jamai"/>
              </a:rPr>
              <a:t>NHẬN THỨC KHOA HỌC VÀ HOẠT ĐỘNG THỰC TIỄN</a:t>
            </a:r>
            <a:endParaRPr b="0" lang="en-US" sz="2400" spc="1" strike="noStrike">
              <a:ln w="9360">
                <a:solidFill>
                  <a:srgbClr val="ffcc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VNI-Jamai"/>
              <a:ea typeface="VNI-Jamai"/>
            </a:endParaRPr>
          </a:p>
        </p:txBody>
      </p:sp>
      <p:sp>
        <p:nvSpPr>
          <p:cNvPr id="48" name=""/>
          <p:cNvSpPr/>
          <p:nvPr/>
        </p:nvSpPr>
        <p:spPr>
          <a:xfrm>
            <a:off x="-72720" y="0"/>
            <a:ext cx="163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VNI-Ariston"/>
              </a:rPr>
              <a:t>Baøi 3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8600" y="838080"/>
            <a:ext cx="3581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I. BẢN CHẤT CỦA NHẬN THỨC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057400"/>
            <a:ext cx="3276720" cy="327672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ffffff"/>
                </a:solidFill>
                <a:latin typeface="Times New Roman"/>
              </a:rPr>
              <a:t>QUAN NIỆM CNDV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ffffff"/>
                </a:solidFill>
                <a:latin typeface="Times New Roman"/>
              </a:rPr>
              <a:t>VỀ NHẬN THỨ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ffffff"/>
                </a:solidFill>
                <a:latin typeface="VNI-Dur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105520" y="5257800"/>
            <a:ext cx="3885840" cy="2030760"/>
            <a:chOff x="5105520" y="5257800"/>
            <a:chExt cx="3885840" cy="2030760"/>
          </a:xfrm>
        </p:grpSpPr>
        <p:sp>
          <p:nvSpPr>
            <p:cNvPr id="52" name=""/>
            <p:cNvSpPr/>
            <p:nvPr/>
          </p:nvSpPr>
          <p:spPr>
            <a:xfrm>
              <a:off x="5105520" y="5257800"/>
              <a:ext cx="3885840" cy="1371600"/>
            </a:xfrm>
            <a:prstGeom prst="bevel">
              <a:avLst>
                <a:gd name="adj" fmla="val 625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5217120" y="5386680"/>
              <a:ext cx="366084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105520" y="5365800"/>
              <a:ext cx="3736800" cy="1922760"/>
            </a:xfrm>
            <a:prstGeom prst="rect">
              <a:avLst/>
            </a:prstGeom>
            <a:solidFill>
              <a:srgbClr val="380a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NI-Tekon"/>
                </a:rPr>
                <a:t>Thöïc tieãn laø cô sôû, ñoäng löïc,  muïc ñích cuûa nhaän thöùc vaø laø tieâu chuaån cuûa chaân ly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04920" y="5791320"/>
            <a:ext cx="3657600" cy="1066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Times"/>
              </a:rPr>
              <a:t>Sô ñoà 3.1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Baûn chaát nhaän thöù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0" idx="6"/>
            <a:endCxn id="57" idx="0"/>
          </p:cNvCxnSpPr>
          <p:nvPr/>
        </p:nvCxnSpPr>
        <p:spPr>
          <a:xfrm flipV="1">
            <a:off x="3975120" y="1371240"/>
            <a:ext cx="1131120" cy="2324880"/>
          </a:xfrm>
          <a:prstGeom prst="straightConnector1">
            <a:avLst/>
          </a:prstGeom>
          <a:ln w="44280">
            <a:solidFill>
              <a:srgbClr val="ffcccc"/>
            </a:solidFill>
            <a:miter/>
          </a:ln>
        </p:spPr>
      </p:cxnSp>
      <p:cxnSp>
        <p:nvCxnSpPr>
          <p:cNvPr id="58" name=""/>
          <p:cNvCxnSpPr>
            <a:stCxn id="50" idx="6"/>
            <a:endCxn id="52" idx="0"/>
          </p:cNvCxnSpPr>
          <p:nvPr/>
        </p:nvCxnSpPr>
        <p:spPr>
          <a:xfrm>
            <a:off x="3975120" y="3695760"/>
            <a:ext cx="1131120" cy="2248560"/>
          </a:xfrm>
          <a:prstGeom prst="straightConnector1">
            <a:avLst/>
          </a:prstGeom>
          <a:ln w="44280">
            <a:solidFill>
              <a:srgbClr val="ffcccc"/>
            </a:solidFill>
            <a:miter/>
          </a:ln>
        </p:spPr>
      </p:cxnSp>
      <p:cxnSp>
        <p:nvCxnSpPr>
          <p:cNvPr id="59" name=""/>
          <p:cNvCxnSpPr/>
          <p:nvPr/>
        </p:nvCxnSpPr>
        <p:spPr>
          <a:xfrm flipV="1">
            <a:off x="3962160" y="2894760"/>
            <a:ext cx="1200600" cy="747000"/>
          </a:xfrm>
          <a:prstGeom prst="straightConnector1">
            <a:avLst/>
          </a:prstGeom>
          <a:ln w="44280">
            <a:solidFill>
              <a:srgbClr val="ffcccc"/>
            </a:solidFill>
            <a:miter/>
          </a:ln>
        </p:spPr>
      </p:cxnSp>
      <p:cxnSp>
        <p:nvCxnSpPr>
          <p:cNvPr id="60" name=""/>
          <p:cNvCxnSpPr>
            <a:stCxn id="50" idx="6"/>
          </p:cNvCxnSpPr>
          <p:nvPr/>
        </p:nvCxnSpPr>
        <p:spPr>
          <a:xfrm>
            <a:off x="3975120" y="3695760"/>
            <a:ext cx="1218240" cy="838800"/>
          </a:xfrm>
          <a:prstGeom prst="straightConnector1">
            <a:avLst/>
          </a:prstGeom>
          <a:ln w="44280">
            <a:solidFill>
              <a:srgbClr val="ffcccc"/>
            </a:solidFill>
            <a:miter/>
          </a:ln>
        </p:spPr>
      </p:cxnSp>
      <p:grpSp>
        <p:nvGrpSpPr>
          <p:cNvPr id="61" name=""/>
          <p:cNvGrpSpPr/>
          <p:nvPr/>
        </p:nvGrpSpPr>
        <p:grpSpPr>
          <a:xfrm>
            <a:off x="5105520" y="2209680"/>
            <a:ext cx="3885840" cy="2396520"/>
            <a:chOff x="5105520" y="2209680"/>
            <a:chExt cx="3885840" cy="2396520"/>
          </a:xfrm>
        </p:grpSpPr>
        <p:sp>
          <p:nvSpPr>
            <p:cNvPr id="62" name=""/>
            <p:cNvSpPr/>
            <p:nvPr/>
          </p:nvSpPr>
          <p:spPr>
            <a:xfrm>
              <a:off x="5105520" y="2209680"/>
              <a:ext cx="3885840" cy="1371600"/>
            </a:xfrm>
            <a:prstGeom prst="bevel">
              <a:avLst>
                <a:gd name="adj" fmla="val 6356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5184720" y="2338200"/>
              <a:ext cx="372708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177880" y="2317680"/>
              <a:ext cx="3813480" cy="22885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NI-Tekon"/>
                </a:rPr>
                <a:t>Con ngöôøi coù khaû naêng nhaän thöùc. Nhaän thöùc laø phaûn aûnh hieân thöïc khaùch quan vaøo ñaàu oùc con ngöôø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762120"/>
            <a:ext cx="3885840" cy="1218960"/>
            <a:chOff x="5105520" y="762120"/>
            <a:chExt cx="3885840" cy="1218960"/>
          </a:xfrm>
        </p:grpSpPr>
        <p:sp>
          <p:nvSpPr>
            <p:cNvPr id="57" name=""/>
            <p:cNvSpPr/>
            <p:nvPr/>
          </p:nvSpPr>
          <p:spPr>
            <a:xfrm>
              <a:off x="5105520" y="762120"/>
              <a:ext cx="3885840" cy="1218960"/>
            </a:xfrm>
            <a:prstGeom prst="bevel">
              <a:avLst>
                <a:gd name="adj" fmla="val 706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5182920" y="838080"/>
              <a:ext cx="373068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5311080" y="930240"/>
              <a:ext cx="3602520" cy="82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NI-Ariston"/>
                </a:rPr>
                <a:t>Theá giôùi vaät chaát toàn taïi khaùch qu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22800" y="3962520"/>
            <a:ext cx="4021200" cy="1404000"/>
            <a:chOff x="5122800" y="3962520"/>
            <a:chExt cx="4021200" cy="1404000"/>
          </a:xfrm>
        </p:grpSpPr>
        <p:sp>
          <p:nvSpPr>
            <p:cNvPr id="69" name=""/>
            <p:cNvSpPr/>
            <p:nvPr/>
          </p:nvSpPr>
          <p:spPr>
            <a:xfrm>
              <a:off x="5122800" y="3962520"/>
              <a:ext cx="3944880" cy="1218960"/>
            </a:xfrm>
            <a:prstGeom prst="bevel">
              <a:avLst>
                <a:gd name="adj" fmla="val 706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5"/>
            <a:stretch/>
          </p:blipFill>
          <p:spPr>
            <a:xfrm>
              <a:off x="5203800" y="4022640"/>
              <a:ext cx="378792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181480" y="4175280"/>
              <a:ext cx="3962520" cy="119124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NI-Ariston"/>
                </a:rPr>
                <a:t>Nhaän thöùc laø quaù trình BC, tích cöïc töï giaùc, saùng taï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0"/>
                            </p:stCondLst>
                            <p:childTnLst>
                              <p:par>
                                <p:cTn id="5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809880" y="1295280"/>
            <a:ext cx="2971440" cy="914400"/>
            <a:chOff x="3809880" y="1295280"/>
            <a:chExt cx="2971440" cy="914400"/>
          </a:xfrm>
        </p:grpSpPr>
        <p:grpSp>
          <p:nvGrpSpPr>
            <p:cNvPr id="74" name=""/>
            <p:cNvGrpSpPr/>
            <p:nvPr/>
          </p:nvGrpSpPr>
          <p:grpSpPr>
            <a:xfrm>
              <a:off x="3809880" y="1295280"/>
              <a:ext cx="2971440" cy="914400"/>
              <a:chOff x="3809880" y="1295280"/>
              <a:chExt cx="2971440" cy="914400"/>
            </a:xfrm>
          </p:grpSpPr>
          <p:sp>
            <p:nvSpPr>
              <p:cNvPr id="75" name=""/>
              <p:cNvSpPr/>
              <p:nvPr/>
            </p:nvSpPr>
            <p:spPr>
              <a:xfrm>
                <a:off x="3809880" y="1295280"/>
                <a:ext cx="2971440" cy="914400"/>
              </a:xfrm>
              <a:prstGeom prst="bevel">
                <a:avLst>
                  <a:gd name="adj" fmla="val 12500"/>
                </a:avLst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989520" y="1409400"/>
                <a:ext cx="2611800" cy="685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7" name=""/>
            <p:cNvSpPr/>
            <p:nvPr/>
          </p:nvSpPr>
          <p:spPr>
            <a:xfrm>
              <a:off x="4041000" y="1417320"/>
              <a:ext cx="193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Thực tiễ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809880" y="2514600"/>
            <a:ext cx="2895480" cy="1295280"/>
            <a:chOff x="3809880" y="2514600"/>
            <a:chExt cx="2895480" cy="1295280"/>
          </a:xfrm>
        </p:grpSpPr>
        <p:grpSp>
          <p:nvGrpSpPr>
            <p:cNvPr id="79" name=""/>
            <p:cNvGrpSpPr/>
            <p:nvPr/>
          </p:nvGrpSpPr>
          <p:grpSpPr>
            <a:xfrm>
              <a:off x="3809880" y="2514600"/>
              <a:ext cx="2807280" cy="1295280"/>
              <a:chOff x="3809880" y="2514600"/>
              <a:chExt cx="2807280" cy="1295280"/>
            </a:xfrm>
          </p:grpSpPr>
          <p:pic>
            <p:nvPicPr>
              <p:cNvPr id="8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985560" y="2627280"/>
                <a:ext cx="2455920" cy="106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"/>
              <p:cNvSpPr/>
              <p:nvPr/>
            </p:nvSpPr>
            <p:spPr>
              <a:xfrm>
                <a:off x="3809880" y="2514600"/>
                <a:ext cx="2807280" cy="1295280"/>
              </a:xfrm>
              <a:prstGeom prst="bevel">
                <a:avLst>
                  <a:gd name="adj" fmla="val 7157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3985200" y="2666880"/>
              <a:ext cx="2720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oạt động vật chất có mục đíc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590200" y="4038480"/>
            <a:ext cx="5289120" cy="1066680"/>
            <a:chOff x="2590200" y="4038480"/>
            <a:chExt cx="5289120" cy="1066680"/>
          </a:xfrm>
        </p:grpSpPr>
        <p:grpSp>
          <p:nvGrpSpPr>
            <p:cNvPr id="84" name=""/>
            <p:cNvGrpSpPr/>
            <p:nvPr/>
          </p:nvGrpSpPr>
          <p:grpSpPr>
            <a:xfrm>
              <a:off x="3352680" y="4038480"/>
              <a:ext cx="3809880" cy="1066680"/>
              <a:chOff x="3352680" y="4038480"/>
              <a:chExt cx="3809880" cy="1066680"/>
            </a:xfrm>
          </p:grpSpPr>
          <p:sp>
            <p:nvSpPr>
              <p:cNvPr id="85" name=""/>
              <p:cNvSpPr/>
              <p:nvPr/>
            </p:nvSpPr>
            <p:spPr>
              <a:xfrm>
                <a:off x="3352680" y="4038480"/>
                <a:ext cx="3809880" cy="1066680"/>
              </a:xfrm>
              <a:prstGeom prst="bevel">
                <a:avLst>
                  <a:gd name="adj" fmla="val 6338"/>
                </a:avLst>
              </a:pr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461040" y="4105080"/>
                <a:ext cx="3592440" cy="933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7" name=""/>
            <p:cNvSpPr/>
            <p:nvPr/>
          </p:nvSpPr>
          <p:spPr>
            <a:xfrm>
              <a:off x="2590200" y="4114800"/>
              <a:ext cx="5289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NI-Brush"/>
                </a:rPr>
                <a:t>3 hình thöùc cô baû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NI-Brush"/>
                </a:rPr>
                <a:t>cuûa hoaït ñoäng thöïc tieã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220400" y="5410080"/>
            <a:ext cx="2681640" cy="1068840"/>
            <a:chOff x="1220400" y="5410080"/>
            <a:chExt cx="2681640" cy="1068840"/>
          </a:xfrm>
        </p:grpSpPr>
        <p:grpSp>
          <p:nvGrpSpPr>
            <p:cNvPr id="89" name=""/>
            <p:cNvGrpSpPr/>
            <p:nvPr/>
          </p:nvGrpSpPr>
          <p:grpSpPr>
            <a:xfrm>
              <a:off x="1752480" y="5410080"/>
              <a:ext cx="1600200" cy="1066680"/>
              <a:chOff x="1752480" y="5410080"/>
              <a:chExt cx="1600200" cy="1066680"/>
            </a:xfrm>
          </p:grpSpPr>
          <p:sp>
            <p:nvSpPr>
              <p:cNvPr id="90" name=""/>
              <p:cNvSpPr/>
              <p:nvPr/>
            </p:nvSpPr>
            <p:spPr>
              <a:xfrm>
                <a:off x="1752480" y="5410080"/>
                <a:ext cx="1600200" cy="1066680"/>
              </a:xfrm>
              <a:prstGeom prst="bevel">
                <a:avLst>
                  <a:gd name="adj" fmla="val 11606"/>
                </a:avLst>
              </a:pr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852200" y="5562360"/>
                <a:ext cx="1450440" cy="825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2" name=""/>
            <p:cNvSpPr/>
            <p:nvPr/>
          </p:nvSpPr>
          <p:spPr>
            <a:xfrm>
              <a:off x="1220400" y="5410080"/>
              <a:ext cx="2681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NI-Dom"/>
                </a:rPr>
                <a:t>Hoaït ñoä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NI-Dom"/>
                </a:rPr>
                <a:t>SX V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3887280" y="5410080"/>
            <a:ext cx="2681640" cy="1068840"/>
            <a:chOff x="3887280" y="5410080"/>
            <a:chExt cx="2681640" cy="1068840"/>
          </a:xfrm>
        </p:grpSpPr>
        <p:grpSp>
          <p:nvGrpSpPr>
            <p:cNvPr id="94" name=""/>
            <p:cNvGrpSpPr/>
            <p:nvPr/>
          </p:nvGrpSpPr>
          <p:grpSpPr>
            <a:xfrm>
              <a:off x="4495680" y="5410080"/>
              <a:ext cx="1599840" cy="1066680"/>
              <a:chOff x="4495680" y="5410080"/>
              <a:chExt cx="1599840" cy="1066680"/>
            </a:xfrm>
          </p:grpSpPr>
          <p:sp>
            <p:nvSpPr>
              <p:cNvPr id="95" name=""/>
              <p:cNvSpPr/>
              <p:nvPr/>
            </p:nvSpPr>
            <p:spPr>
              <a:xfrm>
                <a:off x="4495680" y="5410080"/>
                <a:ext cx="1599840" cy="1066680"/>
              </a:xfrm>
              <a:prstGeom prst="bevel">
                <a:avLst>
                  <a:gd name="adj" fmla="val 11606"/>
                </a:avLst>
              </a:pr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595400" y="5562360"/>
                <a:ext cx="1450080" cy="825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7" name=""/>
            <p:cNvGrpSpPr/>
            <p:nvPr/>
          </p:nvGrpSpPr>
          <p:grpSpPr>
            <a:xfrm>
              <a:off x="4419720" y="5410080"/>
              <a:ext cx="1599840" cy="1066680"/>
              <a:chOff x="4419720" y="5410080"/>
              <a:chExt cx="1599840" cy="1066680"/>
            </a:xfrm>
          </p:grpSpPr>
          <p:sp>
            <p:nvSpPr>
              <p:cNvPr id="98" name=""/>
              <p:cNvSpPr/>
              <p:nvPr/>
            </p:nvSpPr>
            <p:spPr>
              <a:xfrm>
                <a:off x="4419720" y="5410080"/>
                <a:ext cx="1599840" cy="1066680"/>
              </a:xfrm>
              <a:prstGeom prst="bevel">
                <a:avLst>
                  <a:gd name="adj" fmla="val 11606"/>
                </a:avLst>
              </a:pr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519440" y="5562360"/>
                <a:ext cx="1450080" cy="825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0" name=""/>
            <p:cNvSpPr/>
            <p:nvPr/>
          </p:nvSpPr>
          <p:spPr>
            <a:xfrm>
              <a:off x="3887280" y="5410080"/>
              <a:ext cx="2681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NI-Dom"/>
                </a:rPr>
                <a:t>Hoaït ñoä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NI-Dom"/>
                </a:rPr>
                <a:t>CT-X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195240" y="5410080"/>
            <a:ext cx="3487680" cy="1068840"/>
            <a:chOff x="6195240" y="5410080"/>
            <a:chExt cx="3487680" cy="1068840"/>
          </a:xfrm>
        </p:grpSpPr>
        <p:grpSp>
          <p:nvGrpSpPr>
            <p:cNvPr id="102" name=""/>
            <p:cNvGrpSpPr/>
            <p:nvPr/>
          </p:nvGrpSpPr>
          <p:grpSpPr>
            <a:xfrm>
              <a:off x="7045920" y="5410080"/>
              <a:ext cx="1891440" cy="1066680"/>
              <a:chOff x="7045920" y="5410080"/>
              <a:chExt cx="1891440" cy="1066680"/>
            </a:xfrm>
          </p:grpSpPr>
          <p:sp>
            <p:nvSpPr>
              <p:cNvPr id="103" name=""/>
              <p:cNvSpPr/>
              <p:nvPr/>
            </p:nvSpPr>
            <p:spPr>
              <a:xfrm>
                <a:off x="7045920" y="5410080"/>
                <a:ext cx="1891440" cy="1066680"/>
              </a:xfrm>
              <a:prstGeom prst="bevel">
                <a:avLst>
                  <a:gd name="adj" fmla="val 11606"/>
                </a:avLst>
              </a:pr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164000" y="5562360"/>
                <a:ext cx="1714320" cy="825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"/>
            <p:cNvSpPr/>
            <p:nvPr/>
          </p:nvSpPr>
          <p:spPr>
            <a:xfrm>
              <a:off x="6195240" y="5410080"/>
              <a:ext cx="34876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VNI-Dom"/>
                </a:rPr>
                <a:t>  </a:t>
              </a:r>
              <a:r>
                <a:rPr b="1" lang="en-US" sz="3200" spc="-1" strike="noStrike">
                  <a:solidFill>
                    <a:srgbClr val="000000"/>
                  </a:solidFill>
                  <a:latin typeface="VNI-Dom"/>
                </a:rPr>
                <a:t>Thöïc nghieäm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NI-Dom"/>
                </a:rPr>
                <a:t>K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52280" y="762120"/>
            <a:ext cx="2133720" cy="838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Times"/>
              </a:rPr>
              <a:t>Sô ñoà 3.2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77777"/>
                </a:solidFill>
                <a:latin typeface="VNI-Tekon"/>
              </a:rPr>
              <a:t>KN thöïc tieã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181480" y="2209320"/>
            <a:ext cx="0" cy="304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105520" y="3809520"/>
            <a:ext cx="0" cy="304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/>
          <p:nvPr/>
        </p:nvCxnSpPr>
        <p:spPr>
          <a:xfrm flipV="1">
            <a:off x="5029200" y="5105160"/>
            <a:ext cx="7200" cy="349920"/>
          </a:xfrm>
          <a:prstGeom prst="straightConnector1">
            <a:avLst/>
          </a:prstGeom>
          <a:ln w="25560">
            <a:solidFill>
              <a:srgbClr val="0000ff"/>
            </a:solidFill>
            <a:miter/>
          </a:ln>
        </p:spPr>
      </p:cxnSp>
      <p:cxnSp>
        <p:nvCxnSpPr>
          <p:cNvPr id="110" name=""/>
          <p:cNvCxnSpPr/>
          <p:nvPr/>
        </p:nvCxnSpPr>
        <p:spPr>
          <a:xfrm flipH="1">
            <a:off x="2361960" y="5105520"/>
            <a:ext cx="2674080" cy="349920"/>
          </a:xfrm>
          <a:prstGeom prst="straightConnector1">
            <a:avLst/>
          </a:prstGeom>
          <a:ln w="25560">
            <a:solidFill>
              <a:srgbClr val="0000ff"/>
            </a:solidFill>
            <a:miter/>
          </a:ln>
        </p:spPr>
      </p:cxnSp>
      <p:cxnSp>
        <p:nvCxnSpPr>
          <p:cNvPr id="111" name=""/>
          <p:cNvCxnSpPr/>
          <p:nvPr/>
        </p:nvCxnSpPr>
        <p:spPr>
          <a:xfrm>
            <a:off x="5035320" y="5105520"/>
            <a:ext cx="2703960" cy="349920"/>
          </a:xfrm>
          <a:prstGeom prst="straightConnector1">
            <a:avLst/>
          </a:prstGeom>
          <a:ln w="25560">
            <a:solidFill>
              <a:srgbClr val="0000ff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3429000" y="5715000"/>
            <a:ext cx="9907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5943600"/>
            <a:ext cx="990720" cy="0"/>
          </a:xfrm>
          <a:prstGeom prst="line">
            <a:avLst/>
          </a:prstGeom>
          <a:ln w="255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5715000"/>
            <a:ext cx="9907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5867280"/>
            <a:ext cx="990720" cy="0"/>
          </a:xfrm>
          <a:prstGeom prst="line">
            <a:avLst/>
          </a:prstGeom>
          <a:ln w="255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209680" y="6400800"/>
            <a:ext cx="5867280" cy="457200"/>
            <a:chOff x="2209680" y="6400800"/>
            <a:chExt cx="5867280" cy="457200"/>
          </a:xfrm>
        </p:grpSpPr>
        <p:cxnSp>
          <p:nvCxnSpPr>
            <p:cNvPr id="117" name=""/>
            <p:cNvCxnSpPr/>
            <p:nvPr/>
          </p:nvCxnSpPr>
          <p:spPr>
            <a:xfrm flipH="1" rot="16200000">
              <a:off x="5096520" y="3713040"/>
              <a:ext cx="2160" cy="5377320"/>
            </a:xfrm>
            <a:prstGeom prst="bentConnector3">
              <a:avLst>
                <a:gd name="adj1" fmla="val 21480000"/>
              </a:avLst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18" name=""/>
            <p:cNvSpPr/>
            <p:nvPr/>
          </p:nvSpPr>
          <p:spPr>
            <a:xfrm>
              <a:off x="2209680" y="6858000"/>
              <a:ext cx="5867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2209680" y="6400800"/>
              <a:ext cx="0" cy="457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8001000" y="6400800"/>
              <a:ext cx="0" cy="457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52280" y="-152280"/>
            <a:ext cx="8991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II. THỰC TIỄN VÀ VAI TRÒ CỦA THỰC TIỄN VỚI NHẬN THỨC</a:t>
            </a:r>
            <a:endParaRPr b="1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72000" y="457200"/>
            <a:ext cx="3824280" cy="1599840"/>
            <a:chOff x="4572000" y="457200"/>
            <a:chExt cx="3824280" cy="1599840"/>
          </a:xfrm>
        </p:grpSpPr>
        <p:grpSp>
          <p:nvGrpSpPr>
            <p:cNvPr id="124" name=""/>
            <p:cNvGrpSpPr/>
            <p:nvPr/>
          </p:nvGrpSpPr>
          <p:grpSpPr>
            <a:xfrm>
              <a:off x="4572000" y="457200"/>
              <a:ext cx="3809520" cy="1599840"/>
              <a:chOff x="4572000" y="457200"/>
              <a:chExt cx="3809520" cy="1599840"/>
            </a:xfrm>
          </p:grpSpPr>
          <p:sp>
            <p:nvSpPr>
              <p:cNvPr id="125" name=""/>
              <p:cNvSpPr/>
              <p:nvPr/>
            </p:nvSpPr>
            <p:spPr>
              <a:xfrm>
                <a:off x="4572000" y="457200"/>
                <a:ext cx="3809520" cy="1599840"/>
              </a:xfrm>
              <a:prstGeom prst="bevel">
                <a:avLst>
                  <a:gd name="adj" fmla="val 6338"/>
                </a:avLst>
              </a:prstGeom>
              <a:solidFill>
                <a:srgbClr val="ffffff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80360" y="557280"/>
                <a:ext cx="3592080" cy="13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7" name=""/>
            <p:cNvSpPr/>
            <p:nvPr/>
          </p:nvSpPr>
          <p:spPr>
            <a:xfrm>
              <a:off x="4602240" y="457200"/>
              <a:ext cx="3794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VNI-Cooper"/>
                </a:rPr>
                <a:t>Cô sôû, ñoäng löïc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VNI-Cooper"/>
                </a:rPr>
                <a:t>nhaän thöù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609480" y="6172200"/>
            <a:ext cx="8229600" cy="5335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Times"/>
              </a:rPr>
              <a:t>Sô ñoà 3,3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 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Vai troø cuûa thöïc tieãn ñoái vôùi nhaän thöù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36600" y="2514600"/>
            <a:ext cx="3473280" cy="1295280"/>
            <a:chOff x="336600" y="2514600"/>
            <a:chExt cx="3473280" cy="1295280"/>
          </a:xfrm>
        </p:grpSpPr>
        <p:sp>
          <p:nvSpPr>
            <p:cNvPr id="130" name=""/>
            <p:cNvSpPr/>
            <p:nvPr/>
          </p:nvSpPr>
          <p:spPr>
            <a:xfrm>
              <a:off x="336600" y="2514600"/>
              <a:ext cx="3473280" cy="1295280"/>
            </a:xfrm>
            <a:prstGeom prst="bevel">
              <a:avLst>
                <a:gd name="adj" fmla="val 10051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488880" y="2627280"/>
              <a:ext cx="320040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488880" y="2590920"/>
              <a:ext cx="3124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Times New Roman"/>
                </a:rPr>
                <a:t>Vai trò của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Times New Roman"/>
                </a:rPr>
                <a:t>thực tiễ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495680" y="4267080"/>
            <a:ext cx="3809880" cy="1599840"/>
            <a:chOff x="4495680" y="4267080"/>
            <a:chExt cx="3809880" cy="1599840"/>
          </a:xfrm>
        </p:grpSpPr>
        <p:grpSp>
          <p:nvGrpSpPr>
            <p:cNvPr id="134" name=""/>
            <p:cNvGrpSpPr/>
            <p:nvPr/>
          </p:nvGrpSpPr>
          <p:grpSpPr>
            <a:xfrm>
              <a:off x="4495680" y="4267080"/>
              <a:ext cx="3809880" cy="1599840"/>
              <a:chOff x="4495680" y="4267080"/>
              <a:chExt cx="3809880" cy="1599840"/>
            </a:xfrm>
          </p:grpSpPr>
          <p:sp>
            <p:nvSpPr>
              <p:cNvPr id="135" name=""/>
              <p:cNvSpPr/>
              <p:nvPr/>
            </p:nvSpPr>
            <p:spPr>
              <a:xfrm>
                <a:off x="4495680" y="4267080"/>
                <a:ext cx="3809880" cy="1599840"/>
              </a:xfrm>
              <a:prstGeom prst="bevel">
                <a:avLst>
                  <a:gd name="adj" fmla="val 6338"/>
                </a:avLst>
              </a:prstGeom>
              <a:solidFill>
                <a:srgbClr val="ffffff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604040" y="4367160"/>
                <a:ext cx="3592440" cy="13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7" name=""/>
            <p:cNvSpPr/>
            <p:nvPr/>
          </p:nvSpPr>
          <p:spPr>
            <a:xfrm>
              <a:off x="4734000" y="4419360"/>
              <a:ext cx="3385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3300"/>
                  </a:solidFill>
                  <a:latin typeface="VNI-Cooper"/>
                </a:rPr>
                <a:t>Tieâu chuaå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3300"/>
                  </a:solidFill>
                  <a:latin typeface="VNI-Cooper"/>
                </a:rPr>
                <a:t>cuûa chaân lyù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8" name=""/>
          <p:cNvCxnSpPr/>
          <p:nvPr/>
        </p:nvCxnSpPr>
        <p:spPr>
          <a:xfrm flipV="1">
            <a:off x="3809520" y="1828440"/>
            <a:ext cx="762840" cy="129600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139" name=""/>
          <p:cNvCxnSpPr/>
          <p:nvPr/>
        </p:nvCxnSpPr>
        <p:spPr>
          <a:xfrm>
            <a:off x="3809520" y="3161880"/>
            <a:ext cx="686520" cy="114372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grpSp>
        <p:nvGrpSpPr>
          <p:cNvPr id="140" name=""/>
          <p:cNvGrpSpPr/>
          <p:nvPr/>
        </p:nvGrpSpPr>
        <p:grpSpPr>
          <a:xfrm>
            <a:off x="4572000" y="2286000"/>
            <a:ext cx="3809520" cy="1599840"/>
            <a:chOff x="4572000" y="2286000"/>
            <a:chExt cx="3809520" cy="1599840"/>
          </a:xfrm>
        </p:grpSpPr>
        <p:grpSp>
          <p:nvGrpSpPr>
            <p:cNvPr id="141" name=""/>
            <p:cNvGrpSpPr/>
            <p:nvPr/>
          </p:nvGrpSpPr>
          <p:grpSpPr>
            <a:xfrm>
              <a:off x="4572000" y="2286000"/>
              <a:ext cx="3809520" cy="1599840"/>
              <a:chOff x="4572000" y="2286000"/>
              <a:chExt cx="3809520" cy="15998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0" y="2286000"/>
                <a:ext cx="3809520" cy="1599840"/>
              </a:xfrm>
              <a:prstGeom prst="bevel">
                <a:avLst>
                  <a:gd name="adj" fmla="val 6338"/>
                </a:avLst>
              </a:prstGeom>
              <a:solidFill>
                <a:srgbClr val="ffffff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0360" y="2386080"/>
                <a:ext cx="3592080" cy="13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4" name=""/>
            <p:cNvSpPr/>
            <p:nvPr/>
          </p:nvSpPr>
          <p:spPr>
            <a:xfrm>
              <a:off x="4977720" y="2286000"/>
              <a:ext cx="3041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VNI-Cooper"/>
                </a:rPr>
                <a:t>Muïc ñích cuû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VNI-Cooper"/>
                </a:rPr>
                <a:t>nhaän thöù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 flipV="1">
            <a:off x="3809880" y="3047760"/>
            <a:ext cx="838440" cy="75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52280" y="76320"/>
            <a:ext cx="8534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III. Hai giai đoạn của quá trình nhận thức</a:t>
            </a:r>
            <a:endParaRPr b="1" lang="en-US" sz="24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715000"/>
            <a:ext cx="3648240" cy="1373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Duff"/>
              </a:rPr>
              <a:t>(tröïc quan sinh ñoä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895480" y="1981080"/>
            <a:ext cx="2347920" cy="685800"/>
            <a:chOff x="2895480" y="1981080"/>
            <a:chExt cx="2347920" cy="685800"/>
          </a:xfrm>
        </p:grpSpPr>
        <p:sp>
          <p:nvSpPr>
            <p:cNvPr id="150" name=""/>
            <p:cNvSpPr/>
            <p:nvPr/>
          </p:nvSpPr>
          <p:spPr>
            <a:xfrm>
              <a:off x="2895480" y="1981080"/>
              <a:ext cx="2347920" cy="685800"/>
            </a:xfrm>
            <a:prstGeom prst="bevel">
              <a:avLst>
                <a:gd name="adj" fmla="val 4829"/>
              </a:avLst>
            </a:prstGeom>
            <a:solidFill>
              <a:srgbClr val="eaeaea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2960640" y="2027520"/>
              <a:ext cx="221760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" name=""/>
          <p:cNvSpPr/>
          <p:nvPr/>
        </p:nvSpPr>
        <p:spPr>
          <a:xfrm>
            <a:off x="2986200" y="1981080"/>
            <a:ext cx="2347920" cy="1068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NI-Ariston"/>
              </a:rPr>
              <a:t>Caûm giaù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-191880" y="3124080"/>
            <a:ext cx="2646720" cy="1295640"/>
            <a:chOff x="-191880" y="3124080"/>
            <a:chExt cx="2646720" cy="1295640"/>
          </a:xfrm>
        </p:grpSpPr>
        <p:grpSp>
          <p:nvGrpSpPr>
            <p:cNvPr id="154" name=""/>
            <p:cNvGrpSpPr/>
            <p:nvPr/>
          </p:nvGrpSpPr>
          <p:grpSpPr>
            <a:xfrm>
              <a:off x="0" y="3124080"/>
              <a:ext cx="2209680" cy="1295640"/>
              <a:chOff x="0" y="3124080"/>
              <a:chExt cx="2209680" cy="1295640"/>
            </a:xfrm>
          </p:grpSpPr>
          <p:sp>
            <p:nvSpPr>
              <p:cNvPr id="155" name=""/>
              <p:cNvSpPr/>
              <p:nvPr/>
            </p:nvSpPr>
            <p:spPr>
              <a:xfrm>
                <a:off x="0" y="3124080"/>
                <a:ext cx="2209680" cy="1295640"/>
              </a:xfrm>
              <a:prstGeom prst="bevel">
                <a:avLst>
                  <a:gd name="adj" fmla="val 8051"/>
                </a:avLst>
              </a:prstGeom>
              <a:solidFill>
                <a:srgbClr val="eaeaea"/>
              </a:solidFill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46880" y="3241800"/>
                <a:ext cx="1914840" cy="1059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7" name=""/>
            <p:cNvSpPr/>
            <p:nvPr/>
          </p:nvSpPr>
          <p:spPr>
            <a:xfrm>
              <a:off x="-191880" y="3313080"/>
              <a:ext cx="2646720" cy="10688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VNI-Duff"/>
                </a:rPr>
                <a:t>Nhaän thöù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VNI-Duff"/>
                </a:rPr>
                <a:t>caûm tín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666880" y="3276720"/>
            <a:ext cx="2438280" cy="685800"/>
            <a:chOff x="2666880" y="3276720"/>
            <a:chExt cx="2438280" cy="685800"/>
          </a:xfrm>
        </p:grpSpPr>
        <p:grpSp>
          <p:nvGrpSpPr>
            <p:cNvPr id="159" name=""/>
            <p:cNvGrpSpPr/>
            <p:nvPr/>
          </p:nvGrpSpPr>
          <p:grpSpPr>
            <a:xfrm>
              <a:off x="2666880" y="3276720"/>
              <a:ext cx="2347920" cy="685800"/>
              <a:chOff x="2666880" y="3276720"/>
              <a:chExt cx="2347920" cy="685800"/>
            </a:xfrm>
          </p:grpSpPr>
          <p:sp>
            <p:nvSpPr>
              <p:cNvPr id="160" name=""/>
              <p:cNvSpPr/>
              <p:nvPr/>
            </p:nvSpPr>
            <p:spPr>
              <a:xfrm>
                <a:off x="2666880" y="3276720"/>
                <a:ext cx="2347920" cy="685800"/>
              </a:xfrm>
              <a:prstGeom prst="bevel">
                <a:avLst>
                  <a:gd name="adj" fmla="val 4829"/>
                </a:avLst>
              </a:prstGeom>
              <a:solidFill>
                <a:srgbClr val="eaeaea"/>
              </a:solidFill>
              <a:ln w="9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6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32040" y="3323160"/>
                <a:ext cx="2217600" cy="608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2" name=""/>
            <p:cNvSpPr/>
            <p:nvPr/>
          </p:nvSpPr>
          <p:spPr>
            <a:xfrm>
              <a:off x="2757240" y="3276720"/>
              <a:ext cx="2347920" cy="581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NI-Ariston"/>
                </a:rPr>
                <a:t>  </a:t>
              </a:r>
              <a:r>
                <a:rPr b="1" lang="en-US" sz="3200" spc="-1" strike="noStrike">
                  <a:solidFill>
                    <a:srgbClr val="000000"/>
                  </a:solidFill>
                  <a:latin typeface="VNI-Ariston"/>
                </a:rPr>
                <a:t>Tri giaù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819520" y="4800600"/>
            <a:ext cx="2438280" cy="1068840"/>
            <a:chOff x="2819520" y="4800600"/>
            <a:chExt cx="2438280" cy="1068840"/>
          </a:xfrm>
        </p:grpSpPr>
        <p:grpSp>
          <p:nvGrpSpPr>
            <p:cNvPr id="164" name=""/>
            <p:cNvGrpSpPr/>
            <p:nvPr/>
          </p:nvGrpSpPr>
          <p:grpSpPr>
            <a:xfrm>
              <a:off x="2819520" y="4800600"/>
              <a:ext cx="2286000" cy="685800"/>
              <a:chOff x="2819520" y="4800600"/>
              <a:chExt cx="2286000" cy="685800"/>
            </a:xfrm>
          </p:grpSpPr>
          <p:sp>
            <p:nvSpPr>
              <p:cNvPr id="165" name=""/>
              <p:cNvSpPr/>
              <p:nvPr/>
            </p:nvSpPr>
            <p:spPr>
              <a:xfrm>
                <a:off x="2819520" y="4800600"/>
                <a:ext cx="2286000" cy="685800"/>
              </a:xfrm>
              <a:prstGeom prst="bevel">
                <a:avLst>
                  <a:gd name="adj" fmla="val 4829"/>
                </a:avLst>
              </a:prstGeom>
              <a:solidFill>
                <a:srgbClr val="eaeaea"/>
              </a:solidFill>
              <a:ln w="9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6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882880" y="4847040"/>
                <a:ext cx="2158920" cy="608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7" name=""/>
            <p:cNvSpPr/>
            <p:nvPr/>
          </p:nvSpPr>
          <p:spPr>
            <a:xfrm>
              <a:off x="2895480" y="4800600"/>
              <a:ext cx="2362320" cy="10688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NI-Ariston"/>
                </a:rPr>
                <a:t>Bieåu töôï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410080" y="5105520"/>
            <a:ext cx="3733560" cy="1261080"/>
            <a:chOff x="5410080" y="5105520"/>
            <a:chExt cx="3733560" cy="1261080"/>
          </a:xfrm>
        </p:grpSpPr>
        <p:sp>
          <p:nvSpPr>
            <p:cNvPr id="169" name=""/>
            <p:cNvSpPr/>
            <p:nvPr/>
          </p:nvSpPr>
          <p:spPr>
            <a:xfrm>
              <a:off x="5410080" y="5105520"/>
              <a:ext cx="3733560" cy="838080"/>
            </a:xfrm>
            <a:prstGeom prst="bevel">
              <a:avLst>
                <a:gd name="adj" fmla="val 8088"/>
              </a:avLst>
            </a:prstGeom>
            <a:solidFill>
              <a:srgbClr val="eaeaea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5"/>
            <a:stretch/>
          </p:blipFill>
          <p:spPr>
            <a:xfrm>
              <a:off x="5504400" y="5175360"/>
              <a:ext cx="3540960" cy="73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5688720" y="5175360"/>
              <a:ext cx="2987280" cy="11912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NI-Tekon"/>
                </a:rPr>
                <a:t>Khoâng coøn tröïc tieáp tieáp xuùc  vôùi S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962240" y="914400"/>
            <a:ext cx="4604760" cy="975600"/>
            <a:chOff x="4962240" y="914400"/>
            <a:chExt cx="4604760" cy="975600"/>
          </a:xfrm>
        </p:grpSpPr>
        <p:sp>
          <p:nvSpPr>
            <p:cNvPr id="173" name=""/>
            <p:cNvSpPr/>
            <p:nvPr/>
          </p:nvSpPr>
          <p:spPr>
            <a:xfrm>
              <a:off x="5562720" y="914400"/>
              <a:ext cx="3580920" cy="914400"/>
            </a:xfrm>
            <a:prstGeom prst="bevel">
              <a:avLst>
                <a:gd name="adj" fmla="val 8088"/>
              </a:avLst>
            </a:prstGeom>
            <a:solidFill>
              <a:srgbClr val="eaeaea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4" name="" descr=""/>
            <p:cNvPicPr/>
            <p:nvPr/>
          </p:nvPicPr>
          <p:blipFill>
            <a:blip r:embed="rId6"/>
            <a:stretch/>
          </p:blipFill>
          <p:spPr>
            <a:xfrm>
              <a:off x="5653080" y="990720"/>
              <a:ext cx="339624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4962240" y="942840"/>
              <a:ext cx="4604760" cy="9471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NI-Tekon"/>
                </a:rPr>
                <a:t>P/aù nhöõng thuoäc tín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NI-Tekon"/>
                </a:rPr>
                <a:t>rieâng leû, beà ngoaøi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729320" y="1981080"/>
            <a:ext cx="5066640" cy="975600"/>
            <a:chOff x="4729320" y="1981080"/>
            <a:chExt cx="5066640" cy="975600"/>
          </a:xfrm>
        </p:grpSpPr>
        <p:sp>
          <p:nvSpPr>
            <p:cNvPr id="177" name=""/>
            <p:cNvSpPr/>
            <p:nvPr/>
          </p:nvSpPr>
          <p:spPr>
            <a:xfrm>
              <a:off x="5562720" y="1981080"/>
              <a:ext cx="3580920" cy="914400"/>
            </a:xfrm>
            <a:prstGeom prst="bevel">
              <a:avLst>
                <a:gd name="adj" fmla="val 8088"/>
              </a:avLst>
            </a:prstGeom>
            <a:solidFill>
              <a:srgbClr val="eaeaea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7"/>
            <a:stretch/>
          </p:blipFill>
          <p:spPr>
            <a:xfrm>
              <a:off x="5653080" y="2057400"/>
              <a:ext cx="339624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4729320" y="2009520"/>
              <a:ext cx="5066640" cy="9471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NI-Tekon"/>
                </a:rPr>
                <a:t>Thoâng qua töøng giaùc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NI-Tekon"/>
                </a:rPr>
                <a:t>quan khi tieáp xuùc vôùi S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5410080" y="3048120"/>
            <a:ext cx="3581640" cy="914400"/>
          </a:xfrm>
          <a:prstGeom prst="bevel">
            <a:avLst>
              <a:gd name="adj" fmla="val 8088"/>
            </a:avLst>
          </a:prstGeom>
          <a:solidFill>
            <a:srgbClr val="eaeaea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8"/>
          <a:stretch/>
        </p:blipFill>
        <p:spPr>
          <a:xfrm>
            <a:off x="5500800" y="3124080"/>
            <a:ext cx="3396960" cy="8064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501080" y="3181320"/>
            <a:ext cx="5223600" cy="581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NI-Tekon"/>
              </a:rPr>
              <a:t>PA toaøn boä beà ngoaø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10080" y="4038480"/>
            <a:ext cx="3733920" cy="1030320"/>
          </a:xfrm>
          <a:prstGeom prst="bevel">
            <a:avLst>
              <a:gd name="adj" fmla="val 8088"/>
            </a:avLst>
          </a:prstGeom>
          <a:solidFill>
            <a:srgbClr val="eaeaea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5489640" y="4124160"/>
            <a:ext cx="3571920" cy="908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489640" y="4038480"/>
            <a:ext cx="3384360" cy="1557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ekon"/>
              </a:rPr>
              <a:t>Thoâng qua caùc giaù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ekon"/>
              </a:rPr>
              <a:t>quan khi tieáp xuùc vôùi S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257800" y="5943600"/>
            <a:ext cx="3885840" cy="1680840"/>
            <a:chOff x="5257800" y="5943600"/>
            <a:chExt cx="3885840" cy="1680840"/>
          </a:xfrm>
        </p:grpSpPr>
        <p:sp>
          <p:nvSpPr>
            <p:cNvPr id="187" name=""/>
            <p:cNvSpPr/>
            <p:nvPr/>
          </p:nvSpPr>
          <p:spPr>
            <a:xfrm>
              <a:off x="5330160" y="5943600"/>
              <a:ext cx="3813480" cy="914400"/>
            </a:xfrm>
            <a:prstGeom prst="bevel">
              <a:avLst>
                <a:gd name="adj" fmla="val 8088"/>
              </a:avLst>
            </a:prstGeom>
            <a:solidFill>
              <a:srgbClr val="eaeaea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10"/>
            <a:stretch/>
          </p:blipFill>
          <p:spPr>
            <a:xfrm>
              <a:off x="5426640" y="6019920"/>
              <a:ext cx="36169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5257800" y="6006960"/>
              <a:ext cx="3765600" cy="1617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NI-Tekon"/>
                </a:rPr>
                <a:t>Taùi hieän laïi nhöõng  neùt ñaëc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NI-Teko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VNI-Tekon"/>
                </a:rPr>
                <a:t>tröng noåi baät beà ngoaøi SV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 flipV="1">
            <a:off x="2209680" y="2362320"/>
            <a:ext cx="762120" cy="129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09680" y="36576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09680" y="3733920"/>
            <a:ext cx="609840" cy="129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257800" y="1447920"/>
            <a:ext cx="380880" cy="838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029200" y="3429000"/>
            <a:ext cx="53352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362320"/>
            <a:ext cx="38088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3505320"/>
            <a:ext cx="60948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05520" y="510552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05520" y="5105520"/>
            <a:ext cx="228600" cy="129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6338880"/>
            <a:ext cx="5334120" cy="947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NI-Vari"/>
              </a:rPr>
              <a:t>Sô ñoà 3,4: Nhaän thöùc caûm tín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9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464000" y="1447920"/>
            <a:ext cx="3809520" cy="1599840"/>
            <a:chOff x="4464000" y="1447920"/>
            <a:chExt cx="3809520" cy="1599840"/>
          </a:xfrm>
        </p:grpSpPr>
        <p:grpSp>
          <p:nvGrpSpPr>
            <p:cNvPr id="202" name=""/>
            <p:cNvGrpSpPr/>
            <p:nvPr/>
          </p:nvGrpSpPr>
          <p:grpSpPr>
            <a:xfrm>
              <a:off x="4464000" y="1447920"/>
              <a:ext cx="3809520" cy="1599840"/>
              <a:chOff x="4464000" y="1447920"/>
              <a:chExt cx="3809520" cy="1599840"/>
            </a:xfrm>
          </p:grpSpPr>
          <p:sp>
            <p:nvSpPr>
              <p:cNvPr id="203" name=""/>
              <p:cNvSpPr/>
              <p:nvPr/>
            </p:nvSpPr>
            <p:spPr>
              <a:xfrm>
                <a:off x="4464000" y="1447920"/>
                <a:ext cx="3809520" cy="1599840"/>
              </a:xfrm>
              <a:prstGeom prst="bevel">
                <a:avLst>
                  <a:gd name="adj" fmla="val 6338"/>
                </a:avLst>
              </a:prstGeom>
              <a:solidFill>
                <a:srgbClr val="ffffff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360" y="1548000"/>
                <a:ext cx="3592080" cy="13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5" name=""/>
            <p:cNvSpPr/>
            <p:nvPr/>
          </p:nvSpPr>
          <p:spPr>
            <a:xfrm>
              <a:off x="4602600" y="1447920"/>
              <a:ext cx="3592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VNI-Cooper"/>
                </a:rPr>
                <a:t>P/aùnh tröïc tieá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VNI-Cooper"/>
                </a:rPr>
                <a:t>söï vaät, khoâng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VNI-Cooper"/>
                </a:rPr>
                <a:t>qua trung gian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09480" y="6172200"/>
            <a:ext cx="8229600" cy="5335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Times"/>
              </a:rPr>
              <a:t>Sô ñoà 3 5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 Ñaëc ñieåm cuûa nhaän thöùc caûm tín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28600" y="2819520"/>
            <a:ext cx="3473280" cy="1823400"/>
            <a:chOff x="228600" y="2819520"/>
            <a:chExt cx="3473280" cy="1823400"/>
          </a:xfrm>
        </p:grpSpPr>
        <p:sp>
          <p:nvSpPr>
            <p:cNvPr id="208" name=""/>
            <p:cNvSpPr/>
            <p:nvPr/>
          </p:nvSpPr>
          <p:spPr>
            <a:xfrm>
              <a:off x="228600" y="2819520"/>
              <a:ext cx="3473280" cy="1823400"/>
            </a:xfrm>
            <a:prstGeom prst="bevel">
              <a:avLst>
                <a:gd name="adj" fmla="val 10051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2"/>
            <a:stretch/>
          </p:blipFill>
          <p:spPr>
            <a:xfrm>
              <a:off x="380880" y="2977920"/>
              <a:ext cx="3200400" cy="145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380880" y="2926800"/>
              <a:ext cx="31240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Times New Roman"/>
                </a:rPr>
                <a:t>Đặc điểm của nhận thức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Times New Roman"/>
                </a:rPr>
                <a:t>cảm tín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387680" y="3886200"/>
            <a:ext cx="3864240" cy="1599840"/>
            <a:chOff x="4387680" y="3886200"/>
            <a:chExt cx="3864240" cy="1599840"/>
          </a:xfrm>
        </p:grpSpPr>
        <p:grpSp>
          <p:nvGrpSpPr>
            <p:cNvPr id="212" name=""/>
            <p:cNvGrpSpPr/>
            <p:nvPr/>
          </p:nvGrpSpPr>
          <p:grpSpPr>
            <a:xfrm>
              <a:off x="4387680" y="3886200"/>
              <a:ext cx="3809880" cy="1599840"/>
              <a:chOff x="4387680" y="3886200"/>
              <a:chExt cx="3809880" cy="1599840"/>
            </a:xfrm>
          </p:grpSpPr>
          <p:sp>
            <p:nvSpPr>
              <p:cNvPr id="213" name=""/>
              <p:cNvSpPr/>
              <p:nvPr/>
            </p:nvSpPr>
            <p:spPr>
              <a:xfrm>
                <a:off x="4387680" y="3886200"/>
                <a:ext cx="3809880" cy="1599840"/>
              </a:xfrm>
              <a:prstGeom prst="bevel">
                <a:avLst>
                  <a:gd name="adj" fmla="val 6338"/>
                </a:avLst>
              </a:prstGeom>
              <a:solidFill>
                <a:srgbClr val="ffffff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1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96040" y="3986280"/>
                <a:ext cx="3592440" cy="13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5" name=""/>
            <p:cNvSpPr/>
            <p:nvPr/>
          </p:nvSpPr>
          <p:spPr>
            <a:xfrm>
              <a:off x="4392360" y="4038480"/>
              <a:ext cx="3859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3300"/>
                  </a:solidFill>
                  <a:latin typeface="VNI-Cooper"/>
                </a:rPr>
                <a:t>Môùi p/aùnh beà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3300"/>
                  </a:solidFill>
                  <a:latin typeface="VNI-Cooper"/>
                </a:rPr>
                <a:t>ngoaøi cuûa SV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6" name=""/>
          <p:cNvCxnSpPr/>
          <p:nvPr/>
        </p:nvCxnSpPr>
        <p:spPr>
          <a:xfrm flipV="1">
            <a:off x="3701520" y="2247120"/>
            <a:ext cx="762840" cy="129636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217" name=""/>
          <p:cNvCxnSpPr/>
          <p:nvPr/>
        </p:nvCxnSpPr>
        <p:spPr>
          <a:xfrm>
            <a:off x="3701520" y="3543120"/>
            <a:ext cx="686520" cy="114372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218" name=""/>
          <p:cNvSpPr txBox="1"/>
          <p:nvPr/>
        </p:nvSpPr>
        <p:spPr>
          <a:xfrm>
            <a:off x="152280" y="76320"/>
            <a:ext cx="8534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III. Hai giai đoạn của quá trình nhận thức</a:t>
            </a:r>
            <a:endParaRPr b="1" lang="en-US" sz="24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-191880" y="609480"/>
            <a:ext cx="10516680" cy="6129720"/>
            <a:chOff x="-191880" y="609480"/>
            <a:chExt cx="10516680" cy="6129720"/>
          </a:xfrm>
        </p:grpSpPr>
        <p:sp>
          <p:nvSpPr>
            <p:cNvPr id="220" name=""/>
            <p:cNvSpPr/>
            <p:nvPr/>
          </p:nvSpPr>
          <p:spPr>
            <a:xfrm>
              <a:off x="380880" y="5105160"/>
              <a:ext cx="3648240" cy="13737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NI-Duff"/>
                </a:rPr>
                <a:t>(Tö duy tröøu töôïng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2971800" y="1066680"/>
              <a:ext cx="2347920" cy="685800"/>
              <a:chOff x="2971800" y="1066680"/>
              <a:chExt cx="2347920" cy="685800"/>
            </a:xfrm>
          </p:grpSpPr>
          <p:sp>
            <p:nvSpPr>
              <p:cNvPr id="222" name=""/>
              <p:cNvSpPr/>
              <p:nvPr/>
            </p:nvSpPr>
            <p:spPr>
              <a:xfrm>
                <a:off x="2971800" y="1066680"/>
                <a:ext cx="2347920" cy="685800"/>
              </a:xfrm>
              <a:prstGeom prst="bevel">
                <a:avLst>
                  <a:gd name="adj" fmla="val 4829"/>
                </a:avLst>
              </a:prstGeom>
              <a:solidFill>
                <a:srgbClr val="ccffff"/>
              </a:solidFill>
              <a:ln w="9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036960" y="1113120"/>
                <a:ext cx="2217600" cy="608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4" name=""/>
            <p:cNvSpPr/>
            <p:nvPr/>
          </p:nvSpPr>
          <p:spPr>
            <a:xfrm>
              <a:off x="2971800" y="1218960"/>
              <a:ext cx="2347920" cy="10688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NI-Ariston"/>
                </a:rPr>
                <a:t>Khaùi nieä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-191880" y="2514600"/>
              <a:ext cx="2646720" cy="1295280"/>
              <a:chOff x="-191880" y="2514600"/>
              <a:chExt cx="2646720" cy="129528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0" y="2514600"/>
                <a:ext cx="2209680" cy="1295280"/>
                <a:chOff x="0" y="2514600"/>
                <a:chExt cx="2209680" cy="129528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0" y="2514600"/>
                  <a:ext cx="2209680" cy="1295280"/>
                </a:xfrm>
                <a:prstGeom prst="bevel">
                  <a:avLst>
                    <a:gd name="adj" fmla="val 8051"/>
                  </a:avLst>
                </a:prstGeom>
                <a:solidFill>
                  <a:srgbClr val="ccffff"/>
                </a:solidFill>
                <a:ln w="9360">
                  <a:solidFill>
                    <a:srgbClr val="ff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2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46880" y="2632320"/>
                  <a:ext cx="1914840" cy="1059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29" name=""/>
              <p:cNvSpPr/>
              <p:nvPr/>
            </p:nvSpPr>
            <p:spPr>
              <a:xfrm>
                <a:off x="-191880" y="2703240"/>
                <a:ext cx="2646720" cy="10688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VNI-Duff"/>
                  </a:rPr>
                  <a:t>Nhaän thöù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VNI-Duff"/>
                  </a:rPr>
                  <a:t>lyù tính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2666880" y="2819160"/>
              <a:ext cx="2514240" cy="1008000"/>
              <a:chOff x="2666880" y="2819160"/>
              <a:chExt cx="2514240" cy="100800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2666880" y="2819160"/>
                <a:ext cx="2421000" cy="685800"/>
                <a:chOff x="2666880" y="2819160"/>
                <a:chExt cx="2421000" cy="68580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666880" y="2819160"/>
                  <a:ext cx="2421000" cy="685800"/>
                </a:xfrm>
                <a:prstGeom prst="bevel">
                  <a:avLst>
                    <a:gd name="adj" fmla="val 4829"/>
                  </a:avLst>
                </a:prstGeom>
                <a:solidFill>
                  <a:srgbClr val="ccffff"/>
                </a:solidFill>
                <a:ln w="936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3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734200" y="2865600"/>
                  <a:ext cx="2286360" cy="608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34" name=""/>
              <p:cNvSpPr/>
              <p:nvPr/>
            </p:nvSpPr>
            <p:spPr>
              <a:xfrm>
                <a:off x="2760120" y="2819160"/>
                <a:ext cx="2421000" cy="1008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VNI-Ariston"/>
                  </a:rPr>
                  <a:t>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VNI-Ariston"/>
                  </a:rPr>
                  <a:t>Phaùn ñoaù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2819520" y="4419360"/>
              <a:ext cx="2438280" cy="685800"/>
              <a:chOff x="2819520" y="4419360"/>
              <a:chExt cx="2438280" cy="68580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2819520" y="4419360"/>
                <a:ext cx="2286000" cy="685800"/>
                <a:chOff x="2819520" y="4419360"/>
                <a:chExt cx="2286000" cy="6858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2819520" y="4419360"/>
                  <a:ext cx="2286000" cy="685800"/>
                </a:xfrm>
                <a:prstGeom prst="bevel">
                  <a:avLst>
                    <a:gd name="adj" fmla="val 4829"/>
                  </a:avLst>
                </a:prstGeom>
                <a:solidFill>
                  <a:srgbClr val="ccffff"/>
                </a:solidFill>
                <a:ln w="936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3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882880" y="4465800"/>
                  <a:ext cx="2158920" cy="608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39" name=""/>
              <p:cNvSpPr/>
              <p:nvPr/>
            </p:nvSpPr>
            <p:spPr>
              <a:xfrm>
                <a:off x="2895480" y="4419360"/>
                <a:ext cx="2362320" cy="581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VNI-Ariston"/>
                  </a:rPr>
                  <a:t>Suy luậ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562720" y="609480"/>
              <a:ext cx="3580920" cy="2278800"/>
              <a:chOff x="5562720" y="609480"/>
              <a:chExt cx="3580920" cy="2278800"/>
            </a:xfrm>
          </p:grpSpPr>
          <p:sp>
            <p:nvSpPr>
              <p:cNvPr id="241" name=""/>
              <p:cNvSpPr/>
              <p:nvPr/>
            </p:nvSpPr>
            <p:spPr>
              <a:xfrm>
                <a:off x="5562720" y="609480"/>
                <a:ext cx="3580920" cy="1676160"/>
              </a:xfrm>
              <a:prstGeom prst="bevel">
                <a:avLst>
                  <a:gd name="adj" fmla="val 8088"/>
                </a:avLst>
              </a:prstGeom>
              <a:solidFill>
                <a:srgbClr val="cc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4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653080" y="749160"/>
                <a:ext cx="3396240" cy="147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>
                <a:off x="5598360" y="661320"/>
                <a:ext cx="3362760" cy="22269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VNI-Tekon"/>
                  </a:rPr>
                  <a:t>P/aù nhöõng thuoäc tính chung, baûn chaát,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VNI-Tekon"/>
                  </a:rPr>
                  <a:t>taát yeáu cuûa SV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5562720" y="2638440"/>
              <a:ext cx="3423960" cy="1044360"/>
            </a:xfrm>
            <a:prstGeom prst="bevel">
              <a:avLst>
                <a:gd name="adj" fmla="val 8088"/>
              </a:avLst>
            </a:prstGeom>
            <a:solidFill>
              <a:srgbClr val="cc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5" name="" descr=""/>
            <p:cNvPicPr/>
            <p:nvPr/>
          </p:nvPicPr>
          <p:blipFill>
            <a:blip r:embed="rId6"/>
            <a:stretch/>
          </p:blipFill>
          <p:spPr>
            <a:xfrm>
              <a:off x="5648400" y="2725560"/>
              <a:ext cx="324792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4366440" y="2619360"/>
              <a:ext cx="5958360" cy="1191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NI-Tekon"/>
                </a:rPr>
                <a:t>Lieân keát nhöõng KN nhaèm k/ñòn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NI-Tekon"/>
                </a:rPr>
                <a:t>hay  PÑ nhöõng thuoäc tính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NI-Tekon"/>
                </a:rPr>
                <a:t>nhöõng moái lieân heä cuûa S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5410080" y="3962160"/>
              <a:ext cx="3733560" cy="2777040"/>
              <a:chOff x="5410080" y="3962160"/>
              <a:chExt cx="3733560" cy="2777040"/>
            </a:xfrm>
          </p:grpSpPr>
          <p:sp>
            <p:nvSpPr>
              <p:cNvPr id="248" name=""/>
              <p:cNvSpPr/>
              <p:nvPr/>
            </p:nvSpPr>
            <p:spPr>
              <a:xfrm>
                <a:off x="5410080" y="3962160"/>
                <a:ext cx="3733560" cy="1483200"/>
              </a:xfrm>
              <a:prstGeom prst="bevel">
                <a:avLst>
                  <a:gd name="adj" fmla="val 8088"/>
                </a:avLst>
              </a:prstGeom>
              <a:solidFill>
                <a:srgbClr val="cc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4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04400" y="4085640"/>
                <a:ext cx="3540960" cy="130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>
                <a:off x="5688720" y="4085640"/>
                <a:ext cx="2987280" cy="26535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VNI-Tekon"/>
                  </a:rPr>
                  <a:t>Lieân keát nhöõng PÑ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VNI-Tekon"/>
                  </a:rPr>
                  <a:t>ñeå ruùt ra tri thöùc môùi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VNI-Tekon"/>
                  </a:rPr>
                  <a:t>veà SV, hieän töôïn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 flipV="1">
              <a:off x="2209680" y="1828800"/>
              <a:ext cx="76212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209680" y="312408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09680" y="3124080"/>
              <a:ext cx="60984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257800" y="144756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05520" y="32004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105520" y="47242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914400" y="6248520"/>
            <a:ext cx="5334120" cy="947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NI-Vari"/>
              </a:rPr>
              <a:t>Sô ñoà 3,6: Nhaän thöùc lyù tín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8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6172200"/>
            <a:ext cx="8229600" cy="5335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Times"/>
              </a:rPr>
              <a:t>Sô ñoà 3.7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 Ñaëc ñieåm cuûa nhaän thöùc lyù tín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36600" y="762120"/>
            <a:ext cx="8807040" cy="5332680"/>
            <a:chOff x="336600" y="762120"/>
            <a:chExt cx="8807040" cy="5332680"/>
          </a:xfrm>
        </p:grpSpPr>
        <p:grpSp>
          <p:nvGrpSpPr>
            <p:cNvPr id="261" name=""/>
            <p:cNvGrpSpPr/>
            <p:nvPr/>
          </p:nvGrpSpPr>
          <p:grpSpPr>
            <a:xfrm>
              <a:off x="4572000" y="762120"/>
              <a:ext cx="3809520" cy="2112840"/>
              <a:chOff x="4572000" y="762120"/>
              <a:chExt cx="3809520" cy="2112840"/>
            </a:xfrm>
          </p:grpSpPr>
          <p:sp>
            <p:nvSpPr>
              <p:cNvPr id="262" name=""/>
              <p:cNvSpPr/>
              <p:nvPr/>
            </p:nvSpPr>
            <p:spPr>
              <a:xfrm>
                <a:off x="4572000" y="762120"/>
                <a:ext cx="3809520" cy="2112840"/>
              </a:xfrm>
              <a:prstGeom prst="bevel">
                <a:avLst>
                  <a:gd name="adj" fmla="val 6338"/>
                </a:avLst>
              </a:prstGeom>
              <a:solidFill>
                <a:srgbClr val="ffffff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6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80360" y="894240"/>
                <a:ext cx="3592080" cy="1848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4" name=""/>
            <p:cNvSpPr/>
            <p:nvPr/>
          </p:nvSpPr>
          <p:spPr>
            <a:xfrm>
              <a:off x="4490640" y="1063800"/>
              <a:ext cx="4036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VNI-Cooper"/>
                </a:rPr>
                <a:t>P/aùnh giaùn tieáp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VNI-Cooper"/>
                </a:rPr>
                <a:t>khaùi quaùt söï vaä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336600" y="2573280"/>
              <a:ext cx="3473280" cy="2408760"/>
              <a:chOff x="336600" y="2573280"/>
              <a:chExt cx="3473280" cy="2408760"/>
            </a:xfrm>
          </p:grpSpPr>
          <p:sp>
            <p:nvSpPr>
              <p:cNvPr id="266" name=""/>
              <p:cNvSpPr/>
              <p:nvPr/>
            </p:nvSpPr>
            <p:spPr>
              <a:xfrm>
                <a:off x="336600" y="2573280"/>
                <a:ext cx="3473280" cy="2408760"/>
              </a:xfrm>
              <a:prstGeom prst="bevel">
                <a:avLst>
                  <a:gd name="adj" fmla="val 10051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6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8880" y="2782800"/>
                <a:ext cx="3200400" cy="191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"/>
              <p:cNvSpPr/>
              <p:nvPr/>
            </p:nvSpPr>
            <p:spPr>
              <a:xfrm>
                <a:off x="488880" y="2715120"/>
                <a:ext cx="3124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300"/>
                    </a:solidFill>
                    <a:latin typeface="Times New Roman"/>
                  </a:rPr>
                  <a:t>Đặc điểm của nhận thức lý tính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4336920" y="3982320"/>
              <a:ext cx="4806720" cy="2112480"/>
              <a:chOff x="4336920" y="3982320"/>
              <a:chExt cx="4806720" cy="2112480"/>
            </a:xfrm>
          </p:grpSpPr>
          <p:grpSp>
            <p:nvGrpSpPr>
              <p:cNvPr id="270" name=""/>
              <p:cNvGrpSpPr/>
              <p:nvPr/>
            </p:nvGrpSpPr>
            <p:grpSpPr>
              <a:xfrm>
                <a:off x="4518720" y="3982320"/>
                <a:ext cx="4368240" cy="2112480"/>
                <a:chOff x="4518720" y="3982320"/>
                <a:chExt cx="4368240" cy="21124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4518720" y="3982320"/>
                  <a:ext cx="4368240" cy="2112480"/>
                </a:xfrm>
                <a:prstGeom prst="bevel">
                  <a:avLst>
                    <a:gd name="adj" fmla="val 6338"/>
                  </a:avLst>
                </a:prstGeom>
                <a:solidFill>
                  <a:srgbClr val="ffffff"/>
                </a:soli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7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642920" y="4114440"/>
                  <a:ext cx="4118760" cy="1847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73" name=""/>
              <p:cNvSpPr/>
              <p:nvPr/>
            </p:nvSpPr>
            <p:spPr>
              <a:xfrm>
                <a:off x="4336920" y="4183200"/>
                <a:ext cx="48067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300"/>
                    </a:solidFill>
                    <a:latin typeface="VNI-Cooper"/>
                  </a:rPr>
                  <a:t>Vaïch ra baûn chaát,  quy luaät cuûa SV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4" name=""/>
            <p:cNvCxnSpPr/>
            <p:nvPr/>
          </p:nvCxnSpPr>
          <p:spPr>
            <a:xfrm flipV="1">
              <a:off x="3809520" y="1818000"/>
              <a:ext cx="762840" cy="171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275" name=""/>
            <p:cNvCxnSpPr/>
            <p:nvPr/>
          </p:nvCxnSpPr>
          <p:spPr>
            <a:xfrm>
              <a:off x="3809520" y="3529080"/>
              <a:ext cx="686520" cy="151020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8:30:51Z</dcterms:created>
  <dc:creator>hongha</dc:creator>
  <dc:description/>
  <dc:language>en-US</dc:language>
  <cp:lastModifiedBy>Nguyen Huy Khanh</cp:lastModifiedBy>
  <dcterms:modified xsi:type="dcterms:W3CDTF">2010-08-22T01:52:45Z</dcterms:modified>
  <cp:revision>30</cp:revision>
  <dc:subject/>
  <dc:title>PowerPoint Presentation</dc:title>
</cp:coreProperties>
</file>