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0D0-467C-4CE8-A4AF-E5CBDE2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221-D7BF-407A-9D0E-C8BD9E2E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757-E156-46D7-83EA-553A3836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8A6-49A4-4164-BEAE-B95FB656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84D-6D23-45F9-8A15-4E1290A5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58D-7249-4D30-9558-A5E21050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F84-3EEC-4B7C-A4A7-E40EF46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B97-9295-4FF0-ADED-FE40D885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874-531D-41BD-B93B-D7099BE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99B-1455-4A1C-BCAE-BD8093DA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7AC-D59E-4F92-80F7-1A17727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082-BB0A-418D-9F02-872BBB3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369-A6BF-49E9-9361-5CBA743F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012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2876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50920" y="566100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5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0:28:35Z</dcterms:created>
  <dc:creator>xz36v6</dc:creator>
  <dc:description/>
  <dc:language>en-US</dc:language>
  <cp:lastModifiedBy>Smets</cp:lastModifiedBy>
  <dcterms:modified xsi:type="dcterms:W3CDTF">2008-09-01T20:15:41Z</dcterms:modified>
  <cp:revision>2</cp:revision>
  <dc:subject/>
  <dc:title>Diapozitivul 1</dc:title>
</cp:coreProperties>
</file>