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0FD-4A09-4E28-8B0C-8B90A8F3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716-FDF6-40E2-9FB3-8B23202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DA2-7221-4953-9F28-3B92570E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18-5777-4FA8-931F-89BAF410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374-8662-43B0-9DD5-F60B1DB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19B-2650-4631-A3BC-993D459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9CA-8E8B-462A-B596-220E0DD2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D73-330B-4904-BD83-0A2BEB5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0D2-A286-4DFA-9BEB-3019A32B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BC3-759A-4BD5-93AA-4FEBC06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0E3-1027-4A12-BEA5-B3DD212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DA5-8BE8-443E-82FF-E9D7569D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CCF0-FFE3-4A16-B9C5-022B7B0A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2876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50920" y="566100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5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0:28:35Z</dcterms:created>
  <dc:creator>xz36v6</dc:creator>
  <dc:description/>
  <dc:language>en-US</dc:language>
  <cp:lastModifiedBy>Smets</cp:lastModifiedBy>
  <dcterms:modified xsi:type="dcterms:W3CDTF">2008-09-01T20:15:41Z</dcterms:modified>
  <cp:revision>2</cp:revision>
  <dc:subject/>
  <dc:title>Diapozitivul 1</dc:title>
</cp:coreProperties>
</file>