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8007-441D-4910-85E9-6EF183999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D166-8DD4-4F09-8B85-FEA2F923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F5DC-C186-4EA7-837E-85AE8E072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6E11-7423-45F9-948D-4D0CA9AAF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A5B3-BC54-4ED4-BFCF-9BA12208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5C05-9AD1-40DE-BEB4-E5BCDD54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EC51-4370-4DBB-8E59-E5AEEC78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82D6-331C-41A8-894A-4A604B14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BDCE-F0CA-44FA-829C-31EF16F0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A2C7-D59A-4EA7-807E-F44FECBE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92A4-872F-4D00-9810-8826ACF6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BA6D-B950-4575-9F15-FDFA5B9D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8043-C1C5-4DAC-867C-C93D1AF48F0A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70392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71652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71652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71652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47640" y="0"/>
            <a:ext cx="670896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71652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71652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948360" cy="69483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258920" y="17640"/>
            <a:ext cx="6840360" cy="68403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71640" y="-6480"/>
            <a:ext cx="7092720" cy="68644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03280" y="0"/>
            <a:ext cx="671688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03280" y="0"/>
            <a:ext cx="671688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71652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70716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03280" y="0"/>
            <a:ext cx="670716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1979640" y="623736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71652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63732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7086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71652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00000" y="-54000"/>
            <a:ext cx="7380360" cy="6912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71652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71688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08:26:36Z</dcterms:created>
  <dc:creator>User</dc:creator>
  <dc:description/>
  <dc:language>en-US</dc:language>
  <cp:lastModifiedBy>Smets</cp:lastModifiedBy>
  <dcterms:modified xsi:type="dcterms:W3CDTF">2009-02-03T20:14:28Z</dcterms:modified>
  <cp:revision>3</cp:revision>
  <dc:subject/>
  <dc:title>Slide 1</dc:title>
</cp:coreProperties>
</file>