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7B8-C296-4465-937F-5121337A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B00-7F4C-475D-A6C5-2C0E21A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BAE-2D73-43AC-A91F-C9C14FC7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8D6-2368-4BCD-B107-D8EAF54E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EF5-63EA-4188-8C50-F982087F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5E7-9D66-42B5-A991-A2CB2A43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42B-E8BD-4D80-A9B0-1B37AC9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5FB-5EAB-4A09-8375-3741CD3B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663-9EE8-4456-93A6-1983572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1A9-0E72-4D56-87A1-8B6DBB3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0EF-3D0A-4E9F-8B01-4398285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7A5-B8BD-42BD-BE14-296D7EE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145B-A1D9-48D9-83C1-A02B0595C43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39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7089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48360" cy="6948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764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-6480"/>
            <a:ext cx="7092720" cy="6864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71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7071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086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-54000"/>
            <a:ext cx="7380360" cy="6912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165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8:26:36Z</dcterms:created>
  <dc:creator>User</dc:creator>
  <dc:description/>
  <dc:language>en-US</dc:language>
  <cp:lastModifiedBy>Smets</cp:lastModifiedBy>
  <dcterms:modified xsi:type="dcterms:W3CDTF">2009-02-03T20:14:28Z</dcterms:modified>
  <cp:revision>3</cp:revision>
  <dc:subject/>
  <dc:title>Slide 1</dc:title>
</cp:coreProperties>
</file>