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25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9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1.gif" ContentType="image/gif"/>
  <Override PartName="/ppt/media/image12.jpeg" ContentType="image/jpeg"/>
  <Override PartName="/ppt/media/GeorgeHarrisonGotMyMindSetOnYou.wav" ContentType="audio/x-wav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6.gif" ContentType="image/gif"/>
  <Override PartName="/ppt/media/image21.jpeg" ContentType="image/jpe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6C2-4BF6-4618-B4B1-58E86008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F51-91A1-4984-AA43-41AEE6A6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0FB-8EF0-4608-919F-065F0D62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E4B-C458-4362-B346-B39D116E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C961-94BD-4760-8122-1D420D0F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AFC5-C190-41EB-B026-1C8B9DCC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1E50-B560-4A9B-9A81-4D6A57B0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547E-F29B-4451-B807-A3012364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A99A-6ACC-4FCB-986C-8A4D4012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C0CA-9001-4BC4-8FB5-A17FFDD7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F745-155C-45F1-989D-831CDCD0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EE4-49F2-463C-877F-1320CFFB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3B80-F0F7-4407-B5A7-E236EC02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D558-7943-4954-911B-18EDB9D0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57FA-E070-4770-82EF-681B538E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4994-6E2D-4C05-8C56-89831BEB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6642-C676-4565-BB3C-77021ACB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ADC-85E3-4679-9E63-4231F1BD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FB9-BABA-4BCF-BFA5-3A3FB76A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E6B-210D-4560-9C4A-8C67C1DD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EF3-524F-456A-925F-A88DD237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09B-3772-423D-B394-B31EBF68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254-4319-4B63-8E3E-4CBD03FF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4DC-88CA-4386-AA78-25FE3032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4E1F-5758-4A2D-9A9A-09FD61CB8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400A-6204-418D-98BC-3C285BD91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21.xml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" Target="slide34.xml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hyperlink" Target="http://www.frake.nl/" TargetMode="External"/><Relationship Id="rId6" Type="http://schemas.openxmlformats.org/officeDocument/2006/relationships/image" Target="../media/image22.wmf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GeorgeHarrisonGotMyMindSetOnYou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D grapjes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17928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Times New Roman"/>
              </a:rPr>
              <a:t>Das geilste ueberhaupt .pps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Das leben geht sehr schnell vorbei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at hebben ze van hun pap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David Copper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19564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126" name="">
            <a:hlinkClick r:id="" action="ppaction://hlinkshowjump?jump=endshow"/>
          </p:cNvPr>
          <p:cNvSpPr/>
          <p:nvPr/>
        </p:nvSpPr>
        <p:spPr>
          <a:xfrm>
            <a:off x="5796000" y="2060640"/>
            <a:ext cx="1368360" cy="331164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5867280" y="2997360"/>
            <a:ext cx="11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7" action="ppaction://hlinksldjump"/>
          </p:cNvPr>
          <p:cNvSpPr/>
          <p:nvPr/>
        </p:nvSpPr>
        <p:spPr>
          <a:xfrm>
            <a:off x="17928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De 3 wij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717480"/>
            <a:ext cx="70581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04528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38360" y="380880"/>
            <a:ext cx="4067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6327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19280" y="993600"/>
            <a:ext cx="6265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3356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52640" y="700200"/>
            <a:ext cx="523872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5148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84072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4087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88960" y="2367000"/>
            <a:ext cx="804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Das geilste Bild überhaupt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Bitte nur öffnen, wenn niemand in der Nähe ist!!!!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Wahnsinn, blond ist einfach wunderschön!!!!!!!!!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1095480"/>
            <a:ext cx="6096240" cy="46670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5327640" cy="4540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419640" y="5229360"/>
            <a:ext cx="5184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216543"/>
                </a:solidFill>
                <a:latin typeface="Andy"/>
              </a:rPr>
              <a:t>…</a:t>
            </a:r>
            <a:r>
              <a:rPr b="0" lang="fr-FR" sz="6000" spc="-1" strike="noStrike">
                <a:solidFill>
                  <a:srgbClr val="216543"/>
                </a:solidFill>
                <a:latin typeface="Andy"/>
              </a:rPr>
              <a:t>. Goed hè 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24920" y="6589800"/>
            <a:ext cx="91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16543"/>
                </a:solidFill>
                <a:latin typeface="Andy"/>
              </a:rPr>
              <a:t>Véro.07/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400" spc="-1" strike="noStrike">
                <a:solidFill>
                  <a:srgbClr val="ffffff"/>
                </a:solidFill>
                <a:latin typeface="Times New Roman"/>
              </a:rPr>
              <a:t>Op dit ogenblik gaat u binnen in een magische wereld.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5400" spc="-1" strike="noStrike">
                <a:solidFill>
                  <a:srgbClr val="ffffff"/>
                </a:solidFill>
                <a:latin typeface="Times New Roman"/>
              </a:rPr>
              <a:t>In enkel één ogenblik</a:t>
            </a:r>
            <a:r>
              <a:rPr b="1" i="1" lang="pl-PL" sz="5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Zul je getuigen zijn van iets heel speciaals</a:t>
            </a:r>
            <a:r>
              <a:rPr b="1" i="1" lang="pl-PL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5400" spc="-1" strike="noStrike">
                <a:solidFill>
                  <a:srgbClr val="993300"/>
                </a:solidFill>
                <a:latin typeface="Times New Roman"/>
              </a:rPr>
              <a:t>Jij zult getuigen zijn...</a:t>
            </a:r>
            <a:r>
              <a:rPr b="1" i="1" lang="pl-PL" sz="5400" spc="-1" strike="noStrike">
                <a:solidFill>
                  <a:srgbClr val="993300"/>
                </a:solidFill>
                <a:latin typeface="Times New Roman"/>
              </a:rPr>
              <a:t> 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5400" spc="-1" strike="noStrike">
                <a:solidFill>
                  <a:srgbClr val="993300"/>
                </a:solidFill>
                <a:latin typeface="Times New Roman"/>
              </a:rPr>
              <a:t>Van een ongelofelijke illusie</a:t>
            </a:r>
            <a:r>
              <a:rPr b="1" i="1" lang="pl-PL" sz="5400" spc="-1" strike="noStrike">
                <a:solidFill>
                  <a:srgbClr val="993300"/>
                </a:solidFill>
                <a:latin typeface="Times New Roman"/>
              </a:rPr>
              <a:t>... 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i="1" lang="en-US" sz="5400" spc="-1" strike="noStrike">
                <a:solidFill>
                  <a:srgbClr val="993300"/>
                </a:solidFill>
                <a:latin typeface="Times New Roman"/>
              </a:rPr>
              <a:t>de illusie van D</a:t>
            </a:r>
            <a:r>
              <a:rPr b="1" i="1" lang="pl-PL" sz="5400" spc="-1" strike="noStrike">
                <a:solidFill>
                  <a:srgbClr val="993300"/>
                </a:solidFill>
                <a:latin typeface="Times New Roman"/>
              </a:rPr>
              <a:t>avid Copperfield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Ongeacht dat dit een normaal programma is, zul je zien dat</a:t>
            </a:r>
            <a:r>
              <a:rPr b="1" i="1" lang="pl-PL" sz="5400" spc="-1" strike="noStrike">
                <a:solidFill>
                  <a:srgbClr val="ffffff"/>
                </a:solidFill>
                <a:latin typeface="Times New Roman"/>
              </a:rPr>
              <a:t>...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5400" spc="-1" strike="noStrike">
                <a:solidFill>
                  <a:srgbClr val="ffffff"/>
                </a:solidFill>
                <a:latin typeface="Times New Roman"/>
              </a:rPr>
              <a:t>Ik door je beeldscherm , je gedachten kan zien</a:t>
            </a:r>
            <a:r>
              <a:rPr b="1" i="1" lang="pl-PL" sz="5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1314360"/>
            <a:ext cx="4724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Voor u zie je 6 verschillende speelkaarten.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Denk aan één kaart, en slechts één. Denk enkel aan éé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Raak haar NIET aan, en klik NIET met de mu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Ik kan die kaart ontdekken in uw geheu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Denk en zie een ogenblik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47640" y="3141720"/>
            <a:ext cx="5832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ahoma"/>
              </a:rPr>
              <a:t>het leven gaat snel voorbij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51000" y="2438280"/>
            <a:ext cx="42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66ccff"/>
                </a:solidFill>
                <a:latin typeface="Times New Roman"/>
              </a:rPr>
              <a:t>Zie nu strak in mijn ogen en concentreer je op je gekozen kaart.</a:t>
            </a:r>
            <a:r>
              <a:rPr b="0" i="1" lang="pl-PL" sz="2400" spc="-1" strike="noStrike">
                <a:solidFill>
                  <a:srgbClr val="66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51000" y="2438280"/>
            <a:ext cx="429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cccc00"/>
                </a:solidFill>
                <a:latin typeface="Times New Roman"/>
              </a:rPr>
              <a:t>Ik ken je niet,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cccc00"/>
                </a:solidFill>
                <a:latin typeface="Times New Roman"/>
              </a:rPr>
              <a:t>Kan niet zien welke je gekozen heb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cc00"/>
                </a:solidFill>
                <a:latin typeface="Times New Roman"/>
              </a:rPr>
              <a:t>…</a:t>
            </a:r>
            <a:r>
              <a:rPr b="0" i="1" lang="fr-FR" sz="2400" spc="-1" strike="noStrike">
                <a:solidFill>
                  <a:srgbClr val="cccc00"/>
                </a:solidFill>
                <a:latin typeface="Times New Roman"/>
              </a:rPr>
              <a:t>maar weet heel nauwkeurig de speelkaart die in je gedachten is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1000" y="24382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Zie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Je kaart is er niet meer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26960" y="27874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Verwonder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958680" cy="431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1839960" cy="3068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2805120" cy="2852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7885080" y="5300640"/>
            <a:ext cx="880920" cy="1268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6237360"/>
            <a:ext cx="958680" cy="431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348000" y="3789360"/>
            <a:ext cx="2046240" cy="3068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0920" y="2492280"/>
            <a:ext cx="1655640" cy="360360"/>
          </a:xfrm>
          <a:prstGeom prst="wedgeRoundRectCallout">
            <a:avLst>
              <a:gd name="adj1" fmla="val 67162"/>
              <a:gd name="adj2" fmla="val 427092"/>
              <a:gd name="adj3" fmla="val 16667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AARHEEN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2708280"/>
            <a:ext cx="1872000" cy="360360"/>
          </a:xfrm>
          <a:prstGeom prst="wedgeRoundRectCallout">
            <a:avLst>
              <a:gd name="adj1" fmla="val 49574"/>
              <a:gd name="adj2" fmla="val 297578"/>
              <a:gd name="adj3" fmla="val 16667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AARHEEN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2997360"/>
            <a:ext cx="1871640" cy="649080"/>
          </a:xfrm>
          <a:prstGeom prst="wedgeRoundRectCallout">
            <a:avLst>
              <a:gd name="adj1" fmla="val 68319"/>
              <a:gd name="adj2" fmla="val 145597"/>
              <a:gd name="adj3" fmla="val 16667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E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ÁÁRHEEN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51640" y="2852640"/>
            <a:ext cx="3673440" cy="1224000"/>
          </a:xfrm>
          <a:prstGeom prst="cloudCallout">
            <a:avLst>
              <a:gd name="adj1" fmla="val 19273"/>
              <a:gd name="adj2" fmla="val 15506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AN DAT WIJZEN HEB IK NIET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K BEGIN ALVAS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8388360" y="645336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9" action="ppaction://hlinksldjump"/>
          </p:cNvPr>
          <p:cNvSpPr/>
          <p:nvPr/>
        </p:nvSpPr>
        <p:spPr>
          <a:xfrm>
            <a:off x="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681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620120" cy="4991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12000" y="3357720"/>
            <a:ext cx="144360" cy="215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581880" cy="6115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3141720"/>
            <a:ext cx="144720" cy="216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3716280"/>
            <a:ext cx="144360" cy="216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4005360"/>
            <a:ext cx="576360" cy="360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557440" y="3038400"/>
            <a:ext cx="40291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ahoma"/>
              </a:rPr>
              <a:t>bangelijk!!!!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32000" y="836640"/>
            <a:ext cx="6624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216543"/>
                </a:solidFill>
                <a:latin typeface="Comic Sans MS"/>
              </a:rPr>
              <a:t>Dat hebben ze vast van hun vader…!!!!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35280" y="4941720"/>
            <a:ext cx="1866960" cy="1590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  <p:sndAc>
      <p:stSnd>
        <p:snd r:embed="rId2" name="GeorgeHarrisonGotMyMindSetOnYou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758880"/>
            <a:ext cx="705636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1-04T06:50:46Z</dcterms:modified>
  <cp:revision>15</cp:revision>
  <dc:subject/>
  <dc:title>Dia 1</dc:title>
</cp:coreProperties>
</file>