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4.png" ContentType="image/png"/>
  <Override PartName="/ppt/media/image1.gif" ContentType="image/gif"/>
  <Override PartName="/ppt/media/image23.png" ContentType="image/png"/>
  <Override PartName="/ppt/media/image21.jpeg" ContentType="image/jpeg"/>
  <Override PartName="/ppt/media/image6.gif" ContentType="image/gif"/>
  <Override PartName="/ppt/media/image20.jpeg" ContentType="image/jpeg"/>
  <Override PartName="/ppt/media/image26.gif" ContentType="image/gif"/>
  <Override PartName="/ppt/media/image17.jpeg" ContentType="image/jpeg"/>
  <Override PartName="/ppt/media/image12.gif" ContentType="image/gif"/>
  <Override PartName="/ppt/media/image49.gif" ContentType="image/gif"/>
  <Override PartName="/ppt/media/image16.jpeg" ContentType="image/jpeg"/>
  <Override PartName="/ppt/media/image9.gif" ContentType="image/gif"/>
  <Override PartName="/ppt/media/image15.gif" ContentType="image/gif"/>
  <Override PartName="/ppt/media/image50.png" ContentType="image/png"/>
  <Override PartName="/ppt/media/image14.gif" ContentType="image/gif"/>
  <Override PartName="/ppt/media/image31.jpeg" ContentType="image/jpeg"/>
  <Override PartName="/ppt/media/image27.png" ContentType="image/png"/>
  <Override PartName="/ppt/media/image4.gif" ContentType="image/gif"/>
  <Override PartName="/ppt/media/image36.wmf" ContentType="image/x-wmf"/>
  <Override PartName="/ppt/media/image38.png" ContentType="image/png"/>
  <Override PartName="/ppt/media/image45.gif" ContentType="image/gif"/>
  <Override PartName="/ppt/media/image13.png" ContentType="image/png"/>
  <Override PartName="/ppt/media/image41.gif" ContentType="image/gif"/>
  <Override PartName="/ppt/media/image35.png" ContentType="image/png"/>
  <Override PartName="/ppt/media/image29.jpeg" ContentType="image/jpeg"/>
  <Override PartName="/ppt/media/image7.gif" ContentType="image/gif"/>
  <Override PartName="/ppt/media/image43.gif" ContentType="image/gif"/>
  <Override PartName="/ppt/media/image44.gif" ContentType="image/gif"/>
  <Override PartName="/ppt/media/image39.wmf" ContentType="image/x-wmf"/>
  <Override PartName="/ppt/media/image51.png" ContentType="image/png"/>
  <Override PartName="/ppt/media/image48.gif" ContentType="image/gif"/>
  <Override PartName="/ppt/media/image11.gif" ContentType="image/gif"/>
  <Override PartName="/ppt/media/image33.png" ContentType="image/png"/>
  <Override PartName="/ppt/media/image40.gif" ContentType="image/gif"/>
  <Override PartName="/ppt/media/image52.gif" ContentType="image/gif"/>
  <Override PartName="/ppt/media/image37.wmf" ContentType="image/x-wmf"/>
  <Override PartName="/ppt/media/image30.jpeg" ContentType="image/jpeg"/>
  <Override PartName="/ppt/media/MENDAB~1.WAV" ContentType="audio/x-wav"/>
  <Override PartName="/ppt/media/image10.gif" ContentType="image/gif"/>
  <Override PartName="/ppt/media/image47.gif" ContentType="image/gif"/>
  <Override PartName="/ppt/media/image34.wmf" ContentType="image/x-wmf"/>
  <Override PartName="/ppt/media/image8.gif" ContentType="image/gif"/>
  <Override PartName="/ppt/media/image18.jpeg" ContentType="image/jpeg"/>
  <Override PartName="/ppt/media/image46.gif" ContentType="image/gif"/>
  <Override PartName="/ppt/media/image22.jpeg" ContentType="image/jpeg"/>
  <Override PartName="/ppt/media/image3.gif" ContentType="image/gif"/>
  <Override PartName="/ppt/media/image5.gif" ContentType="image/gif"/>
  <Override PartName="/ppt/media/image2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BCF6-EB29-4092-95DE-DA0E8FA133F7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4C7B-54AB-4238-AC4B-221A49B5AC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3C65-0885-42FB-A01F-95D9487451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5CB4-CDD2-41D2-AE17-1CE7BD62BD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AED2-4727-4246-AEB1-86C7EA5C0F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E7A6-A0C7-431E-BD9C-850B8901AB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3EAF-7F35-4988-B845-DF1A738AF1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0EA4-C47E-42B4-B04D-DA7F738351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056D-54F6-46A3-B43A-1E43805014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68F6-E712-40A5-ADE9-8C3288D5E6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4441-2D51-4080-A9CD-4304A4E16B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5EFC-416E-4207-8E1E-9BB96E5563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42C-25EF-4E3C-9CE6-68AD4692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206-2CDE-48E3-A240-A0C2A697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970-8D84-4495-A23B-C1F2C832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45B-EB98-4564-9A46-F546267C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54AE-9282-4A40-B032-E276F424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E3CE-759D-45E1-A19C-DD3D18EF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49DD-668C-4009-B225-C56119C3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961F-F466-40A2-820B-63257832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C749-E755-4B71-B243-DA82861E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1DE6-E759-4D24-B0B2-833F9341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3E14-70E5-4FCA-803C-B70C2F19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DC4-E828-4928-A193-51718CF2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33B1-0545-407E-B0C1-506E34C2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2B65-F4C4-4DA2-8A4A-67A3731F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FAE8-537D-49F6-90B7-1F27E730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7D9B-16D3-4B34-833C-8EE012E8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F078-4E7F-4573-9693-CF49A2E9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DF0-7F17-4C18-8EFC-14809E02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98F-D35D-4EEE-B0F3-5A4292DB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FA1-1A31-4263-80B9-7D17D4C1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804-9D2A-4A72-812F-2E46C472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F62-D832-480C-88EB-86053596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14C-10D7-42E1-B6CA-1003E6B6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C1D-C2B9-41CD-AAAF-28EC9E00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1813-3066-4048-A922-E54626053C02}" type="slidenum">
              <a:rPr b="0" lang="nl-B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D374-C3CD-4909-A4B4-3E80CEEF6B8B}" type="slidenum">
              <a:rPr b="0" lang="nl-B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" Target="slide32.xml"/><Relationship Id="rId4" Type="http://schemas.openxmlformats.org/officeDocument/2006/relationships/slide" Target="slide40.xml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" Target="slide45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" Target="slide1.xml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audio" Target="../media/MENDAB~1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1928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H grapjes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mel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1258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se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3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s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sen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340000" y="6093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162" name="">
            <a:hlinkClick r:id="rId7" action="ppaction://hlinksldjump"/>
          </p:cNvPr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t fl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2914560"/>
            <a:ext cx="2590920" cy="260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564000" y="2060640"/>
            <a:ext cx="525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99ff99"/>
                </a:solidFill>
                <a:latin typeface="Arial"/>
              </a:rPr>
              <a:t>Moedig hem aan om elke dag de sportwedstrijden te bekijke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9640" y="198900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Arial"/>
              </a:rPr>
              <a:t>Maar vergeet niet alle dagen te vrijen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1876320"/>
            <a:ext cx="1871640" cy="3105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84360" y="206064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s u dit alles gedurende 10 tot 12 maanden volhoudt, dan verzeker ik u dat hij zijn gezondheid volledig zal terugwinn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0920" y="981000"/>
            <a:ext cx="86421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Wanneer de man en vrouw bij de dokter buiten wandelen vraagt de   ma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en lieveke, wat heeft de dokter gezegd 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Waarop de vrouw antwoordt : 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1700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DAT JE GAAT STERVEN !!!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24382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ensationele nieuwe theorie ontwikkeld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Als men er vanuit gaat, dat elke ketting</a:t>
            </a:r>
            <a:br>
              <a:rPr sz="3000"/>
            </a:b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–mag ze nog zo dik en massief zijn – ...</a:t>
            </a:r>
            <a:br>
              <a:rPr sz="3000"/>
            </a:b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…</a:t>
            </a: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maar zo sterk is als haar zwakste schakel..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... Dan kan men stellen dat de zwakste schakel zo sterk is als de ganse ketting</a:t>
            </a:r>
            <a:br>
              <a:rPr sz="3000"/>
            </a:b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Dit gegeven overgedragen op het dierenrijk, betekent dit, dat kuddes ..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95640" y="3225960"/>
            <a:ext cx="46861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879640" cy="349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1052640"/>
            <a:ext cx="51130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vrouw vergezelt haar man naar de dok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 een nauwkeurig onderzoek van de man neemt de dokter de vrouw even apart om haar de resultaten mee te dele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... Maar zo sterk zijn als hun zwakste lid. 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28760" y="1612800"/>
            <a:ext cx="46864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En ook hier breken dus de zwakste schakels eerst, namelijk ..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46861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Maar door de dood van de zwakste schakels wordt de kudde sterker en sneller omdat ze de zwakken niet meer moeten meeslepen. 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Verder is geweten dat Alkohol ..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1506600" cy="2568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2895480" cy="2197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62120" y="1752480"/>
            <a:ext cx="1417680" cy="1447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1752480" y="4267080"/>
            <a:ext cx="3581640" cy="2327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191120" y="1752480"/>
            <a:ext cx="4495680" cy="1094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553080" y="4191120"/>
            <a:ext cx="21258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-171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... Hersencellen laat afsterven!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762800" cy="2619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38307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Combineerd men deze 2 feiten, dan ..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…</a:t>
            </a: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dan zal Alkohol eerst de zwakke en zieke hersencellen doden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39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Alkohol zal dus de hersenen verbeteren, sneller en bedrijfszekerder maken.</a:t>
            </a:r>
            <a:br>
              <a:rPr sz="3000"/>
            </a:br>
            <a:br>
              <a:rPr sz="3000"/>
            </a:b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In het kort ... </a:t>
            </a:r>
            <a:br>
              <a:rPr sz="3000"/>
            </a:b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38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500" spc="-1" strike="noStrike">
                <a:solidFill>
                  <a:srgbClr val="cccc00"/>
                </a:solidFill>
                <a:latin typeface="Arial"/>
              </a:rPr>
              <a:t>ALKOHOL MAAKT INTELLIGENT !!!</a:t>
            </a:r>
            <a:endParaRPr b="1" lang="en-US" sz="6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097080" cy="2663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411280" cy="2147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484360" y="1052640"/>
            <a:ext cx="63007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w man heeft een ernstige depressie, te wijten aan familiale en professionele st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s u niet het nodige doet gaat hij ongetwijf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erv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er mijn aanbevelinge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Broeders en zusters, collega‘s en vrienden </a:t>
            </a:r>
            <a:br>
              <a:rPr sz="3000"/>
            </a:br>
            <a:br>
              <a:rPr sz="3000"/>
            </a:b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ZUIPT!!!!!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Ik ga me nu verder ontwikkelen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PROOST!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8360" y="2924280"/>
            <a:ext cx="575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aar was eens,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en vrouwelijke hersencel,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ie per ongeluk in een mannelijk hersenstelsel terecht kw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Zij verwonderde zich, 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dat het daar zo stil was</a:t>
            </a:r>
            <a:r>
              <a:rPr b="1" lang="de-DE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"Hallo" riep ze ...</a:t>
            </a: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 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kreeg verder geen antwoord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"Is daar iemand"</a:t>
            </a: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 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riep ze ... 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nog steeds geen antwoord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278100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Ze voelde zich heel eenzaam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en verlaten en typisch vrouwlijk, schreeuwde ze heel luid : </a:t>
            </a:r>
            <a:br>
              <a:rPr sz="3500"/>
            </a:br>
            <a:r>
              <a:rPr b="0" lang="de-DE" sz="3900" spc="-1" strike="noStrike">
                <a:solidFill>
                  <a:srgbClr val="ffff99"/>
                </a:solidFill>
                <a:latin typeface="Comic Sans MS"/>
              </a:rPr>
              <a:t>IS DAAR IEMAND ???</a:t>
            </a:r>
            <a:r>
              <a:rPr b="1" lang="de-DE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Toen hoorde ze 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heel zwak en ver....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een stem...</a:t>
            </a:r>
            <a:r>
              <a:rPr b="1" lang="de-DE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81280" y="0"/>
            <a:ext cx="3863880" cy="587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74400" y="551628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0000"/>
                </a:solidFill>
                <a:latin typeface="Comic Sans MS"/>
              </a:rPr>
              <a:t>WIJ ZITTEN HIER BENEDEN</a:t>
            </a:r>
            <a:r>
              <a:rPr b="1" lang="de-DE" sz="3500" spc="-1" strike="noStrike">
                <a:solidFill>
                  <a:srgbClr val="ff0000"/>
                </a:solidFill>
                <a:latin typeface="Comic Sans MS"/>
              </a:rPr>
              <a:t> !!!</a:t>
            </a:r>
            <a:r>
              <a:rPr b="1" lang="de-DE" sz="3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40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990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39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990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3240000" cy="3527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981000"/>
            <a:ext cx="460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0000"/>
                </a:solidFill>
                <a:latin typeface="Arial"/>
              </a:rPr>
              <a:t>Elke morgen maak je hem een liefdevol en gezond ontbijt klaar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49800" y="1484280"/>
            <a:ext cx="610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NA DE SPRAAK-HERKENNING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Lernout &amp; Haus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HERSENGOLF-HERKE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479736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ZET JE SCHRAP EN KLIK MET DE MU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OM NAAR HET VOLGENDE SCHERM TE G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755640" y="1197000"/>
          <a:ext cx="698976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69897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449568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295280" y="1752480"/>
          <a:ext cx="6828120" cy="334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8281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066680" y="1447920"/>
          <a:ext cx="7162920" cy="259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716292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819520" y="3809880"/>
            <a:ext cx="3390840" cy="8859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410080" y="5715000"/>
            <a:ext cx="29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Straffen toebak hé !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138320" y="1076400"/>
          <a:ext cx="71625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>
                    <a:alphaModFix amt="35000"/>
                  </a:blip>
                  <a:stretch/>
                </p:blipFill>
                <p:spPr>
                  <a:xfrm>
                    <a:off x="1138320" y="1076400"/>
                    <a:ext cx="71625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900" spc="-1" strike="noStrike">
                <a:solidFill>
                  <a:srgbClr val="330066"/>
                </a:solidFill>
                <a:latin typeface="Swis721 BlkEx BT"/>
              </a:rPr>
              <a:t>Het flesje</a:t>
            </a:r>
            <a:endParaRPr b="1" lang="en-US" sz="5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Picture 3" descr="Eprouvette 01"/>
          <p:cNvPicPr/>
          <p:nvPr/>
        </p:nvPicPr>
        <p:blipFill>
          <a:blip r:embed="rId1"/>
          <a:stretch/>
        </p:blipFill>
        <p:spPr>
          <a:xfrm>
            <a:off x="2514600" y="1828800"/>
            <a:ext cx="390852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108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De 75-jarige Herman heeft zijn huisarts gevraagd zijn sperma te onderzoek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5" descr="vieux_003"/>
          <p:cNvPicPr/>
          <p:nvPr/>
        </p:nvPicPr>
        <p:blipFill>
          <a:blip r:embed="rId1"/>
          <a:stretch/>
        </p:blipFill>
        <p:spPr>
          <a:xfrm>
            <a:off x="3200400" y="2714760"/>
            <a:ext cx="2738520" cy="34574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"/>
          <p:cNvSpPr/>
          <p:nvPr/>
        </p:nvSpPr>
        <p:spPr>
          <a:xfrm>
            <a:off x="468360" y="213372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57240" y="1752480"/>
            <a:ext cx="52354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De arts gaf hem een flesje mee, met het verzoek deze morgen-ochtend terug te brengen om het te analyseren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8" name="Picture 7" descr="flacon"/>
          <p:cNvPicPr/>
          <p:nvPr/>
        </p:nvPicPr>
        <p:blipFill>
          <a:blip r:embed="rId1"/>
          <a:stretch/>
        </p:blipFill>
        <p:spPr>
          <a:xfrm>
            <a:off x="304920" y="762120"/>
            <a:ext cx="31654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0066"/>
                </a:solidFill>
                <a:latin typeface="Arial"/>
              </a:rPr>
              <a:t>De volgende ochtend bracht</a:t>
            </a:r>
            <a:br>
              <a:rPr sz="3200"/>
            </a:br>
            <a:r>
              <a:rPr b="1" lang="fr-FR" sz="3200" spc="-1" strike="noStrike">
                <a:solidFill>
                  <a:srgbClr val="330066"/>
                </a:solidFill>
                <a:latin typeface="Arial"/>
              </a:rPr>
              <a:t> Herman het flesje leeg </a:t>
            </a:r>
            <a:br>
              <a:rPr sz="3200"/>
            </a:br>
            <a:r>
              <a:rPr b="1" lang="fr-FR" sz="3200" spc="-1" strike="noStrike">
                <a:solidFill>
                  <a:srgbClr val="330066"/>
                </a:solidFill>
                <a:latin typeface="Arial"/>
              </a:rPr>
              <a:t>en schoon terug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80000" y="3081240"/>
            <a:ext cx="49575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Verbaasd vraagt de arts: « Waarom leeg en ongebruikt?!?!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Médecin 10"/>
          <p:cNvPicPr/>
          <p:nvPr/>
        </p:nvPicPr>
        <p:blipFill>
          <a:blip r:embed="rId1"/>
          <a:stretch/>
        </p:blipFill>
        <p:spPr>
          <a:xfrm>
            <a:off x="731880" y="2057400"/>
            <a:ext cx="2163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327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« Ach dokter, eerst probeerde ik het met rechts. Dat ging niet. Daarna met links. Dat ging ook nie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3" name="Picture 7" descr="vieux_003"/>
          <p:cNvPicPr/>
          <p:nvPr/>
        </p:nvPicPr>
        <p:blipFill>
          <a:blip r:embed="rId1"/>
          <a:stretch/>
        </p:blipFill>
        <p:spPr>
          <a:xfrm>
            <a:off x="3200400" y="3019320"/>
            <a:ext cx="2738520" cy="3457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Main droite 01"/>
          <p:cNvPicPr/>
          <p:nvPr/>
        </p:nvPicPr>
        <p:blipFill>
          <a:blip r:embed="rId2"/>
          <a:stretch/>
        </p:blipFill>
        <p:spPr>
          <a:xfrm>
            <a:off x="6019920" y="4267080"/>
            <a:ext cx="2133360" cy="800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Main gauche 01"/>
          <p:cNvPicPr/>
          <p:nvPr/>
        </p:nvPicPr>
        <p:blipFill>
          <a:blip r:embed="rId3"/>
          <a:stretch/>
        </p:blipFill>
        <p:spPr>
          <a:xfrm>
            <a:off x="685800" y="4267080"/>
            <a:ext cx="213372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1872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5280" y="364500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Arial"/>
              </a:rPr>
              <a:t>Laat hem ‘s morgens opstaan wanneer hij zin heeft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612144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« Daarom vroeg ik mijn vrouw om hulp. 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7" name="Picture 4" descr="vieux_013"/>
          <p:cNvPicPr/>
          <p:nvPr/>
        </p:nvPicPr>
        <p:blipFill>
          <a:blip r:embed="rId1"/>
          <a:stretch/>
        </p:blipFill>
        <p:spPr>
          <a:xfrm>
            <a:off x="3505320" y="2819520"/>
            <a:ext cx="24685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66"/>
                </a:solidFill>
                <a:latin typeface="Arial"/>
              </a:rPr>
              <a:t>« Ze probeerde het eerst met links, daarna met rechts, vervolgens met en zonder tanden. Allemaal zonder resultaat. 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9" name="Picture 6" descr="Main droite 01"/>
          <p:cNvPicPr/>
          <p:nvPr/>
        </p:nvPicPr>
        <p:blipFill>
          <a:blip r:embed="rId1"/>
          <a:stretch/>
        </p:blipFill>
        <p:spPr>
          <a:xfrm>
            <a:off x="6019920" y="4267080"/>
            <a:ext cx="2133360" cy="800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Main gauche 01"/>
          <p:cNvPicPr/>
          <p:nvPr/>
        </p:nvPicPr>
        <p:blipFill>
          <a:blip r:embed="rId2"/>
          <a:stretch/>
        </p:blipFill>
        <p:spPr>
          <a:xfrm>
            <a:off x="685800" y="4267080"/>
            <a:ext cx="2133720" cy="801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Dentier 04"/>
          <p:cNvPicPr/>
          <p:nvPr/>
        </p:nvPicPr>
        <p:blipFill>
          <a:blip r:embed="rId3"/>
          <a:stretch/>
        </p:blipFill>
        <p:spPr>
          <a:xfrm>
            <a:off x="3581280" y="3925800"/>
            <a:ext cx="20574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1920" y="260280"/>
            <a:ext cx="89917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66"/>
                </a:solidFill>
                <a:latin typeface="Arial"/>
              </a:rPr>
              <a:t>« Uiteindelijk hebben we onze leuke, jonge buurvrouw om hulp gevraagd.</a:t>
            </a:r>
            <a:br>
              <a:rPr sz="3500"/>
            </a:br>
            <a:r>
              <a:rPr b="1" lang="fr-FR" sz="3500" spc="-1" strike="noStrike">
                <a:solidFill>
                  <a:srgbClr val="330066"/>
                </a:solidFill>
                <a:latin typeface="Arial"/>
              </a:rPr>
              <a:t> Zij probeerde het ook eerst met links en vervolgens met rechts en zelfs nog met de mond. 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3" name="Picture 5" descr="Bouche 11"/>
          <p:cNvPicPr/>
          <p:nvPr/>
        </p:nvPicPr>
        <p:blipFill>
          <a:blip r:embed="rId1"/>
          <a:stretch/>
        </p:blipFill>
        <p:spPr>
          <a:xfrm>
            <a:off x="6400800" y="3749760"/>
            <a:ext cx="2400480" cy="958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Femme 07"/>
          <p:cNvPicPr/>
          <p:nvPr/>
        </p:nvPicPr>
        <p:blipFill>
          <a:blip r:embed="rId2"/>
          <a:stretch/>
        </p:blipFill>
        <p:spPr>
          <a:xfrm>
            <a:off x="609480" y="3429000"/>
            <a:ext cx="16210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De volledig geschokte arts onderbrak hem: « U hebt zelfs de hulp van uw buurvrouw ingeroepen?!?!?! 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6" name="Picture 4" descr="point inté"/>
          <p:cNvPicPr/>
          <p:nvPr/>
        </p:nvPicPr>
        <p:blipFill>
          <a:blip r:embed="rId1"/>
          <a:stretch/>
        </p:blipFill>
        <p:spPr>
          <a:xfrm>
            <a:off x="4643280" y="33577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Médecin 10"/>
          <p:cNvPicPr/>
          <p:nvPr/>
        </p:nvPicPr>
        <p:blipFill>
          <a:blip r:embed="rId2"/>
          <a:stretch/>
        </p:blipFill>
        <p:spPr>
          <a:xfrm>
            <a:off x="755640" y="2276640"/>
            <a:ext cx="2163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50920" y="2708280"/>
            <a:ext cx="48769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« Natuurlijk dokter. Zoals u ziet hebben we alles geprobeerd om dat vervloekte flesje open te krijgen!!!!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9" name="Picture 4" descr="flacon"/>
          <p:cNvPicPr/>
          <p:nvPr/>
        </p:nvPicPr>
        <p:blipFill>
          <a:blip r:embed="rId1"/>
          <a:stretch/>
        </p:blipFill>
        <p:spPr>
          <a:xfrm>
            <a:off x="304920" y="762120"/>
            <a:ext cx="31654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Geef maar toe dat je ergens anders aan dacht!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2" name="Picture 5" descr="Mort de rire 01"/>
          <p:cNvPicPr/>
          <p:nvPr/>
        </p:nvPicPr>
        <p:blipFill>
          <a:blip r:embed="rId2"/>
          <a:stretch/>
        </p:blipFill>
        <p:spPr>
          <a:xfrm>
            <a:off x="2195640" y="2492280"/>
            <a:ext cx="5181480" cy="3273480"/>
          </a:xfrm>
          <a:prstGeom prst="rect">
            <a:avLst/>
          </a:prstGeom>
          <a:ln w="0">
            <a:noFill/>
          </a:ln>
        </p:spPr>
      </p:pic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40360" y="692280"/>
            <a:ext cx="4319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3399"/>
                </a:solidFill>
                <a:latin typeface="Arial"/>
              </a:rPr>
              <a:t>Wees altijd lief voor hem zonder te kibbelen en zorg ervoor dat hij altijd goed gezind i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32720" y="4437000"/>
            <a:ext cx="2160360" cy="2016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403280" y="508464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843280" y="1484280"/>
            <a:ext cx="58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cc66"/>
                </a:solidFill>
                <a:latin typeface="Arial"/>
              </a:rPr>
              <a:t>Maak hem kleine, warme maaltijdjes, en wanneer hij ‘s avonds laat thuiskomt, maak hem dan een speciaal etentj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659640" y="3500280"/>
            <a:ext cx="2305080" cy="309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995640" y="3789360"/>
            <a:ext cx="1897200" cy="2163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155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9999"/>
                </a:solidFill>
                <a:latin typeface="Arial"/>
              </a:rPr>
              <a:t>Val hem vooral niet lastig met huishoudelijke taken en zaag niet rond zijn oren want dit kan zijn stress alleen maar vererger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1125360"/>
            <a:ext cx="568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66"/>
                </a:solidFill>
                <a:latin typeface="Arial"/>
              </a:rPr>
              <a:t>Hij moet zich kunnen ontspannen : kleed je elke avond in een sexy outfitje en geef hem relaxerende massag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2-11T05:42:36Z</dcterms:modified>
  <cp:revision>107</cp:revision>
  <dc:subject/>
  <dc:title>Dia 1</dc:title>
</cp:coreProperties>
</file>