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89E-B7B2-4511-A157-07001854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653-16A2-42C6-B442-03D4E988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E3B-4C02-4C32-BE9F-F56F9DB8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75B-D3C1-41F7-8071-CE28D7B6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89F-E010-4071-88BA-07940812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990-8786-4EAD-B516-1EB4EE93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A3C-1B46-460F-B7BC-E04317D1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B14B-331D-4E90-9612-29F2F96C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B11-D0EA-455E-AA93-B0845EE1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3FC-976D-4600-8BCA-907AA628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78D-370B-4F69-849D-3EC391B0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650-463A-4C93-BD8E-A8B14D3C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C44E-E18E-4564-B043-14E4FFFEBE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image" Target="../media/image7.jpeg"/><Relationship Id="rId4" Type="http://schemas.openxmlformats.org/officeDocument/2006/relationships/slide" Target="slide8.xml"/><Relationship Id="rId5" Type="http://schemas.openxmlformats.org/officeDocument/2006/relationships/image" Target="../media/image7.jpeg"/><Relationship Id="rId6" Type="http://schemas.openxmlformats.org/officeDocument/2006/relationships/slide" Target="slide10.xml"/><Relationship Id="rId7" Type="http://schemas.openxmlformats.org/officeDocument/2006/relationships/image" Target="../media/image8.jpeg"/><Relationship Id="rId8" Type="http://schemas.openxmlformats.org/officeDocument/2006/relationships/hyperlink" Target="file:///../../&#1601;&#1607;&#1585;&#1587;%20&#1575;&#1604;&#1578;&#1585;&#1575;&#1606;&#1610;&#1605;.pps" TargetMode="External"/><Relationship Id="rId9" Type="http://schemas.openxmlformats.org/officeDocument/2006/relationships/image" Target="../media/image8.jpeg"/><Relationship Id="rId10" Type="http://schemas.openxmlformats.org/officeDocument/2006/relationships/slide" Target="slide2.xm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8840" y="3433680"/>
            <a:ext cx="77594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بجناحك تدار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920" y="4586400"/>
            <a:ext cx="81968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عدك وعد صري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14600" y="1233360"/>
            <a:ext cx="526104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دايماً بتخب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5440" y="2314440"/>
            <a:ext cx="675540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لما تهب الري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08840" y="3433680"/>
            <a:ext cx="77594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بجناحك تدار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920" y="4586400"/>
            <a:ext cx="81968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عدك وعد صري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14600" y="1233360"/>
            <a:ext cx="526104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دايماً بتخب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25440" y="2314440"/>
            <a:ext cx="675540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لما تهب الري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لما الناس تحارب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لما الناس بتهي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دايماً بتخبيني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لما الناس تنس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33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560" y="1138320"/>
            <a:ext cx="86997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لما الناس تنسا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7840" y="2130480"/>
            <a:ext cx="80200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أشعر إني وحي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531000" y="3244680"/>
            <a:ext cx="99662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أصرخ لك في مكاني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7120" y="4344840"/>
            <a:ext cx="76604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تيجي بحب أكيد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1078200" y="971640"/>
            <a:ext cx="112417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(</a:t>
            </a:r>
            <a:r>
              <a:rPr b="1" lang="ar-EG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تنسيني وتعزيني</a:t>
            </a:r>
            <a:r>
              <a:rPr b="1" lang="ar-EG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)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720" y="2422440"/>
            <a:ext cx="39542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يا يس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08840" y="3433680"/>
            <a:ext cx="77594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بجناحك تدار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920" y="4586400"/>
            <a:ext cx="81968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عدك وعد صري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14600" y="1233360"/>
            <a:ext cx="526104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دايماً بتخب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25440" y="2314440"/>
            <a:ext cx="675540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لما تهب الري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3480" y="-28440"/>
            <a:ext cx="9210960" cy="6914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60520" y="3154320"/>
            <a:ext cx="606888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صوتك ينده أب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5520" y="4191120"/>
            <a:ext cx="825840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أجري وابات في حما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8240" y="1081080"/>
            <a:ext cx="639432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لما الناس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تحارب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2162160"/>
            <a:ext cx="601992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بالإيمان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بالقا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1078200" y="971640"/>
            <a:ext cx="112417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(</a:t>
            </a:r>
            <a:r>
              <a:rPr b="1" lang="ar-EG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تنسيني وتعزيني</a:t>
            </a:r>
            <a:r>
              <a:rPr b="1" lang="ar-EG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)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84720" y="2422440"/>
            <a:ext cx="39542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يا يس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08840" y="3433680"/>
            <a:ext cx="77594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بجناحك تدار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920" y="4586400"/>
            <a:ext cx="81968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عدك وعد صري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14600" y="1233360"/>
            <a:ext cx="5261040" cy="25318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دايماً بتخب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25440" y="2314440"/>
            <a:ext cx="675540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لما تهب الري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2040" y="3192480"/>
            <a:ext cx="75067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بصليبك بتعيني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8320" y="4197240"/>
            <a:ext cx="84135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</a:t>
            </a:r>
            <a:r>
              <a:rPr b="1" lang="ar-EG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يشجعني الرو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8760" y="1062000"/>
            <a:ext cx="84027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لما الناس بتهين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200" y="2111400"/>
            <a:ext cx="88066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ارجع وانا مجرو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1078200" y="971640"/>
            <a:ext cx="112417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(</a:t>
            </a:r>
            <a:r>
              <a:rPr b="1" lang="ar-EG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وتنسيني وتعزيني</a:t>
            </a:r>
            <a:r>
              <a:rPr b="1" lang="ar-EG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)</a:t>
            </a:r>
            <a:r>
              <a:rPr b="1" lang="ar-SA" sz="8000" spc="-1" strike="noStrike">
                <a:solidFill>
                  <a:srgbClr val="ffff00"/>
                </a:solidFill>
                <a:latin typeface=" Arial"/>
                <a:ea typeface="Arabic Transparent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84720" y="2422440"/>
            <a:ext cx="395424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 Arial"/>
                <a:cs typeface="Arabic Transparent"/>
              </a:rPr>
              <a:t>يا يسو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3:28:45Z</dcterms:created>
  <dc:creator/>
  <dc:description/>
  <dc:language>en-US</dc:language>
  <cp:lastModifiedBy>Sp2</cp:lastModifiedBy>
  <dcterms:modified xsi:type="dcterms:W3CDTF">2008-10-10T00:45:07Z</dcterms:modified>
  <cp:revision>57</cp:revision>
  <dc:subject/>
  <dc:title>PowerPoint Presentation</dc:title>
</cp:coreProperties>
</file>