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04DD-C13C-4CC9-8BE1-E7CD512A6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7B5B-E247-4ABC-8E21-A8B72CC55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8D48-802E-4061-B077-443CDB9B1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FFE4-259C-4AAF-875E-274DE2200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DCAF-8194-44B4-8591-738896A59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713E-63EF-4472-A92E-53CCE9B75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F92B-CB0B-4B03-86D2-6E7DF6709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975A-7579-4CE5-B287-9BCD250E9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5DF0-34AE-480E-B853-085FAB0B8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949F-1EEE-4D0A-AD35-B12222D1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50B1-B8C8-49CD-B63E-62A76DE08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5078-7EAA-49C4-8007-8ACD5B96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2481B-6F4D-423C-B09F-67B153C069D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5.xml"/><Relationship Id="rId3" Type="http://schemas.openxmlformats.org/officeDocument/2006/relationships/image" Target="../media/image7.jpeg"/><Relationship Id="rId4" Type="http://schemas.openxmlformats.org/officeDocument/2006/relationships/slide" Target="slide8.xml"/><Relationship Id="rId5" Type="http://schemas.openxmlformats.org/officeDocument/2006/relationships/image" Target="../media/image7.jpeg"/><Relationship Id="rId6" Type="http://schemas.openxmlformats.org/officeDocument/2006/relationships/slide" Target="slide10.xml"/><Relationship Id="rId7" Type="http://schemas.openxmlformats.org/officeDocument/2006/relationships/image" Target="../media/image8.jpeg"/><Relationship Id="rId8" Type="http://schemas.openxmlformats.org/officeDocument/2006/relationships/hyperlink" Target="file:///../../&#1601;&#1607;&#1585;&#1587;%20&#1575;&#1604;&#1578;&#1585;&#1575;&#1606;&#1610;&#1605;.pps" TargetMode="External"/><Relationship Id="rId9" Type="http://schemas.openxmlformats.org/officeDocument/2006/relationships/image" Target="../media/image8.jpeg"/><Relationship Id="rId10" Type="http://schemas.openxmlformats.org/officeDocument/2006/relationships/slide" Target="slide2.xml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08840" y="3433680"/>
            <a:ext cx="775944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ffff00"/>
                </a:solidFill>
                <a:latin typeface=" Arial"/>
                <a:cs typeface="Arabic Transparent"/>
              </a:rPr>
              <a:t>بجناحك تدارين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6920" y="4586400"/>
            <a:ext cx="819684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ffff00"/>
                </a:solidFill>
                <a:latin typeface=" Arial"/>
                <a:cs typeface="Arabic Transparent"/>
              </a:rPr>
              <a:t>وعدك وعد صريح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14600" y="1233360"/>
            <a:ext cx="5261040" cy="25318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ffff00"/>
                </a:solidFill>
                <a:latin typeface=" Arial"/>
                <a:cs typeface="Arabic Transparent"/>
              </a:rPr>
              <a:t>دايماً بتخبين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25440" y="2314440"/>
            <a:ext cx="675540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ffff00"/>
                </a:solidFill>
                <a:latin typeface=" Arial"/>
                <a:cs typeface="Arabic Transparent"/>
              </a:rPr>
              <a:t>لما تهب الريح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cs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708840" y="3433680"/>
            <a:ext cx="775944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ffff00"/>
                </a:solidFill>
                <a:latin typeface=" Arial"/>
                <a:cs typeface="Arabic Transparent"/>
              </a:rPr>
              <a:t>بجناحك تدارين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6920" y="4586400"/>
            <a:ext cx="819684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ffff00"/>
                </a:solidFill>
                <a:latin typeface=" Arial"/>
                <a:cs typeface="Arabic Transparent"/>
              </a:rPr>
              <a:t>وعدك وعد صريح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14600" y="1233360"/>
            <a:ext cx="5261040" cy="25318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ffff00"/>
                </a:solidFill>
                <a:latin typeface=" Arial"/>
                <a:cs typeface="Arabic Transparent"/>
              </a:rPr>
              <a:t>دايماً بتخبين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25440" y="2314440"/>
            <a:ext cx="675540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ffff00"/>
                </a:solidFill>
                <a:latin typeface=" Arial"/>
                <a:cs typeface="Arabic Transparent"/>
              </a:rPr>
              <a:t>لما تهب الريح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cs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93" name="">
            <a:hlinkClick r:id="rId2" action="ppaction://hlinksldjump"/>
          </p:cNvPr>
          <p:cNvSpPr/>
          <p:nvPr/>
        </p:nvSpPr>
        <p:spPr>
          <a:xfrm>
            <a:off x="5292720" y="1413000"/>
            <a:ext cx="3816360" cy="707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لما الناس تحاربن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4" action="ppaction://hlinksldjump"/>
          </p:cNvPr>
          <p:cNvSpPr/>
          <p:nvPr/>
        </p:nvSpPr>
        <p:spPr>
          <a:xfrm>
            <a:off x="5292720" y="2433600"/>
            <a:ext cx="3816360" cy="7081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لما الناس بتهين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6" action="ppaction://hlinksldjump"/>
          </p:cNvPr>
          <p:cNvSpPr/>
          <p:nvPr/>
        </p:nvSpPr>
        <p:spPr>
          <a:xfrm>
            <a:off x="108000" y="1281240"/>
            <a:ext cx="4176720" cy="7077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ff"/>
                </a:solidFill>
                <a:latin typeface="Arial"/>
                <a:ea typeface="Arial"/>
              </a:rPr>
              <a:t> القرار : دايماً بتخبيني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92">
            <a:hlinkClick r:id="rId8"/>
          </p:cNvPr>
          <p:cNvSpPr/>
          <p:nvPr/>
        </p:nvSpPr>
        <p:spPr>
          <a:xfrm>
            <a:off x="900000" y="260280"/>
            <a:ext cx="2376720" cy="11912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  <a:effectLst>
            <a:outerShdw dist="28496" dir="92255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ff"/>
                </a:solidFill>
                <a:latin typeface="Arial"/>
                <a:cs typeface="Arial"/>
              </a:rPr>
              <a:t>فهرس التراني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10" action="ppaction://hlinksldjump"/>
          </p:cNvPr>
          <p:cNvSpPr/>
          <p:nvPr/>
        </p:nvSpPr>
        <p:spPr>
          <a:xfrm>
            <a:off x="5292720" y="417600"/>
            <a:ext cx="3816360" cy="7077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لما الناس تنسان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333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13560" y="1138320"/>
            <a:ext cx="869976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ffff00"/>
                </a:solidFill>
                <a:latin typeface=" Arial"/>
                <a:cs typeface="Arabic Transparent"/>
              </a:rPr>
              <a:t>لما الناس تنسان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17840" y="2130480"/>
            <a:ext cx="802008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ffff00"/>
                </a:solidFill>
                <a:latin typeface=" Arial"/>
                <a:cs typeface="Arabic Transparent"/>
              </a:rPr>
              <a:t>وأشعر إني وحيد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-531000" y="3244680"/>
            <a:ext cx="996624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ffff00"/>
                </a:solidFill>
                <a:latin typeface=" Arial"/>
                <a:cs typeface="Arabic Transparent"/>
              </a:rPr>
              <a:t>أصرخ لك في مكاني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7120" y="4344840"/>
            <a:ext cx="766044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ffff00"/>
                </a:solidFill>
                <a:latin typeface=" Arial"/>
                <a:cs typeface="Arabic Transparent"/>
              </a:rPr>
              <a:t>تيجي بحب أكيد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-1078200" y="971640"/>
            <a:ext cx="1124172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 Arial"/>
                <a:ea typeface="Arabic Transparent"/>
              </a:rPr>
              <a:t>(</a:t>
            </a:r>
            <a:r>
              <a:rPr b="1" lang="ar-EG" sz="8000" spc="-1" strike="noStrike">
                <a:solidFill>
                  <a:srgbClr val="ffff00"/>
                </a:solidFill>
                <a:latin typeface=" Arial"/>
                <a:ea typeface="Arabic Transparent"/>
              </a:rPr>
              <a:t> </a:t>
            </a:r>
            <a:r>
              <a:rPr b="1" lang="ar-SA" sz="8000" spc="-1" strike="noStrike">
                <a:solidFill>
                  <a:srgbClr val="ffff00"/>
                </a:solidFill>
                <a:latin typeface=" Arial"/>
                <a:cs typeface="Arabic Transparent"/>
              </a:rPr>
              <a:t>وتنسيني وتعزيني</a:t>
            </a:r>
            <a:r>
              <a:rPr b="1" lang="ar-EG" sz="8000" spc="-1" strike="noStrike">
                <a:solidFill>
                  <a:srgbClr val="ffff00"/>
                </a:solidFill>
                <a:latin typeface=" Arial"/>
                <a:ea typeface="Arabic Transparent"/>
              </a:rPr>
              <a:t> </a:t>
            </a:r>
            <a:r>
              <a:rPr b="1" lang="ar-SA" sz="8000" spc="-1" strike="noStrike">
                <a:solidFill>
                  <a:srgbClr val="ffff00"/>
                </a:solidFill>
                <a:latin typeface=" Arial"/>
                <a:ea typeface="Arabic Transparent"/>
              </a:rPr>
              <a:t>)</a:t>
            </a:r>
            <a:r>
              <a:rPr b="1" lang="ar-SA" sz="8000" spc="-1" strike="noStrike">
                <a:solidFill>
                  <a:srgbClr val="ffff00"/>
                </a:solidFill>
                <a:latin typeface=" Arial"/>
                <a:ea typeface="Arabic Transparent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84720" y="2422440"/>
            <a:ext cx="395424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ffff00"/>
                </a:solidFill>
                <a:latin typeface=" Arial"/>
                <a:cs typeface="Arabic Transparent"/>
              </a:rPr>
              <a:t>يا يسوع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08840" y="3433680"/>
            <a:ext cx="775944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ffff00"/>
                </a:solidFill>
                <a:latin typeface=" Arial"/>
                <a:cs typeface="Arabic Transparent"/>
              </a:rPr>
              <a:t>بجناحك تدارين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6920" y="4586400"/>
            <a:ext cx="819684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ffff00"/>
                </a:solidFill>
                <a:latin typeface=" Arial"/>
                <a:cs typeface="Arabic Transparent"/>
              </a:rPr>
              <a:t>وعدك وعد صريح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14600" y="1233360"/>
            <a:ext cx="5261040" cy="25318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ffff00"/>
                </a:solidFill>
                <a:latin typeface=" Arial"/>
                <a:cs typeface="Arabic Transparent"/>
              </a:rPr>
              <a:t>دايماً بتخبين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25440" y="2314440"/>
            <a:ext cx="675540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ffff00"/>
                </a:solidFill>
                <a:latin typeface=" Arial"/>
                <a:cs typeface="Arabic Transparent"/>
              </a:rPr>
              <a:t>لما تهب الريح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cs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33480" y="-28440"/>
            <a:ext cx="9210960" cy="6914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460520" y="3154320"/>
            <a:ext cx="6068880" cy="25318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صوتك ينده أبن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5520" y="4191120"/>
            <a:ext cx="8258400" cy="25318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أجري وابات في حماك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08240" y="1081080"/>
            <a:ext cx="6394320" cy="25318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لما الناس</a:t>
            </a:r>
            <a:r>
              <a:rPr b="1" lang="ar-EG" sz="8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ar-SA" sz="80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تحاربن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16000" y="2162160"/>
            <a:ext cx="6019920" cy="25318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بالإيمان</a:t>
            </a:r>
            <a:r>
              <a:rPr b="1" lang="ar-EG" sz="80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</a:t>
            </a:r>
            <a:r>
              <a:rPr b="1" lang="ar-SA" sz="80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بالقاك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-1078200" y="971640"/>
            <a:ext cx="1124172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 Arial"/>
                <a:ea typeface="Arabic Transparent"/>
              </a:rPr>
              <a:t>(</a:t>
            </a:r>
            <a:r>
              <a:rPr b="1" lang="ar-EG" sz="8000" spc="-1" strike="noStrike">
                <a:solidFill>
                  <a:srgbClr val="ffff00"/>
                </a:solidFill>
                <a:latin typeface=" Arial"/>
                <a:ea typeface="Arabic Transparent"/>
              </a:rPr>
              <a:t> </a:t>
            </a:r>
            <a:r>
              <a:rPr b="1" lang="ar-SA" sz="8000" spc="-1" strike="noStrike">
                <a:solidFill>
                  <a:srgbClr val="ffff00"/>
                </a:solidFill>
                <a:latin typeface=" Arial"/>
                <a:cs typeface="Arabic Transparent"/>
              </a:rPr>
              <a:t>وتنسيني وتعزيني</a:t>
            </a:r>
            <a:r>
              <a:rPr b="1" lang="ar-EG" sz="8000" spc="-1" strike="noStrike">
                <a:solidFill>
                  <a:srgbClr val="ffff00"/>
                </a:solidFill>
                <a:latin typeface=" Arial"/>
                <a:ea typeface="Arabic Transparent"/>
              </a:rPr>
              <a:t> </a:t>
            </a:r>
            <a:r>
              <a:rPr b="1" lang="ar-SA" sz="8000" spc="-1" strike="noStrike">
                <a:solidFill>
                  <a:srgbClr val="ffff00"/>
                </a:solidFill>
                <a:latin typeface=" Arial"/>
                <a:ea typeface="Arabic Transparent"/>
              </a:rPr>
              <a:t>)</a:t>
            </a:r>
            <a:r>
              <a:rPr b="1" lang="ar-SA" sz="8000" spc="-1" strike="noStrike">
                <a:solidFill>
                  <a:srgbClr val="ffff00"/>
                </a:solidFill>
                <a:latin typeface=" Arial"/>
                <a:ea typeface="Arabic Transparent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484720" y="2422440"/>
            <a:ext cx="395424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ffff00"/>
                </a:solidFill>
                <a:latin typeface=" Arial"/>
                <a:cs typeface="Arabic Transparent"/>
              </a:rPr>
              <a:t>يا يسوع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08840" y="3433680"/>
            <a:ext cx="775944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ffff00"/>
                </a:solidFill>
                <a:latin typeface=" Arial"/>
                <a:cs typeface="Arabic Transparent"/>
              </a:rPr>
              <a:t>بجناحك تدارين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6920" y="4586400"/>
            <a:ext cx="819684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ffff00"/>
                </a:solidFill>
                <a:latin typeface=" Arial"/>
                <a:cs typeface="Arabic Transparent"/>
              </a:rPr>
              <a:t>وعدك وعد صريح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14600" y="1233360"/>
            <a:ext cx="5261040" cy="25318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ffff00"/>
                </a:solidFill>
                <a:latin typeface=" Arial"/>
                <a:cs typeface="Arabic Transparent"/>
              </a:rPr>
              <a:t>دايماً بتخبين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25440" y="2314440"/>
            <a:ext cx="675540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ffff00"/>
                </a:solidFill>
                <a:latin typeface=" Arial"/>
                <a:cs typeface="Arabic Transparent"/>
              </a:rPr>
              <a:t>لما تهب الريح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cs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52040" y="3192480"/>
            <a:ext cx="750672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ffff00"/>
                </a:solidFill>
                <a:latin typeface=" Arial"/>
                <a:cs typeface="Arabic Transparent"/>
              </a:rPr>
              <a:t>بصليبك بتعيني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8320" y="4197240"/>
            <a:ext cx="841356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 Arial"/>
                <a:cs typeface="Arabic Transparent"/>
              </a:rPr>
              <a:t>و</a:t>
            </a:r>
            <a:r>
              <a:rPr b="1" lang="ar-EG" sz="8000" spc="-1" strike="noStrike">
                <a:solidFill>
                  <a:srgbClr val="ffff00"/>
                </a:solidFill>
                <a:latin typeface=" Arial"/>
                <a:ea typeface="Arabic Transparent"/>
              </a:rPr>
              <a:t> </a:t>
            </a:r>
            <a:r>
              <a:rPr b="1" lang="ar-SA" sz="8000" spc="-1" strike="noStrike">
                <a:solidFill>
                  <a:srgbClr val="ffff00"/>
                </a:solidFill>
                <a:latin typeface=" Arial"/>
                <a:cs typeface="Arabic Transparent"/>
              </a:rPr>
              <a:t>يشجعني الروح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8760" y="1062000"/>
            <a:ext cx="840276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ffff00"/>
                </a:solidFill>
                <a:latin typeface=" Arial"/>
                <a:cs typeface="Arabic Transparent"/>
              </a:rPr>
              <a:t>لما الناس بتهين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8200" y="2111400"/>
            <a:ext cx="880668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ffff00"/>
                </a:solidFill>
                <a:latin typeface=" Arial"/>
                <a:cs typeface="Arabic Transparent"/>
              </a:rPr>
              <a:t>وارجع وانا مجروح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-1078200" y="971640"/>
            <a:ext cx="1124172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 Arial"/>
                <a:ea typeface="Arabic Transparent"/>
              </a:rPr>
              <a:t>(</a:t>
            </a:r>
            <a:r>
              <a:rPr b="1" lang="ar-EG" sz="8000" spc="-1" strike="noStrike">
                <a:solidFill>
                  <a:srgbClr val="ffff00"/>
                </a:solidFill>
                <a:latin typeface=" Arial"/>
                <a:ea typeface="Arabic Transparent"/>
              </a:rPr>
              <a:t> </a:t>
            </a:r>
            <a:r>
              <a:rPr b="1" lang="ar-SA" sz="8000" spc="-1" strike="noStrike">
                <a:solidFill>
                  <a:srgbClr val="ffff00"/>
                </a:solidFill>
                <a:latin typeface=" Arial"/>
                <a:cs typeface="Arabic Transparent"/>
              </a:rPr>
              <a:t>وتنسيني وتعزيني</a:t>
            </a:r>
            <a:r>
              <a:rPr b="1" lang="ar-EG" sz="8000" spc="-1" strike="noStrike">
                <a:solidFill>
                  <a:srgbClr val="ffff00"/>
                </a:solidFill>
                <a:latin typeface=" Arial"/>
                <a:ea typeface="Arabic Transparent"/>
              </a:rPr>
              <a:t> </a:t>
            </a:r>
            <a:r>
              <a:rPr b="1" lang="ar-SA" sz="8000" spc="-1" strike="noStrike">
                <a:solidFill>
                  <a:srgbClr val="ffff00"/>
                </a:solidFill>
                <a:latin typeface=" Arial"/>
                <a:ea typeface="Arabic Transparent"/>
              </a:rPr>
              <a:t>)</a:t>
            </a:r>
            <a:r>
              <a:rPr b="1" lang="ar-SA" sz="8000" spc="-1" strike="noStrike">
                <a:solidFill>
                  <a:srgbClr val="ffff00"/>
                </a:solidFill>
                <a:latin typeface=" Arial"/>
                <a:ea typeface="Arabic Transparent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484720" y="2422440"/>
            <a:ext cx="395424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ffff00"/>
                </a:solidFill>
                <a:latin typeface=" Arial"/>
                <a:cs typeface="Arabic Transparent"/>
              </a:rPr>
              <a:t>يا يسوع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5T13:28:45Z</dcterms:created>
  <dc:creator/>
  <dc:description/>
  <dc:language>en-US</dc:language>
  <cp:lastModifiedBy>Sp2</cp:lastModifiedBy>
  <dcterms:modified xsi:type="dcterms:W3CDTF">2008-10-10T00:45:07Z</dcterms:modified>
  <cp:revision>57</cp:revision>
  <dc:subject/>
  <dc:title>PowerPoint Presentation</dc:title>
</cp:coreProperties>
</file>