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FC8E9-2765-460B-BCE6-D7ADC16A6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FE5E8-DCAC-4B94-901B-6654B029F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A58DD-0F7D-4059-861D-9BBF51C6E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0B214-0118-4BF5-BC52-B9824A53D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AD910-F102-4C98-A5D7-956A8F7D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1911B-8C29-4517-9277-0F83341F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BC9FF-4C74-4091-9E14-8B8052A4A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5132C-1318-42AF-B53B-FF40DF885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E998-F68B-4E7C-9271-DBA78D814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BCC3-C6B7-468B-AEF6-E5BE3C30D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4633-9215-4BFD-B47C-4C7EB4D7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4023-23B4-4714-BD78-7B3B71A57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F95F-67B7-4992-9650-82A4C7451A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824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ndidikan Kewarganegaraa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057400" y="5867280"/>
            <a:ext cx="640080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Bambang Tri Purwanto</a:t>
            </a:r>
            <a:endParaRPr b="0" lang="en-US" sz="2400" spc="-1" strike="noStrike">
              <a:solidFill>
                <a:srgbClr val="000000"/>
              </a:solidFill>
              <a:latin typeface="Calibri"/>
            </a:endParaRPr>
          </a:p>
        </p:txBody>
      </p:sp>
      <p:pic>
        <p:nvPicPr>
          <p:cNvPr id="43" name="Picture 2" descr=""/>
          <p:cNvPicPr/>
          <p:nvPr/>
        </p:nvPicPr>
        <p:blipFill>
          <a:blip r:embed="rId1"/>
          <a:stretch/>
        </p:blipFill>
        <p:spPr>
          <a:xfrm>
            <a:off x="1979640" y="2087640"/>
            <a:ext cx="4392720" cy="309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alibri"/>
              </a:rPr>
              <a:t>Pendidikan Kewarganegaraan</a:t>
            </a:r>
            <a:endParaRPr b="0" lang="en-US" sz="4200" spc="-1" strike="noStrike">
              <a:solidFill>
                <a:srgbClr val="000000"/>
              </a:solidFill>
              <a:latin typeface="Calibri"/>
            </a:endParaRPr>
          </a:p>
        </p:txBody>
      </p:sp>
      <p:sp>
        <p:nvSpPr>
          <p:cNvPr id="45" name="PlaceHolder 2"/>
          <p:cNvSpPr>
            <a:spLocks noGrp="1"/>
          </p:cNvSpPr>
          <p:nvPr>
            <p:ph type="subTitle"/>
          </p:nvPr>
        </p:nvSpPr>
        <p:spPr>
          <a:xfrm>
            <a:off x="380880" y="3962520"/>
            <a:ext cx="8229600" cy="12189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Pemilihan Ketua dan Wakil Ketua Kel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uliah dimulai jam 07.00/09.50/12.40 tep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dak ada mahasiswa yang terlambat, bila terlambat dengan alasan apapun, maka kepada ybs dikenakan penalty, 5 menit terlambat nilai akan dikurangi 5 % d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tidak masuk / absen dalam perkuliahan tidak diperkenankan mengisi presensi kehadir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ditemukan ada yang mengisi/ mengisikan presensi ybs maka terhadap semuanya akan dikenakan sanksi ( mengulang dua semester dep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pakaian yang sopan, tidak ada yang memakai t shirt dan celana bolong, sepatu tertutup, utk cewek boleh pake sepatu high h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tidak hadir dalam perkuliahan harus menyerahkan surat keterangan ( dr dokter bila sakit, dst) minimal pada saat akan kuliah minggu berikutnya</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tua / wkl Ketua kelas akan mencatat setiap mhs yang terlambat datang pada saat perkuliahan</a:t>
            </a:r>
            <a:endParaRPr b="0" lang="en-US" sz="3200" spc="-1" strike="noStrike">
              <a:solidFill>
                <a:srgbClr val="000000"/>
              </a:solidFill>
              <a:latin typeface="Calibri"/>
            </a:endParaRPr>
          </a:p>
          <a:p>
            <a:pPr marL="343080" indent="-3430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dak diperkenankan makan, minum dan merokok selama perkuliahan berlangsu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da saat perkuliahan berlangsung, semua ponsel dalam keadaan mati, kecuali kondisi </a:t>
            </a:r>
            <a:r>
              <a:rPr b="1" lang="en-US" sz="3000" spc="-1" strike="noStrike">
                <a:solidFill>
                  <a:srgbClr val="ff0000"/>
                </a:solidFill>
                <a:latin typeface="Calibri"/>
              </a:rPr>
              <a:t>emergency</a:t>
            </a:r>
            <a:r>
              <a:rPr b="0" lang="en-US" sz="3000" spc="-1" strike="noStrike">
                <a:solidFill>
                  <a:srgbClr val="000000"/>
                </a:solidFill>
                <a:latin typeface="Calibri"/>
              </a:rPr>
              <a:t>, bila terdengar ada suara ponsel maka ketua/wakil nya harus mencari pemilik ponsel tersebut, bila tidak ketemu akan dikurangi nilai ujiannya 40 %.</a:t>
            </a:r>
            <a:endParaRPr b="0" lang="en-US" sz="3000" spc="-1" strike="noStrike">
              <a:solidFill>
                <a:srgbClr val="000000"/>
              </a:solidFill>
              <a:latin typeface="Calibri"/>
            </a:endParaRPr>
          </a:p>
          <a:p>
            <a:pPr marL="343080" indent="-34308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da saat ujian berlangsung tidak ada seorang mhs pun yang mencontek, bila ditemukan jawaban yang sama maka akan diberikan sanksi ber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dosen tidak hadir maka akan diberi tahukan kepada ketua / wakil ketua kel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perkuliahan berlangsung tidak ada satu mahasiswapun yang berbicara, yg cowok tidak jualan handphone, yg cewek tidak jualan lipstisk, bila ada yang melanggar maka sanksi nya akan dikurangi nilai ujian nya 6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Perjanjian perkuliaha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 ada sesuatu yang ingin dibicarakan dengan dosen, silahkan menghubungi no telp dosen yb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hasiswa diwajibkan mencari informasi perkuliahan sejenis dari kelas lain, karena soal ujian merupakan gabungan dari semua dosen PK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hasiswa diminta mengerjakan semua tugas yang diberikan oleh dosen PK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WordArt 4"/>
          <p:cNvSpPr txBox="1"/>
          <p:nvPr/>
        </p:nvSpPr>
        <p:spPr>
          <a:xfrm>
            <a:off x="2286000" y="2286000"/>
            <a:ext cx="4495680" cy="1905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erima kasi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04:28:55Z</dcterms:created>
  <dc:creator>pmdk</dc:creator>
  <dc:description/>
  <dc:language>en-US</dc:language>
  <cp:lastModifiedBy>qimfar</cp:lastModifiedBy>
  <dcterms:modified xsi:type="dcterms:W3CDTF">2012-04-30T05:15:00Z</dcterms:modified>
  <cp:revision>13</cp:revision>
  <dc:subject/>
  <dc:title>Pendidikan Kewarganegaraan</dc:title>
</cp:coreProperties>
</file>