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D3AD3-94B5-4A5D-A2EB-C9AAD2C3F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B7162-832C-41D1-8C9F-FF25AEFC5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FA46E-F9FE-449E-AD4A-D32FD46DA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98E6E-FEA5-460F-B643-EC298A6CF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DF5AF-EAA5-4BB6-B8F9-75DA14AF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2F0AA-6625-4D9A-ABCC-4E6D9829F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604C2-955A-46A4-B7F1-6BA111074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C041C-9831-44B2-97B8-F2FA1F327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0C626-B6D1-4ADF-AE3C-FB9104C83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85FE-F26F-4009-B253-7421A069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8F479-7DAF-4D78-B25C-F7EB11846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13E64-0729-4911-972A-45E4D13DF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9ADB-618E-40EF-AC50-1D1871B48D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82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ndidikan Kewarganegaraa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057400" y="5867280"/>
            <a:ext cx="640080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ambang Tri Purwanto</a:t>
            </a:r>
            <a:endParaRPr b="0" lang="en-US" sz="2400" spc="-1" strike="noStrike">
              <a:solidFill>
                <a:srgbClr val="000000"/>
              </a:solidFill>
              <a:latin typeface="Calibri"/>
            </a:endParaRPr>
          </a:p>
        </p:txBody>
      </p:sp>
      <p:pic>
        <p:nvPicPr>
          <p:cNvPr id="43" name="Picture 2" descr=""/>
          <p:cNvPicPr/>
          <p:nvPr/>
        </p:nvPicPr>
        <p:blipFill>
          <a:blip r:embed="rId1"/>
          <a:stretch/>
        </p:blipFill>
        <p:spPr>
          <a:xfrm>
            <a:off x="1979640" y="2087640"/>
            <a:ext cx="4392720" cy="309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Pendidikan Kewarganegaraan</a:t>
            </a:r>
            <a:endParaRPr b="0" lang="en-US" sz="4200" spc="-1" strike="noStrike">
              <a:solidFill>
                <a:srgbClr val="000000"/>
              </a:solidFill>
              <a:latin typeface="Calibri"/>
            </a:endParaRPr>
          </a:p>
        </p:txBody>
      </p:sp>
      <p:sp>
        <p:nvSpPr>
          <p:cNvPr id="45" name="PlaceHolder 2"/>
          <p:cNvSpPr>
            <a:spLocks noGrp="1"/>
          </p:cNvSpPr>
          <p:nvPr>
            <p:ph type="subTitle"/>
          </p:nvPr>
        </p:nvSpPr>
        <p:spPr>
          <a:xfrm>
            <a:off x="380880" y="3962520"/>
            <a:ext cx="82296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Pemilihan Ketua dan Wakil Ketua Kel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uliah dimulai jam 07.00/09.50/12.40 tep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dak ada mahasiswa yang terlambat, bila terlambat dengan alasan apapun, maka kepada ybs dikenakan penalty, 5 menit terlambat nilai akan dikurangi 5 % d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tidak masuk / absen dalam perkuliahan tidak diperkenankan mengisi presensi kehadir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ditemukan ada yang mengisi/ mengisikan presensi ybs maka terhadap semuanya akan dikenakan sanksi ( mengulang dua semester dep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pakaian yang sopan, tidak ada yang memakai t shirt dan celana bolong, sepatu tertutup, utk cewek boleh pake sepatu high h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tidak hadir dalam perkuliahan harus menyerahkan surat keterangan ( dr dokter bila sakit, dst) minimal pada saat akan kuliah minggu berikutnya</a:t>
            </a: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tua / wkl Ketua kelas akan mencatat setiap mhs yang terlambat datang pada saat perkuliahan</a:t>
            </a: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dak diperkenankan makan, minum dan merokok selama perkuliahan berlangsu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da saat perkuliahan berlangsung, semua ponsel dalam keadaan mati, kecuali kondisi </a:t>
            </a:r>
            <a:r>
              <a:rPr b="1" lang="en-US" sz="3000" spc="-1" strike="noStrike">
                <a:solidFill>
                  <a:srgbClr val="ff0000"/>
                </a:solidFill>
                <a:latin typeface="Calibri"/>
              </a:rPr>
              <a:t>emergency</a:t>
            </a:r>
            <a:r>
              <a:rPr b="0" lang="en-US" sz="3000" spc="-1" strike="noStrike">
                <a:solidFill>
                  <a:srgbClr val="000000"/>
                </a:solidFill>
                <a:latin typeface="Calibri"/>
              </a:rPr>
              <a:t>, bila terdengar ada suara ponsel maka ketua/wakil nya harus mencari pemilik ponsel tersebut, bila tidak ketemu akan dikurangi nilai ujiannya 40 %.</a:t>
            </a:r>
            <a:endParaRPr b="0" lang="en-US" sz="3000" spc="-1" strike="noStrike">
              <a:solidFill>
                <a:srgbClr val="000000"/>
              </a:solidFill>
              <a:latin typeface="Calibri"/>
            </a:endParaRPr>
          </a:p>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da saat ujian berlangsung tidak ada seorang mhs pun yang mencontek, bila ditemukan jawaban yang sama maka akan diberikan sanksi ber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dosen tidak hadir maka akan diberi tahukan kepada ketua / wakil ketua kel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perkuliahan berlangsung tidak ada satu mahasiswapun yang berbicara, yg cowok tidak jualan handphone, yg cewek tidak jualan lipstisk, bila ada yang melanggar maka sanksi nya akan dikurangi nilai ujian nya 6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ada sesuatu yang ingin dibicarakan dengan dosen, silahkan menghubungi no telp dosen yb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hasiswa diwajibkan mencari informasi perkuliahan sejenis dari kelas lain, karena soal ujian merupakan gabungan dari semua dosen PK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hasiswa diminta mengerjakan semua tugas yang diberikan oleh dosen PK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4"/>
          <p:cNvSpPr txBox="1"/>
          <p:nvPr/>
        </p:nvSpPr>
        <p:spPr>
          <a:xfrm>
            <a:off x="2286000" y="2286000"/>
            <a:ext cx="4495680" cy="1905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rima kasi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04:28:55Z</dcterms:created>
  <dc:creator>pmdk</dc:creator>
  <dc:description/>
  <dc:language>en-US</dc:language>
  <cp:lastModifiedBy>qimfar</cp:lastModifiedBy>
  <dcterms:modified xsi:type="dcterms:W3CDTF">2012-04-30T05:15:00Z</dcterms:modified>
  <cp:revision>13</cp:revision>
  <dc:subject/>
  <dc:title>Pendidikan Kewarganegaraan</dc:title>
</cp:coreProperties>
</file>