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9BCCF-EF43-42F1-BD23-F2D33B1D9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36855-760F-4992-9400-D5A2E85FD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3E210E-7018-4824-808A-E7CECDB11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C1E0A-956C-43C6-99D6-6A19193C5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36175-6FFE-4D92-877F-9ACAC6AB9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77480-A8E7-417F-BC08-819806919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6927D-091E-43D8-8194-312BC6462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CB018-989B-4C91-A398-17D2756A2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F049F-FFEE-47F6-BC82-FD9394428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549F5-0BD0-4F75-BEBF-EAFDA57B0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02FA3-970F-4792-B63E-EE2F9EB1B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221DA-19B5-420A-BB9F-D64E1E1952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2534D-5026-444B-ADDD-FDA8040943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engapa Perlu Strategi Pembelajaran ?</a:t>
            </a:r>
            <a:endParaRPr b="0" lang="en-US" sz="4000" spc="-1" strike="noStrike">
              <a:solidFill>
                <a:srgbClr val="000000"/>
              </a:solidFill>
              <a:latin typeface="Arial"/>
            </a:endParaRPr>
          </a:p>
        </p:txBody>
      </p:sp>
      <p:sp>
        <p:nvSpPr>
          <p:cNvPr id="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 antara tugas guru dlm persiapan pembelajaran adl memikirkan: </a:t>
            </a:r>
            <a:endParaRPr b="0" lang="en-US" sz="2800" spc="-1" strike="noStrike">
              <a:solidFill>
                <a:srgbClr val="000000"/>
              </a:solidFill>
              <a:latin typeface="Arial"/>
            </a:endParaRPr>
          </a:p>
          <a:p>
            <a:pPr marL="457200" indent="-4572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a agar siswa dpt memproses informasi yg disampaikan </a:t>
            </a:r>
            <a:endParaRPr b="0" lang="en-US" sz="2800" spc="-1" strike="noStrike">
              <a:solidFill>
                <a:srgbClr val="000000"/>
              </a:solidFill>
              <a:latin typeface="Arial"/>
            </a:endParaRPr>
          </a:p>
          <a:p>
            <a:pPr marL="457200" indent="-4572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a mengaitkan informasi baru dg pengetahu-an yg sebelumnya sudah dimiliki siswa. </a:t>
            </a:r>
            <a:endParaRPr b="0" lang="en-US" sz="2800" spc="-1" strike="noStrike">
              <a:solidFill>
                <a:srgbClr val="000000"/>
              </a:solidFill>
              <a:latin typeface="Arial"/>
            </a:endParaRPr>
          </a:p>
          <a:p>
            <a:pPr marL="457200" indent="-4572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a menciptakan situasi dan kondisi agar siswa dan memproses informasi dg lebih mudah &amp; cepat dipahami sekaligus melekat lama dlm ingatan merek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wer of Two</a:t>
            </a:r>
            <a:endParaRPr b="0" lang="en-US" sz="4000" spc="-1" strike="noStrike">
              <a:solidFill>
                <a:srgbClr val="000000"/>
              </a:solidFill>
              <a:latin typeface="Arial"/>
            </a:endParaRPr>
          </a:p>
        </p:txBody>
      </p:sp>
      <p:sp>
        <p:nvSpPr>
          <p:cNvPr id="60" name="PlaceHolder 2"/>
          <p:cNvSpPr>
            <a:spLocks noGrp="1"/>
          </p:cNvSpPr>
          <p:nvPr>
            <p:ph/>
          </p:nvPr>
        </p:nvSpPr>
        <p:spPr>
          <a:xfrm>
            <a:off x="457200" y="990720"/>
            <a:ext cx="8229600" cy="5867280"/>
          </a:xfrm>
          <a:prstGeom prst="rect">
            <a:avLst/>
          </a:prstGeom>
          <a:noFill/>
          <a:ln w="0">
            <a:noFill/>
          </a:ln>
        </p:spPr>
        <p:txBody>
          <a:bodyPr lIns="90000" rIns="90000" tIns="46800" bIns="46800" anchor="t">
            <a:normAutofit/>
          </a:bodyPr>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unakan untuk mendorong pembelajaran kooperatif &amp; memperkuat pentingnya serta manfaat sinergi, yaitu dua kepala lebih baik daripada hanya satu kepala</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edur:</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jukan satu atau lebih pertanyaan yang menuntut perenungan</a:t>
            </a:r>
            <a:br>
              <a:rPr sz="2400"/>
            </a:br>
            <a:r>
              <a:rPr b="0" lang="en-US" sz="2400" spc="-1" strike="noStrike">
                <a:solidFill>
                  <a:srgbClr val="000000"/>
                </a:solidFill>
                <a:latin typeface="Arial"/>
              </a:rPr>
              <a:t>dan pemikiran. Contoh: Mengapa terjadi perbedaan paham dan aliran di kalangan umat Islam?</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swa diminta utk menjawab pertanyaan scr individual.</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elah semua siswa menjawab dg lengkap, mintalah mereka utk berpasangan &amp; saling bertukar jawaban satu dg yg lain &amp; membahasnya.</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talah pasangan-pasangan tsb membuat jawaban baru, sekaligus memperbaiki jawaban  individual mereka.</a:t>
            </a:r>
            <a:endParaRPr b="0" lang="en-US" sz="2400" spc="-1" strike="noStrike">
              <a:solidFill>
                <a:srgbClr val="000000"/>
              </a:solidFill>
              <a:latin typeface="Arial"/>
            </a:endParaRPr>
          </a:p>
          <a:p>
            <a:pPr marL="457200" indent="-45720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tika semua pasangan telah menulis jawaban baru bandingkan jawaban setiap pasangan di dlm kela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 Students Have</a:t>
            </a:r>
            <a:endParaRPr b="0" lang="en-US" sz="4000" spc="-1" strike="noStrike">
              <a:solidFill>
                <a:srgbClr val="000000"/>
              </a:solidFill>
              <a:latin typeface="Arial"/>
            </a:endParaRPr>
          </a:p>
        </p:txBody>
      </p:sp>
      <p:sp>
        <p:nvSpPr>
          <p:cNvPr id="62" name="PlaceHolder 2"/>
          <p:cNvSpPr>
            <a:spLocks noGrp="1"/>
          </p:cNvSpPr>
          <p:nvPr>
            <p:ph/>
          </p:nvPr>
        </p:nvSpPr>
        <p:spPr>
          <a:xfrm>
            <a:off x="457200" y="914400"/>
            <a:ext cx="8229600" cy="5943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unakan untuk mengetahui kebutuhan &amp; harapan sisw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p strategi dpt mendatangkan partisipasi siswa melalui tulisan dari pd secara lisa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sedu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gikan secarik kertas kosong kpd sisw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iap siswa diminta menulis pertanyaan yg terkait dg materi pembelajaran  yang sedang berlangsung (nama siswa tidak dituli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arkan kertas tsb searah jarum jam. Ketika setiap kertas tersebut diedarkan kepada siswa berikutnya, dia harus membaca dan memberikan tanda cek (v) pada kertas yang berisi pertanyaan yang juga menjadi konsen pembacany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PlaceHolder 2"/>
          <p:cNvSpPr>
            <a:spLocks noGrp="1"/>
          </p:cNvSpPr>
          <p:nvPr>
            <p:ph/>
          </p:nvPr>
        </p:nvSpPr>
        <p:spPr>
          <a:xfrm>
            <a:off x="457200" y="533520"/>
            <a:ext cx="8229600" cy="59436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Ketika masing-masing kertas sudah kembali ke penulisnya, setiap orang telah membaca semua pertanyaan yg muncul di dlm kelas. Sampai di sini identifikasi pertanyaan yg menerima paling banyak tanda cek (v). Responslah setiap pertanyaan ini dengan: segera memberikan jawaban yg singkat, atau atau memberi tahu mereka bahwa tidak menjawab semuanya (janjikan respons secara personal di luar kelas bila memungkinkan).</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intalah beberapa siswa untuk secara sukarela berbagi penjelasan tentang pertanyaan mereka sekalipun tidak menerima tanda cek (v) terbanyak.</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Kumpulkan kertas tersebut karena mungkin di dalamnya ada pertanyaan yang mungkin akan direspons pada pertemuan yang akan datang</a:t>
            </a:r>
            <a:r>
              <a:rPr b="0" lang="en-GB" sz="2400" spc="-1" strike="noStrike">
                <a:solidFill>
                  <a:srgbClr val="000000"/>
                </a:solidFill>
                <a:latin typeface="Arial"/>
              </a:rPr>
              <a:t>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rd sort</a:t>
            </a:r>
            <a:endParaRPr b="0" lang="en-US" sz="4000" spc="-1" strike="noStrike">
              <a:solidFill>
                <a:srgbClr val="000000"/>
              </a:solidFill>
              <a:latin typeface="Arial"/>
            </a:endParaRPr>
          </a:p>
        </p:txBody>
      </p:sp>
      <p:sp>
        <p:nvSpPr>
          <p:cNvPr id="66" name="PlaceHolder 2"/>
          <p:cNvSpPr>
            <a:spLocks noGrp="1"/>
          </p:cNvSpPr>
          <p:nvPr>
            <p:ph/>
          </p:nvPr>
        </p:nvSpPr>
        <p:spPr>
          <a:xfrm>
            <a:off x="457200" y="1066320"/>
            <a:ext cx="8229600" cy="5791320"/>
          </a:xfrm>
          <a:prstGeom prst="rect">
            <a:avLst/>
          </a:prstGeom>
          <a:noFill/>
          <a:ln w="0">
            <a:noFill/>
          </a:ln>
        </p:spPr>
        <p:txBody>
          <a:bodyPr lIns="90000" rIns="90000" tIns="46800" bIns="46800" anchor="t">
            <a:normAutofit fontScale="99000"/>
          </a:bodyPr>
          <a:p>
            <a:pPr marL="376920" indent="-376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unakan utk membangun kolaborasi siswa, mempelajari  konsep, karakteristik klisifikasi, fakta tentang obyek , atau mereviu  informasi. </a:t>
            </a:r>
            <a:endParaRPr b="0" lang="en-US" sz="2400" spc="-1" strike="noStrike">
              <a:solidFill>
                <a:srgbClr val="000000"/>
              </a:solidFill>
              <a:latin typeface="Arial"/>
            </a:endParaRPr>
          </a:p>
          <a:p>
            <a:pPr marL="376920" indent="-376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rakan fisik yang dominan, shg  dapat membantu mendinamisasi kelas yang kelelahan.</a:t>
            </a:r>
            <a:endParaRPr b="0" lang="en-US" sz="2400" spc="-1" strike="noStrike">
              <a:solidFill>
                <a:srgbClr val="000000"/>
              </a:solidFill>
              <a:latin typeface="Arial"/>
            </a:endParaRPr>
          </a:p>
          <a:p>
            <a:pPr marL="376920" indent="-376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edur:</a:t>
            </a:r>
            <a:endParaRPr b="0" lang="en-US" sz="2400" spc="-1" strike="noStrike">
              <a:solidFill>
                <a:srgbClr val="000000"/>
              </a:solidFill>
              <a:latin typeface="Arial"/>
            </a:endParaRPr>
          </a:p>
          <a:p>
            <a:pPr marL="376920" indent="-3769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rtu indeks yang berisi informasi atau contoh yang tercakup ­satu atau lebih kategori dibagikan kepada setiap siswa. Contoh: karakteristik hadis sahih; rukun iman</a:t>
            </a:r>
            <a:endParaRPr b="0" lang="en-US" sz="2400" spc="-1" strike="noStrike">
              <a:solidFill>
                <a:srgbClr val="000000"/>
              </a:solidFill>
              <a:latin typeface="Arial"/>
            </a:endParaRPr>
          </a:p>
          <a:p>
            <a:pPr marL="376920" indent="-3769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swa diminta untuk bergerak &amp; berkeliling di dlm kelas utk menemukan kartu dg kategori yang sama. </a:t>
            </a:r>
            <a:endParaRPr b="0" lang="en-US" sz="2400" spc="-1" strike="noStrike">
              <a:solidFill>
                <a:srgbClr val="000000"/>
              </a:solidFill>
              <a:latin typeface="Arial"/>
            </a:endParaRPr>
          </a:p>
          <a:p>
            <a:pPr marL="376920" indent="-3769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swa dengan kategori yang sama diminta mempresentasikan kategori masing-masing di depan kelas</a:t>
            </a:r>
            <a:endParaRPr b="0" lang="en-US" sz="2400" spc="-1" strike="noStrike">
              <a:solidFill>
                <a:srgbClr val="000000"/>
              </a:solidFill>
              <a:latin typeface="Arial"/>
            </a:endParaRPr>
          </a:p>
          <a:p>
            <a:pPr marL="376920" indent="-3769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iring dg presentasi dari tiap-tiap kategori tsb, siswa­</a:t>
            </a:r>
            <a:br>
              <a:rPr sz="2400"/>
            </a:br>
            <a:r>
              <a:rPr b="0" lang="en-US" sz="2400" spc="-1" strike="noStrike">
                <a:solidFill>
                  <a:srgbClr val="000000"/>
                </a:solidFill>
                <a:latin typeface="Arial"/>
              </a:rPr>
              <a:t>diberi butir-butir penting berkaitan dengan materi pembelajaran.</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tive debate</a:t>
            </a:r>
            <a:endParaRPr b="0" lang="en-US" sz="4000" spc="-1" strike="noStrike">
              <a:solidFill>
                <a:srgbClr val="000000"/>
              </a:solidFill>
              <a:latin typeface="Arial"/>
            </a:endParaRPr>
          </a:p>
        </p:txBody>
      </p:sp>
      <p:sp>
        <p:nvSpPr>
          <p:cNvPr id="68" name="PlaceHolder 2"/>
          <p:cNvSpPr>
            <a:spLocks noGrp="1"/>
          </p:cNvSpPr>
          <p:nvPr>
            <p:ph/>
          </p:nvPr>
        </p:nvSpPr>
        <p:spPr>
          <a:xfrm>
            <a:off x="457200" y="1066320"/>
            <a:ext cx="822960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at bisa menjadi satu metode berharga yang dapat mendorong pemikiran dan perenungan, terutama kalau siswa diharapkan mempertahankan pendapat yang bertentangan dg keyakinannya sendiri.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 merupakan strategi yang secara aktif melibatkan setiap mahasiswa di dalam kelas, bukan hanya para pelaku debatnya</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457200" y="609120"/>
            <a:ext cx="8686800" cy="6248520"/>
          </a:xfrm>
          <a:prstGeom prst="rect">
            <a:avLst/>
          </a:prstGeom>
          <a:noFill/>
          <a:ln w="0">
            <a:noFill/>
          </a:ln>
        </p:spPr>
        <p:txBody>
          <a:bodyPr lIns="90000" rIns="90000" tIns="46800" bIns="46800" anchor="t">
            <a:normAutofit/>
          </a:bodyPr>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edur:</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mbangkan sebuah pernyataan kontroversial yang berkaitan dengan materi perkuliahan, misalnya "Tidak ada keharusan mendirikan negara Islam".</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gilah kelas menjadi dua tim, yakni kelompok "pro" dan "kontra".</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rikutnya, buatlah dua hingga empat subkelompok dalam masing­-masing kelompok debat. Setiap subkelompok diminta untuk mengembangkan argumen yang mendukung masing-masing posisi atau menyiapkan urutan daftar argumen yg bisa mereka diskusikan dan seleksi. Pada akhir diskusi, setiap subkelompok memilih seorang juru bicara.</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apkan dua hingga empat kursi untuk para juru bicara pada keleompok "pro" dg jumlah kursi yang sama untuk kelompok "kontra”. Siswa lainnya duduk di belakang para juru bicara. Mulailah perdebatan dg para juru bicara mempresentasikan pandangan mereka. Proses ini disebut argumen pembuka</a:t>
            </a:r>
            <a:endParaRPr b="0" lang="en-US" sz="2400" spc="-1" strike="noStrike">
              <a:solidFill>
                <a:srgbClr val="000000"/>
              </a:solidFill>
              <a:latin typeface="Arial"/>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6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457200" y="380520"/>
            <a:ext cx="8229600" cy="61722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Setelah mendengarkan argumen pembuka, hentikan perdebatan, dan kembali ke subkelompok. Setiap subkelompok mempersiapkan argumen untuk menyanggah argumen pembuka dari kelompok ­lawan. Setiap subkelompok memilih juru bicara yang baru (yang belum pernah bertindak sebagai juru bicara).</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jutkan kembali perdebatan. Juru bicara yang saling berhadapan ­diminta untuk memberikan sanggahan argumen. Ketika perdebatan berlangsung, peserta lainnya didorong untuk memberikan catatan yang berisi usulan argumen atau bantahan. Mintalah mereka untuk bersorak atau bertepuk tangan untuk  masing-masing argumen dari para wakil kelompok</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da saat yang tepat akhiri perdebatan. Tidak perlu menentukan kelompok mana yang menang. Kemudian, buatlah kelas dengan posisi melingkar. Pastikan bahwa kelas terintegrasi. Untuk itu, mereka diminta duduk berdampingan dengan mereka yang berada di kelompok lawan. Diskusikan tentang sesuatu yang dapat dipelajari siswa dari pengalaman perdebatan tersebut. Mintalah siswa untuk mengidentifikasi argumen yang paling baik menurut mereka</a:t>
            </a: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ted question</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knik ini membantu Anda untuk mempresentasikan informasi dalam bentuk respons terhadap pertanyaan yang telah ditanamkan/diberikan sebelumnya kepada siswa tertentu</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sedu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lihlah pertanyaan (3-6) yang akan mengarahkan pada materi perkuliahan yang akan disajika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lislah setiap pertanyaan pd satu kartu indeks (berukuran 10 x 15 cm), &amp; tulislah isyarat yg akan digunakan untuk memberi tanda kapan pertanyaan tsb diajukan. Tanda yang bisa digunakan di antaranya adalah:  (1) menggaruk atau mengusap hidung; (2) membuka kaca mata, dan (3) membunyikan jari jari.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ksi dalam kartu itu akan tampak seperti: JANGAN TUNJUKKAN KARTU INI KEPADA SIAPA PUNSetelah beristirahat, saya akan membahas "Apakah kecerdasan itu</a:t>
            </a:r>
            <a:br>
              <a:rPr sz="1800"/>
            </a:br>
            <a:r>
              <a:rPr b="0" lang="en-US" sz="1800" spc="-1" strike="noStrike">
                <a:solidFill>
                  <a:srgbClr val="000000"/>
                </a:solidFill>
                <a:latin typeface="Arial"/>
              </a:rPr>
              <a:t>diwariskan?" dan kemudian mempersilakan Anda untuk bertanya. Ketika</a:t>
            </a:r>
            <a:br>
              <a:rPr sz="1800"/>
            </a:br>
            <a:r>
              <a:rPr b="0" lang="en-US" sz="1800" spc="-1" strike="noStrike">
                <a:solidFill>
                  <a:srgbClr val="000000"/>
                </a:solidFill>
                <a:latin typeface="Arial"/>
              </a:rPr>
              <a:t>saya mengggaruk hidung, angkat tangan dan tanyakan pertanyaan: “</a:t>
            </a:r>
            <a:r>
              <a:rPr b="1" lang="en-US" sz="1800" spc="-1" strike="noStrike">
                <a:solidFill>
                  <a:srgbClr val="000000"/>
                </a:solidFill>
                <a:latin typeface="Arial"/>
              </a:rPr>
              <a:t>Apakah bentuk kecerdasan itu hanya satu?”</a:t>
            </a:r>
            <a:r>
              <a:rPr b="0" lang="en-US" sz="1800" spc="-1" strike="noStrike">
                <a:solidFill>
                  <a:srgbClr val="000000"/>
                </a:solidFill>
                <a:latin typeface="Arial"/>
              </a:rPr>
              <a:t>Jangan baca pertanyaan itu keras-keras. Hafalkan dan ungkapkan</a:t>
            </a:r>
            <a:br>
              <a:rPr sz="1800"/>
            </a:br>
            <a:r>
              <a:rPr b="0" lang="en-US" sz="1800" spc="-1" strike="noStrike">
                <a:solidFill>
                  <a:srgbClr val="000000"/>
                </a:solidFill>
                <a:latin typeface="Arial"/>
              </a:rPr>
              <a:t>pertanyaan tersebut dengan kata-kata Anda sendir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Sebelum perkuliahan dimulai, pilihlah siswa yang akan mengajukan pertanyaan tersebut. Berikan setiap kartu indeks dan jelaskan petunjuknya. Yakinkan bahwa pertanyaan-pertanyaan tersebut tidak diketahui siswa lain.</a:t>
            </a: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Bukalah sesi tanya jawab dengan menyebutkan topik yang akan dibahas dan berilah israyat pertama. Kemudian, jawablah pertanyaan pertama dan teruskan dengan tanda-tanda dan pertanyaan-pertanyaan berikutnya.</a:t>
            </a: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Sekarang, bukalah forum untuk pertanyaan baru (bukan pertanyaan yang sebelumnya telah dibuatkan atau diajuka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ormation search</a:t>
            </a:r>
            <a:endParaRPr b="0" lang="en-US" sz="4000" spc="-1" strike="noStrike">
              <a:solidFill>
                <a:srgbClr val="000000"/>
              </a:solidFill>
              <a:latin typeface="Arial"/>
            </a:endParaRPr>
          </a:p>
        </p:txBody>
      </p:sp>
      <p:sp>
        <p:nvSpPr>
          <p:cNvPr id="78" name="PlaceHolder 2"/>
          <p:cNvSpPr>
            <a:spLocks noGrp="1"/>
          </p:cNvSpPr>
          <p:nvPr>
            <p:ph/>
          </p:nvPr>
        </p:nvSpPr>
        <p:spPr>
          <a:xfrm>
            <a:off x="457200" y="914400"/>
            <a:ext cx="8229600" cy="5943600"/>
          </a:xfrm>
          <a:prstGeom prst="rect">
            <a:avLst/>
          </a:prstGeom>
          <a:noFill/>
          <a:ln w="0">
            <a:noFill/>
          </a:ln>
        </p:spPr>
        <p:txBody>
          <a:bodyPr lIns="90000" rIns="90000" tIns="46800" bIns="46800" anchor="t">
            <a:normAutofit/>
          </a:bodyPr>
          <a:p>
            <a:pPr marL="380880" indent="-380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ode ini sama dengan ujian open book. </a:t>
            </a:r>
            <a:endParaRPr b="0" lang="en-US" sz="2400" spc="-1" strike="noStrike">
              <a:solidFill>
                <a:srgbClr val="000000"/>
              </a:solidFill>
              <a:latin typeface="Arial"/>
            </a:endParaRPr>
          </a:p>
          <a:p>
            <a:pPr marL="380880" indent="-380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r berkelompok siswa mencari informasi yg menjawab pertanyaan-pertanyaan yg diberikan kpd mereka</a:t>
            </a:r>
            <a:r>
              <a:rPr b="0" lang="en-GB" sz="2400" spc="-1" strike="noStrike">
                <a:solidFill>
                  <a:srgbClr val="000000"/>
                </a:solidFill>
                <a:latin typeface="Arial"/>
              </a:rPr>
              <a:t> </a:t>
            </a:r>
            <a:endParaRPr b="0" lang="en-US" sz="2400" spc="-1" strike="noStrike">
              <a:solidFill>
                <a:srgbClr val="000000"/>
              </a:solidFill>
              <a:latin typeface="Arial"/>
            </a:endParaRPr>
          </a:p>
          <a:p>
            <a:pPr marL="380880" indent="-380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edur:</a:t>
            </a:r>
            <a:endParaRPr b="0" lang="en-US" sz="2400" spc="-1" strike="noStrike">
              <a:solidFill>
                <a:srgbClr val="000000"/>
              </a:solidFill>
              <a:latin typeface="Arial"/>
            </a:endParaRPr>
          </a:p>
          <a:p>
            <a:pPr marL="380880" indent="-3808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atlah beberapa pertanyaan yg dpt dijawab dg mencari  informasi yg dpt ditemukan dlm bahan-bahan sumber yg  bisa diakses siswa. Bahan-bahan sumber ini bisa dalam ­bentuk: hands out, dokumen, bu</a:t>
            </a:r>
            <a:r>
              <a:rPr b="0" lang="en-GB" sz="2400" spc="-1" strike="noStrike">
                <a:solidFill>
                  <a:srgbClr val="000000"/>
                </a:solidFill>
                <a:latin typeface="Arial"/>
              </a:rPr>
              <a:t>ku teks, informasi dari internet, dll.</a:t>
            </a:r>
            <a:endParaRPr b="0" lang="en-US" sz="2400" spc="-1" strike="noStrike">
              <a:solidFill>
                <a:srgbClr val="000000"/>
              </a:solidFill>
              <a:latin typeface="Arial"/>
            </a:endParaRPr>
          </a:p>
          <a:p>
            <a:pPr marL="380880" indent="-3808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gikan pertanyaan-pertanyaan tsb kpd siswa.</a:t>
            </a:r>
            <a:endParaRPr b="0" lang="en-US" sz="2400" spc="-1" strike="noStrike">
              <a:solidFill>
                <a:srgbClr val="000000"/>
              </a:solidFill>
              <a:latin typeface="Arial"/>
            </a:endParaRPr>
          </a:p>
          <a:p>
            <a:pPr marL="380880" indent="-3808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ntalah siswa menjawab pertanyaan, baik scr individual maupun kelompok kecil. Kompetisi antar kelompok dpt diciptakan untuk meningkatkan partisipasi.</a:t>
            </a:r>
            <a:endParaRPr b="0" lang="en-US" sz="2400" spc="-1" strike="noStrike">
              <a:solidFill>
                <a:srgbClr val="000000"/>
              </a:solidFill>
              <a:latin typeface="Arial"/>
            </a:endParaRPr>
          </a:p>
          <a:p>
            <a:pPr marL="380880" indent="-3808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rilah komentar atas jawaban yg diberikan siswa. Kembangkan jawaban untuk memperluas wawasan pembelajara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eramah</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44" name="PlaceHolder 2"/>
          <p:cNvSpPr>
            <a:spLocks noGrp="1"/>
          </p:cNvSpPr>
          <p:nvPr>
            <p:ph/>
          </p:nvPr>
        </p:nvSpPr>
        <p:spPr>
          <a:xfrm>
            <a:off x="457200" y="914400"/>
            <a:ext cx="8686800" cy="5943600"/>
          </a:xfrm>
          <a:prstGeom prst="rect">
            <a:avLst/>
          </a:prstGeom>
          <a:noFill/>
          <a:ln w="0">
            <a:noFill/>
          </a:ln>
        </p:spPr>
        <p:txBody>
          <a:bodyPr lIns="90000" rIns="90000" tIns="46800" bIns="46800" anchor="t">
            <a:normAutofit/>
          </a:bodyPr>
          <a:p>
            <a:pPr marL="380880" indent="-380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amah: mrp strategi pembelajaran yg paling populer</a:t>
            </a:r>
            <a:endParaRPr b="0" lang="en-US" sz="2400" spc="-1" strike="noStrike">
              <a:solidFill>
                <a:srgbClr val="000000"/>
              </a:solidFill>
              <a:latin typeface="Arial"/>
            </a:endParaRPr>
          </a:p>
          <a:p>
            <a:pPr marL="380880" indent="-380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amah adl metode pembelajaran yg dilakukan dg menyampaikan pesan &amp; informasi secara satu arah lewat suara yg diterima melalui indra telinga.</a:t>
            </a:r>
            <a:endParaRPr b="0" lang="en-US" sz="2400" spc="-1" strike="noStrike">
              <a:solidFill>
                <a:srgbClr val="000000"/>
              </a:solidFill>
              <a:latin typeface="Arial"/>
            </a:endParaRPr>
          </a:p>
          <a:p>
            <a:pPr marL="380880" indent="-380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ode ini tepat untuk beberapa kondisi sbb:</a:t>
            </a:r>
            <a:endParaRPr b="0" lang="en-US" sz="2400" spc="-1" strike="noStrike">
              <a:solidFill>
                <a:srgbClr val="000000"/>
              </a:solidFill>
              <a:latin typeface="Arial"/>
            </a:endParaRPr>
          </a:p>
          <a:p>
            <a:pPr marL="380880" indent="-3808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Ika  informasi yg disampaikan tdak tersedia dlm bentuk tulisan, teks yg tersedia tidak cocok, atau teks yg ada sudah kedaluwarsa.</a:t>
            </a:r>
            <a:endParaRPr b="0" lang="en-US" sz="2400" spc="-1" strike="noStrike">
              <a:solidFill>
                <a:srgbClr val="000000"/>
              </a:solidFill>
              <a:latin typeface="Arial"/>
            </a:endParaRPr>
          </a:p>
          <a:p>
            <a:pPr marL="380880" indent="-3808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tuk memberikan pengarahan sebelum melaksanakan tugas.</a:t>
            </a:r>
            <a:endParaRPr b="0" lang="en-US" sz="2400" spc="-1" strike="noStrike">
              <a:solidFill>
                <a:srgbClr val="000000"/>
              </a:solidFill>
              <a:latin typeface="Arial"/>
            </a:endParaRPr>
          </a:p>
          <a:p>
            <a:pPr marL="380880" indent="-3808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tuk memotivasi atau memberi tantangan kpd siswa terutama ketika tidak terungkap dalam buku rujukan yg diberikan.</a:t>
            </a:r>
            <a:endParaRPr b="0" lang="en-US" sz="2400" spc="-1" strike="noStrike">
              <a:solidFill>
                <a:srgbClr val="000000"/>
              </a:solidFill>
              <a:latin typeface="Arial"/>
            </a:endParaRPr>
          </a:p>
          <a:p>
            <a:pPr marL="380880" indent="-3808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tuk menunjukkan antusiasme thd matakuliah yg diajarkan</a:t>
            </a:r>
            <a:endParaRPr b="0" lang="en-US" sz="2400" spc="-1" strike="noStrike">
              <a:solidFill>
                <a:srgbClr val="000000"/>
              </a:solidFill>
              <a:latin typeface="Arial"/>
            </a:endParaRPr>
          </a:p>
          <a:p>
            <a:pPr marL="380880" indent="-3808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tuk memberikan model cara berpikir atau pemecahan  masala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arning contract</a:t>
            </a:r>
            <a:endParaRPr b="0" lang="en-US" sz="4000" spc="-1" strike="noStrike">
              <a:solidFill>
                <a:srgbClr val="000000"/>
              </a:solidFill>
              <a:latin typeface="Arial"/>
            </a:endParaRPr>
          </a:p>
        </p:txBody>
      </p:sp>
      <p:sp>
        <p:nvSpPr>
          <p:cNvPr id="80"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ajar mandiri pengaruhnya sering lebih mendalam dan lebih permanen. </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tapi, perlu ada kesepakatan  yang jelas tentang apa dan bagaimana sesuatu akan dipelajari</a:t>
            </a:r>
            <a:r>
              <a:rPr b="0" lang="en-GB" sz="2400" spc="-1" strike="noStrike">
                <a:solidFill>
                  <a:srgbClr val="000000"/>
                </a:solidFill>
                <a:latin typeface="Arial"/>
              </a:rPr>
              <a:t> </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ed ur:</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iap siswa diminta untuk memilih sebuah topik yang akan  dipelajari secara mandiri.</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iap siswa didorong untuk membuat rencana studi dengan  hati-hati. Berilah waktu yang cukup untuk membuat perencanaan.</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iap siswa diminta untuk membuat kontrak tertu mencakup kategori: (1) tujuan pembelajaran yang akan dicapai; (2) pengetahuan atau kemampuan spesifik yang akan dikuasai; (3) kegiatan belajar yang akan dikerjakan, dan (4) tanggal penyerah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 name="PlaceHolder 2"/>
          <p:cNvSpPr>
            <a:spLocks noGrp="1"/>
          </p:cNvSpPr>
          <p:nvPr>
            <p:ph/>
          </p:nvPr>
        </p:nvSpPr>
        <p:spPr>
          <a:xfrm>
            <a:off x="457200" y="533520"/>
            <a:ext cx="8229600" cy="6324480"/>
          </a:xfrm>
          <a:prstGeom prst="rect">
            <a:avLst/>
          </a:prstGeom>
          <a:noFill/>
          <a:ln w="0">
            <a:noFill/>
          </a:ln>
        </p:spPr>
        <p:txBody>
          <a:bodyPr lIns="90000" rIns="90000" tIns="46800" bIns="46800" anchor="t">
            <a:normAutofit/>
          </a:bodyPr>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oh kontrak yang dibuat siswa.</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ik </a:t>
            </a:r>
            <a:r>
              <a:rPr b="0" lang="en-US" sz="2000" spc="-1" strike="noStrike">
                <a:solidFill>
                  <a:srgbClr val="000000"/>
                </a:solidFill>
                <a:latin typeface="Arial"/>
              </a:rPr>
              <a:t>	</a:t>
            </a:r>
            <a:r>
              <a:rPr b="0" lang="en-US" sz="2000" spc="-1" strike="noStrike">
                <a:solidFill>
                  <a:srgbClr val="000000"/>
                </a:solidFill>
                <a:latin typeface="Arial"/>
              </a:rPr>
              <a:t>:  Meresensi Buku "A".</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j Pembelaj:  Mampu membuat resensi terhadap buku "A'.</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get.Spesifik</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uat format tulisan yang tepat</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uat tulisan/resensi dlm  4 halaman.</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ktivitas Pembelajaran</a:t>
            </a:r>
            <a:r>
              <a:rPr b="0" lang="en-US" sz="2000" spc="-1" strike="noStrike">
                <a:solidFill>
                  <a:srgbClr val="000000"/>
                </a:solidFill>
                <a:latin typeface="Arial"/>
              </a:rPr>
              <a:t>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aca buku yang akan diresensi.</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cari ide-ide pokok dan memberi komentar.</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yiapkan draft untuk didiskusikan dengan guru.</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ulis ulang sesuai perbaikan/ masukan guru</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diskusikan hasil perbaikan dengan orang lain</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ulis draft akhir resensi.</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ktu Penyerahan:  Dua minggu setelah kontrak ditandatangani.</a:t>
            </a:r>
            <a:endParaRPr b="0" lang="en-US" sz="2000" spc="-1" strike="noStrike">
              <a:solidFill>
                <a:srgbClr val="000000"/>
              </a:solidFill>
              <a:latin typeface="Arial"/>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a:t>
            </a:r>
            <a:r>
              <a:rPr b="0" lang="en-US" sz="2400" spc="-1" strike="noStrike">
                <a:solidFill>
                  <a:srgbClr val="000000"/>
                </a:solidFill>
                <a:latin typeface="Arial"/>
              </a:rPr>
              <a:t>Diskusikan proposal kontrak belajar dengan siswa. Berilah saran tentang sumber-sumber bacaan yang tersedia dan berilah masukan untuk perubahan apabila diperlukan</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3348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veryone is a teacher here</a:t>
            </a:r>
            <a:endParaRPr b="0" lang="en-US" sz="3600" spc="-1" strike="noStrike">
              <a:solidFill>
                <a:srgbClr val="000000"/>
              </a:solidFill>
              <a:latin typeface="Arial"/>
            </a:endParaRPr>
          </a:p>
        </p:txBody>
      </p:sp>
      <p:sp>
        <p:nvSpPr>
          <p:cNvPr id="84" name="PlaceHolder 2"/>
          <p:cNvSpPr>
            <a:spLocks noGrp="1"/>
          </p:cNvSpPr>
          <p:nvPr>
            <p:ph/>
          </p:nvPr>
        </p:nvSpPr>
        <p:spPr>
          <a:xfrm>
            <a:off x="457200" y="761760"/>
            <a:ext cx="8686800" cy="609588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 ini sangat tepat untuk mendapatkan partisipasi kelas secara keseluruhan dan secara individual.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 ini juga memberi kesempatan kepada setiap mashasiswa untuk berperan sebagai dosen bagi siswa lainnya</a:t>
            </a:r>
            <a:r>
              <a:rPr b="0" lang="en-GB" sz="2400" spc="-1" strike="noStrike">
                <a:solidFill>
                  <a:srgbClr val="000000"/>
                </a:solidFill>
                <a:latin typeface="Arial"/>
              </a:rPr>
              <a:t>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edur:</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gikan secarik kertas/kartu indeks kpd seluruh siswa. Mintalah siswa untuk menuliskan satu pertanyaan tentang materi pembelajaran yg sedang dipelajari di kela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mpulkan kertas, acak kertas tersebut, kemudian bagikan kpd setiap siswa. Mintalah mereka untuk membaca dalam hati pertanyaan dalam kertas tersebut &amp; memikirkan jawabannya.</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talah siswa untuk membacakan secara sukarela pertanyaan tersebut dan menjawabnya.</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elah jawaban diberikan, mintalah siswa lainnya untuk menambahka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jutkan dengan sukarelawan berikutnya</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ing the way</a:t>
            </a:r>
            <a:endParaRPr b="0" lang="en-US" sz="3200" spc="-1" strike="noStrike">
              <a:solidFill>
                <a:srgbClr val="000000"/>
              </a:solidFill>
              <a:latin typeface="Arial"/>
            </a:endParaRPr>
          </a:p>
        </p:txBody>
      </p:sp>
      <p:sp>
        <p:nvSpPr>
          <p:cNvPr id="86"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i ini mberi kesempatan kpd siswa utk mempraktikkan keterampilan spesifik yg dipelajari di kelas melalui demonstrasi.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swa diberi waktu untuk menciptakan skenario sendiri dan menentukan bgm mereka mengilustrasikan ketrampilan &amp; teknik yg baru saja dijelaskan</a:t>
            </a:r>
            <a:r>
              <a:rPr b="0" lang="en-GB" sz="2000" spc="-1" strike="noStrike">
                <a:solidFill>
                  <a:srgbClr val="000000"/>
                </a:solidFill>
                <a:latin typeface="Arial"/>
              </a:rPr>
              <a:t>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sedur:</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elah pembelajaran satu topik tertentu, identifikasi beberapa situasi umum yang siswa dituntut untuk menggunakan keterampilan yang baru dibahas.</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ilah kelas ke dalam beberapa kelompok kecil menurut jumlah siswa yang diperlukan untuk mendemonstrasikan satu skenario (minimal 2 atau 3 orang).</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ilah waktu 10-15 menit untuk menciptakan skenario.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ilah waktu 5-7 menit untuk berlatih.</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ara bergiliran tiap kelompok mendemonstrasikan skenarionya. Berilah kesempatan untuk memberi umpan balik pada setiap demonstrasi yang dilakukan.</a:t>
            </a: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llboard ranking</a:t>
            </a:r>
            <a:endParaRPr b="0" lang="en-US" sz="3200" spc="-1" strike="noStrike">
              <a:solidFill>
                <a:srgbClr val="000000"/>
              </a:solidFill>
              <a:latin typeface="Arial"/>
            </a:endParaRPr>
          </a:p>
        </p:txBody>
      </p:sp>
      <p:sp>
        <p:nvSpPr>
          <p:cNvPr id="88" name="PlaceHolder 2"/>
          <p:cNvSpPr>
            <a:spLocks noGrp="1"/>
          </p:cNvSpPr>
          <p:nvPr>
            <p:ph/>
          </p:nvPr>
        </p:nvSpPr>
        <p:spPr>
          <a:xfrm>
            <a:off x="457200" y="837720"/>
            <a:ext cx="8229600" cy="5715000"/>
          </a:xfrm>
          <a:prstGeom prst="rect">
            <a:avLst/>
          </a:prstGeom>
          <a:noFill/>
          <a:ln w="0">
            <a:noFill/>
          </a:ln>
        </p:spPr>
        <p:txBody>
          <a:bodyPr lIns="90000" rIns="90000" tIns="46800" bIns="46800" anchor="t">
            <a:normAutofit/>
          </a:bodyPr>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 ini tepat sekali untuk menstimulasi refleksi dan diskusi mengenai nilai-nilai, gagasan, dan pilihan-pilihan yang ada di dalam masyarakat.</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edu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gilah kelas ke dalam beberapa kelompok kecil 4-6 orang. </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rikan daftar nilai-nilai luhur yang dianggap penting.</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rikan potongan kertas dan mintalah mereka untuk menulis kembali nilai-nilai tersebut.</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talah mahasiswa untuk membuat urutan dari nilai dianggap terpenting hingga yang tidak penting.</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atlah sejenis "Billboard" tempat kelompok tadi menampilkan  peringkat urutan daftar nilai tersebut.</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ingkan semua urutan nilai tersebut di depan kel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ngelolaan Kelas</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musatkan perhatian siswa</a:t>
            </a:r>
            <a:endParaRPr b="0" lang="en-US" sz="3200" spc="-1" strike="noStrike">
              <a:solidFill>
                <a:srgbClr val="000000"/>
              </a:solidFill>
              <a:latin typeface="Arial"/>
            </a:endParaRPr>
          </a:p>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nciptakan kondisi belajar yg kondusif</a:t>
            </a:r>
            <a:endParaRPr b="0" lang="en-US" sz="3200" spc="-1" strike="noStrike">
              <a:solidFill>
                <a:srgbClr val="000000"/>
              </a:solidFill>
              <a:latin typeface="Arial"/>
            </a:endParaRPr>
          </a:p>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mberikan tegur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 name="PlaceHolder 2"/>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lemahan Ceramah:</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ya tahan siswa untuk berkonsentrasi dan mengandalkan alat indra telinga sangat terbatas. Pada sepuluh menit pertama mahasiswa mampu menyerap 70 % informasi yang disampaikan. Sementara itu, pada sepuluh menit terakhir informasi yang dapat diserap oleh ­siswa hanya 20%.</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tika mendengarkan, siswa sangat mudah terganggu karena siswa lebih terfokus pada apa yang terlihat (visual) daripada  yang terdengar (audio).</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swa tidak dapat membandingkan, menganalisis atau  mengevaluasi gagasan atau informasi yang disampaikan gur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135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 name="PlaceHolder 2"/>
          <p:cNvSpPr>
            <a:spLocks noGrp="1"/>
          </p:cNvSpPr>
          <p:nvPr>
            <p:ph/>
          </p:nvPr>
        </p:nvSpPr>
        <p:spPr>
          <a:xfrm>
            <a:off x="457200" y="380880"/>
            <a:ext cx="8229600" cy="6477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ps untuk mengoptimalkan metode cerama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angun minat dg cara (a) mengawali dg menampilkan cerita/ gambar yg dpt menarik perhatian siswa thd topik yg akan diajarkan; (b) menyajikan kasus yg berkaitan dg topik pembelajaran; dan (c) mengajukan pertanyaan kpd siswa shg mrk termotivasi utk mendengarkan pembelajaran dlm rangka mencari jawabanny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aksimalkan pemahaman &amp; ingatan dg cara (a) membuat kata-kata kunci yg berperan sbg subjudul verbal, (b) memberikan ilustrasi nyata dari ide-ide yg disampaikan, atau apabila memungkinkan membuat perbandingan antara yg materi yg disampaikan dg pengetahuan/ pengalaman yang telah dimiliki siswa, dan (c) menggunakan dukungan visual, seperti flip chart, OHP handout singkat, atau demonstras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libatkan siswa dlm pembelajaran dg cara (a) memberhentikan pembelajaran scr  periodik &amp; menantang siswa utk memberikan contoh dari konsep-konsep yg dipresentasikan/ untuk menjawab pertanyaan dan (b) menyelingi pembelajaran dg aktivitas-aktivitas singkat yg memperjelas topi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perkuat ingatan siswa thd materi perkuliahan dg (a) mengajukan masalah/ pertanyaan utk dipecahkan/ dijawab oleh siswa dan (b) meminta siswa utk saling mengulang/ mengetes materi disajikan.</a:t>
            </a: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skusi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l proses interaksi dan komunikasi dua arah atau lebih yang melibatkan guru dan sisw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usi merupakan strategi penting untuk menciptakan proses belajar aktif.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lam  strategi tersebut peran guru adalah memfasilitasi proses diskusi serta mengatur lalu lintas gagasan &amp; komentar siswa agar berjalan dengan lancar</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6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PlaceHolder 2"/>
          <p:cNvSpPr>
            <a:spLocks noGrp="1"/>
          </p:cNvSpPr>
          <p:nvPr>
            <p:ph/>
          </p:nvPr>
        </p:nvSpPr>
        <p:spPr>
          <a:xfrm>
            <a:off x="457200" y="533520"/>
            <a:ext cx="8229600" cy="594360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kusi akan efektif jika guru  ingin:</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antu siswa berpikir atau melatih berpikir dalam disiplin ilmu tertentu.</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antu siswa belajar menilai logika, bukti, dan hujah, baik pendapatnya sendiri rnaupun pendapat orang lain.</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i kesempatan kpd siswa utk memformulasikan penerapan prinsip-prinsip tertentu. </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antu siswa menyadari dan mengidentifikasi problem dari penggunaan informasi dari buku rujukan atau perkuliahan.</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anfaatkan keahlian (sumber belajar) yang ada pada anggota kelompok</a:t>
            </a: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685800"/>
            <a:ext cx="8229600" cy="5867280"/>
          </a:xfrm>
          <a:prstGeom prst="rect">
            <a:avLst/>
          </a:prstGeom>
          <a:noFill/>
          <a:ln w="0">
            <a:noFill/>
          </a:ln>
        </p:spPr>
        <p:txBody>
          <a:bodyPr lIns="90000" rIns="90000" tIns="46800" bIns="46800" anchor="t">
            <a:normAutofit fontScale="99000"/>
          </a:bodyPr>
          <a:p>
            <a:pPr marL="452520" indent="-4525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tika proses diskusi, guru sering menghadapi beberapa hambatan, antara lain, adalah sebagai berikut.</a:t>
            </a:r>
            <a:endParaRPr b="0" lang="en-US" sz="3200" spc="-1" strike="noStrike">
              <a:solidFill>
                <a:srgbClr val="000000"/>
              </a:solidFill>
              <a:latin typeface="Arial"/>
            </a:endParaRPr>
          </a:p>
          <a:p>
            <a:pPr marL="452520" indent="-45252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libatkan partisipasi siswa dalam diskusi.</a:t>
            </a:r>
            <a:endParaRPr b="0" lang="en-US" sz="3200" spc="-1" strike="noStrike">
              <a:solidFill>
                <a:srgbClr val="000000"/>
              </a:solidFill>
              <a:latin typeface="Arial"/>
            </a:endParaRPr>
          </a:p>
          <a:p>
            <a:pPr marL="452520" indent="-45252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buat siswa sadar terhadap pencapaian tujuan  pembelajaran.</a:t>
            </a:r>
            <a:endParaRPr b="0" lang="en-US" sz="3200" spc="-1" strike="noStrike">
              <a:solidFill>
                <a:srgbClr val="000000"/>
              </a:solidFill>
              <a:latin typeface="Arial"/>
            </a:endParaRPr>
          </a:p>
          <a:p>
            <a:pPr marL="452520" indent="-45252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gatasi reaksi emosional siswa</a:t>
            </a:r>
            <a:endParaRPr b="0" lang="en-US" sz="3200" spc="-1" strike="noStrike">
              <a:solidFill>
                <a:srgbClr val="000000"/>
              </a:solidFill>
              <a:latin typeface="Arial"/>
            </a:endParaRPr>
          </a:p>
          <a:p>
            <a:pPr marL="452520" indent="-45252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impin diskusi tanpa banyak melakukan intervensi.</a:t>
            </a:r>
            <a:endParaRPr b="0" lang="en-US" sz="3200" spc="-1" strike="noStrike">
              <a:solidFill>
                <a:srgbClr val="000000"/>
              </a:solidFill>
              <a:latin typeface="Arial"/>
            </a:endParaRPr>
          </a:p>
          <a:p>
            <a:pPr marL="452520" indent="-45252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buat struktur diskusi, mulai dari pengantar sampai dengan kesimpul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380880"/>
            <a:ext cx="8229600" cy="6096240"/>
          </a:xfrm>
          <a:prstGeom prst="rect">
            <a:avLst/>
          </a:prstGeom>
          <a:noFill/>
          <a:ln w="0">
            <a:noFill/>
          </a:ln>
        </p:spPr>
        <p:txBody>
          <a:bodyPr lIns="90000" rIns="90000" tIns="46800" bIns="46800" anchor="t">
            <a:normAutofit/>
          </a:bodyPr>
          <a:p>
            <a:pPr marL="380880" indent="-380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ps memimpin diskusi.</a:t>
            </a:r>
            <a:endParaRPr b="0" lang="en-US" sz="2400" spc="-1" strike="noStrike">
              <a:solidFill>
                <a:srgbClr val="000000"/>
              </a:solidFill>
              <a:latin typeface="Arial"/>
            </a:endParaRPr>
          </a:p>
          <a:p>
            <a:pPr marL="380880" indent="-3808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gungkapkan kembali apa yang dikatakan oleh seorang siswa sehingga siswa tersebut meraasa bahwa pertanyaan atau komentarnya dipahami dan siswa lain dapat mendengar ringkasan apa yang telah ditanyakan. </a:t>
            </a:r>
            <a:endParaRPr b="0" lang="en-US" sz="2400" spc="-1" strike="noStrike">
              <a:solidFill>
                <a:srgbClr val="000000"/>
              </a:solidFill>
              <a:latin typeface="Arial"/>
            </a:endParaRPr>
          </a:p>
          <a:p>
            <a:pPr marL="380880" indent="-3808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gecek pemahaman guru tentang apa yang dikatakan siswa atau meminta siswa untuk menjelaskan apa yang mereka katakan. </a:t>
            </a:r>
            <a:endParaRPr b="0" lang="en-US" sz="2400" spc="-1" strike="noStrike">
              <a:solidFill>
                <a:srgbClr val="000000"/>
              </a:solidFill>
              <a:latin typeface="Arial"/>
            </a:endParaRPr>
          </a:p>
          <a:p>
            <a:pPr marL="380880" indent="-3808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ikan pujian atau komentar yang lebih mencerahkan </a:t>
            </a:r>
            <a:endParaRPr b="0" lang="en-US" sz="2400" spc="-1" strike="noStrike">
              <a:solidFill>
                <a:srgbClr val="000000"/>
              </a:solidFill>
              <a:latin typeface="Arial"/>
            </a:endParaRPr>
          </a:p>
          <a:p>
            <a:pPr marL="380880" indent="-3808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gelaborasi kontribusi siswa dengan memberi contoh atau menyarankan cara baru melihat problem. </a:t>
            </a:r>
            <a:endParaRPr b="0" lang="en-US" sz="2400" spc="-1" strike="noStrike">
              <a:solidFill>
                <a:srgbClr val="000000"/>
              </a:solidFill>
              <a:latin typeface="Arial"/>
            </a:endParaRPr>
          </a:p>
          <a:p>
            <a:pPr marL="380880" indent="-3808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acu diskusi dengan mempercepat tempo, menggunakan humor, atau kalau perlu mendorong siswa untuk berpartisipasi dalam diskus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457200" y="609120"/>
            <a:ext cx="8229600" cy="57913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Menolak ide siswa dengan santun untuk merangsang diskusi tetap berjala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Menengahi perbedaan pendapat antara mahasiswa dan mencairkan ketegangan yang muncul di antara mereka.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Menarik ide-ide yang berkembang clan menunjukkan hubungan di antara ide-ide tersebu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Mengubah proses diskusi dengan mengganti cara partisipasi peserta diskusi atau dengan meminta kelompok tampil ke depa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Meringkas, atau mencatat bila diperlukan, ide-ide penting yang berkembang dalam diskusi di kel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06:39:43Z</dcterms:created>
  <dc:creator>comp</dc:creator>
  <dc:description/>
  <dc:language>en-US</dc:language>
  <cp:lastModifiedBy>comp</cp:lastModifiedBy>
  <dcterms:modified xsi:type="dcterms:W3CDTF">2008-02-07T08:43:16Z</dcterms:modified>
  <cp:revision>14</cp:revision>
  <dc:subject/>
  <dc:title>Strategi Pembelajaran</dc:title>
</cp:coreProperties>
</file>