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E36-F336-4A4C-B8CC-D9A293B0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E19-ABCA-4E16-84B2-CD3DBC8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06C-E98A-43F9-87CF-0F5BCFAC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111-8064-43A2-B59A-ECCA1376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041-281A-499F-B7B9-8024661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FBC-F0D5-48A4-A3DE-27C76223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EDD-34D5-4829-9E9C-B783F890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CC9-77FB-4ED7-91D8-13CCDDE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516-0FF6-40A5-A6D8-A5000FE2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BAA-3354-454E-9FFE-93D67421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FC0-4707-4D38-B37F-2AD2951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D17-466B-4281-ACFC-6F337EAF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0F756-E210-4DE0-9200-BF0171BE90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3D0A2-8A1C-4BE9-8CFE-411E2F9D7FC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55:05Z</dcterms:created>
  <dc:creator>최봉수</dc:creator>
  <dc:description/>
  <dc:language>en-US</dc:language>
  <cp:lastModifiedBy>맛있다 군만두</cp:lastModifiedBy>
  <dcterms:modified xsi:type="dcterms:W3CDTF">2023-07-13T11:13:39Z</dcterms:modified>
  <cp:revision>3</cp:revision>
  <dc:subject/>
  <dc:title>슬라이드 1</dc:title>
</cp:coreProperties>
</file>