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3ED-C10E-4C4A-BC6C-EACB8B69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C49-3642-421D-91B7-CA2EAB99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A7F-08F8-4552-8DE0-3F53CCA3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B15-014E-4717-B68E-285249D8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533-D373-40A3-A8AD-566E5D18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1ED4-643D-4D78-938E-F3829E67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865-C0FE-44DE-8303-8070F00B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D98-E3E3-458D-B341-EC99B67B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FE8-B771-47E0-8562-1BDDADD3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6C6-515B-4082-A3B3-C438B369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5B6-C89E-4974-ABA5-4F18422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F4E-A3EC-4D2C-B2FC-E9AF8583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33DCC-9EAF-4A06-8F36-69045B86A7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2B033-19B5-4FB0-9DC5-1C7FE711B61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47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54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1" name="Picture 9" descr=""/>
            <p:cNvPicPr/>
            <p:nvPr/>
          </p:nvPicPr>
          <p:blipFill>
            <a:blip r:embed="rId5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0">
              <a:hlinkClick r:id="rId6" action="ppaction://hlinksldjump"/>
            </p:cNvPr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68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75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9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8"/>
          <p:cNvGrpSpPr/>
          <p:nvPr/>
        </p:nvGrpSpPr>
        <p:grpSpPr>
          <a:xfrm>
            <a:off x="9487080" y="6310440"/>
            <a:ext cx="423720" cy="431640"/>
            <a:chOff x="9487080" y="6310440"/>
            <a:chExt cx="423720" cy="431640"/>
          </a:xfrm>
        </p:grpSpPr>
        <p:pic>
          <p:nvPicPr>
            <p:cNvPr id="82" name="Picture 9" descr=""/>
            <p:cNvPicPr/>
            <p:nvPr/>
          </p:nvPicPr>
          <p:blipFill>
            <a:blip r:embed="rId3"/>
            <a:stretch/>
          </p:blipFill>
          <p:spPr>
            <a:xfrm>
              <a:off x="94870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0"/>
            <p:cNvSpPr/>
            <p:nvPr/>
          </p:nvSpPr>
          <p:spPr>
            <a:xfrm>
              <a:off x="96152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55:05Z</dcterms:created>
  <dc:creator>최봉수</dc:creator>
  <dc:description/>
  <dc:language>en-US</dc:language>
  <cp:lastModifiedBy>맛있다 군만두</cp:lastModifiedBy>
  <dcterms:modified xsi:type="dcterms:W3CDTF">2023-07-13T11:13:39Z</dcterms:modified>
  <cp:revision>3</cp:revision>
  <dc:subject/>
  <dc:title>슬라이드 1</dc:title>
</cp:coreProperties>
</file>