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D7B1-5DCA-4A5B-81B8-F3446CA4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FE1-9A5F-42C2-8D23-4306A638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CDA-5AAC-4954-BA7F-2ADB1952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0D48-3130-4735-B132-BCB6F7DE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8D89-5AAB-4E42-B185-C753CDD6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A7CA-7EB3-46F6-837D-5B4EDB01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F5DC-933E-4CEE-9DFA-5D2610F7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FEB2-7369-4AF2-A80E-CE41DC55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1F17-F9A6-4C5E-8361-1DA4C0CF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6CC-839E-45E1-9BF8-9246CDE2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05B1-1B04-4711-A4F2-B5EF75EB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BC3-6D47-4683-885D-D7FB2B0C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74F7-0644-45B9-A7CF-51770A0B2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2860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 Black"/>
              </a:rPr>
              <a:t>PEMIMPIN DAN KEPIMPINA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286000"/>
            <a:ext cx="807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3880" y="2286000"/>
            <a:ext cx="6096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APA?</a:t>
            </a:r>
            <a:endParaRPr b="0" lang="en-US" sz="2400" spc="1" strike="noStrike">
              <a:ln w="28440">
                <a:solidFill>
                  <a:srgbClr val="ff33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657600"/>
            <a:ext cx="632448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Lucida Sans Unicode"/>
                <a:ea typeface="Lucida Sans Unicode"/>
              </a:rPr>
              <a:t>Siapa sah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Lucida Sans Unicode"/>
                <a:ea typeface="Lucida Sans Unicode"/>
              </a:rPr>
              <a:t>Menunjuk ara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Lucida Sans Unicode"/>
                <a:ea typeface="Lucida Sans Unicode"/>
              </a:rPr>
              <a:t>Membimb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Lucida Sans Unicode"/>
                <a:ea typeface="Lucida Sans Unicode"/>
              </a:rPr>
              <a:t>Mencapai matla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685800"/>
            <a:ext cx="83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28600"/>
            <a:ext cx="84582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emimpin mesti sihat jasmani, sihat rohan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Emosi yang stab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Tabah dan sa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Tidak mudah naik dar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Tenang menghadapi masal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Tahu untuk memberi keutam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erupaya membuat keputusan yang tep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75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75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75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75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75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75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75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75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75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75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75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75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75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457200"/>
            <a:ext cx="75438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uat Berusaha Untuk Majukan Organisas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empunyai daya inisiatif tin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empunyai daya kreativ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Sentiasa merancangn dan melaksana aktiviti berfaed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anyak membaca, hadiri kursus, bergaul dengan orang yang lebih beril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75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75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75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75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75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71600" y="6094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425520"/>
            <a:ext cx="762012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emimpin Mempunyai Kualiti Peribadi Yang Bai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ebding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Jujur dan amanah terhadap harta benda dan kewan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ebding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Rendah di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ebding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oleh dipercay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ebding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embuat perhitungan yang teliti,berhemah dan ce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ebding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Suka berterus ter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ebding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udah dihubun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3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9" dur="3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4" dur="3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9" dur="3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3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3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3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2048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REDIBILITI SEORANG PEMIMP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engawas Sekola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in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erkelakuan ba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ertanggung jaw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Aktif dalam gerakerja kokurik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75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75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75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75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75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75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75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75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75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75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685800"/>
            <a:ext cx="83822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QuantasBroadLight"/>
              </a:rPr>
              <a:t>Ketua Tingkat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QuantasBroadLight"/>
              </a:rPr>
              <a:t>Sentiasa berpakaian k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QuantasBroadLight"/>
              </a:rPr>
              <a:t>Masuk ke kelas menepati wa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QuantasBroadLight"/>
              </a:rPr>
              <a:t>Mematuhi peraturan sekol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QuantasBroadLight"/>
              </a:rPr>
              <a:t>Pandai bergaul dan menyesuaikan di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QuantasBroadLight"/>
              </a:rPr>
              <a:t>Tidak somb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QuantasBroadLight"/>
              </a:rPr>
              <a:t>Tidak berlag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QuantasBroadLight"/>
              </a:rPr>
              <a:t>Tidak mengasingkan di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QuantasBroadLight"/>
              </a:rPr>
              <a:t>Diseg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9" dur="75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4" dur="75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9" dur="75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4" dur="75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9" dur="75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4" dur="75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9" dur="75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4" dur="75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9" dur="75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609480"/>
            <a:ext cx="82296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etua/Pemimpin Persatuan atau Ketua Pasuk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lmanac MT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empunyai pengetahuan dan pengalaman lebih lu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lmanac MT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erketerampilan dalam bidangn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lmanac MT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empunyai minat mendal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lmanac MT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erupaya tunjuk ajar orang l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lmanac MT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Sentiasa mendorong anggota untuk terus maj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" dur="75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1" dur="75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" dur="75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1" dur="75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" dur="75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" dur="75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30492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16 CIRI PERSONALITI PEMIMPIN IDE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44480"/>
            <a:ext cx="8305920" cy="48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ertanggungjawab Kepada Allah dan Manusia Yang Dipimp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Cerdik dan Bijaks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ercaya Kepada Diri Sendi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erdisip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andai Bergaul dan Tidak Somb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8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3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3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3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8" dur="3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3" dur="3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430200"/>
            <a:ext cx="8474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QuantasBroadLight"/>
              </a:rPr>
              <a:t>6. </a:t>
            </a: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empunyai pengetahuan dan   pengalaman yang lu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QuantasBroadLigh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empunyai keahlian atau ketrampilan dalam bidangn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QuantasBroadLigh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empunyai semangat pengabdian dan kesetiaan terhadap organisas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QuantasBroadLigh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Sihat jasmani dan roh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QuantasBroadLigh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empunyai kestabilan emosi,  </a:t>
            </a: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tidak mudah naik dar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QuantasBroadLigh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empunyai daya inisiatif yang tin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75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75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75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75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75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75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75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75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75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75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75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75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143000"/>
            <a:ext cx="8153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12. Kreat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13. Mempunyai 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 kemahuan 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untuk maj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14. Jujur dan amana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15. Mempunyai sikap 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 terbu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16. Mudah dihubung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8" dur="75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3" dur="75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8" dur="75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3" dur="75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8" dur="75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45720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GAIMANA PEMIMPIN LAHIR DALAM MASYARA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81080"/>
            <a:ext cx="8991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turunkan Allah untuk pimpin umat – nabi dan ras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tentukan  darah keturun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syarakat primitif pemimpin dipilih berdasarkan orang yang paling tua atau paling gaga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syarakat moden berdasarkan ketokohan,ilmu,keterampilan,berpengaruh &amp; berkaris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572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Siapa pemimpin Pelajar di Sekol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828800"/>
            <a:ext cx="80773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enga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etua Tingka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etua Rumah Suk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etua Pasukan Permain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engerusi Kelab &amp; Persatu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engawas Perpustak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7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75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75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75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75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75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75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19320" y="4572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Siapa Yang Melantik Pemimpin Di sekol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057400"/>
            <a:ext cx="79246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Dicadangkan Oleh Gu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Disahkan oleh penget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Dipersetujui oleh pelaj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Dicadangkan dan disokong oleh ahli dan dipersetujui oleh guru penyelaras persatuan atau ke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75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75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75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3808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RITIRIA PEMILIHAN DAN PELANTIKAN PEMIMP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523880"/>
            <a:ext cx="7696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Parties MT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elakuan Ba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Parties MT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ecerd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Parties MT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ecerg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Parties MT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i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Parties MT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ertanggung jaw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Parties MT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Akt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Parties MT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erwiba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71600" y="5335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10 ASAS KEPIMPIN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295280"/>
            <a:ext cx="77724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empunyai bakat semulaj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akat perlu dipupuk dan diperkembangk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Sedar tanggungjawa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epada All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epada dir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epada Orang yang dipimp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7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75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75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75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75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75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75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29528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QuantasBroadLight"/>
              </a:rPr>
              <a:t>Pemimpin perlu memberi khidmat bakti, tenaga dan buah fikiran untuk kesejahteraan orang lain, bukan sekadar untuk berbangga dengan kedudukan, pangkat dan nam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47920" y="762120"/>
            <a:ext cx="739116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emimpin mesti bijaks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ercaya pada diri sendir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Yakin dengan apa yang difikirk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Yakin dengan apa yang diucapk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Yakin dengan apa yang dilakuk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762120"/>
            <a:ext cx="746748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QuantasBroadLight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QuantasBroadLight"/>
              </a:rPr>
              <a:t>Pemimpin mesti </a:t>
            </a:r>
            <a:r>
              <a:rPr b="1" lang="en-US" sz="3600" spc="-1" strike="noStrike">
                <a:solidFill>
                  <a:srgbClr val="000000"/>
                </a:solidFill>
                <a:latin typeface="QuantasBroadLight"/>
              </a:rPr>
              <a:t>berdisiplin, boleh diteladani dan sentiasa menjadi model serta ikut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QuantasBroadLight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QuantasBroadLight"/>
              </a:rPr>
              <a:t>Semangat pengabdian dan kesetiaan tinggi terhadap organisas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75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75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09:59:41Z</dcterms:created>
  <dc:creator>Ashari Khat</dc:creator>
  <dc:description/>
  <dc:language>en-US</dc:language>
  <cp:lastModifiedBy>A satisfied Microsoft Office User</cp:lastModifiedBy>
  <dcterms:modified xsi:type="dcterms:W3CDTF">2005-10-12T06:48:50Z</dcterms:modified>
  <cp:revision>11</cp:revision>
  <dc:subject/>
  <dc:title>PowerPoint Presentation</dc:title>
</cp:coreProperties>
</file>