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260-5535-44BD-AB9F-C4893EFC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C2F-21A7-4BB3-BD4A-88C1BDF3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E82-F93B-49B2-867F-BDE3112E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635-FA32-46C1-80A7-F6B39A47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141-DB75-41A2-AF73-FAEE84F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250-9B38-49ED-B99A-212595F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6EC-12C9-44B2-9306-98F6DF82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718-8356-4B18-A809-86B1B15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F45-8958-41DE-B008-D03E527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624-57C7-4C6B-8042-182D73C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901-9A9A-46B9-B583-9D84075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15D-FA93-422C-9D72-9069598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6E4-53FC-428C-94B8-B402D0CA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86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 Black"/>
              </a:rPr>
              <a:t>PEMIMPIN DAN KEPIMPIN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0"/>
            <a:ext cx="609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APA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657600"/>
            <a:ext cx="632448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Siapa sah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nunjuk ar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mbimb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Lucida Sans Unicode"/>
                <a:ea typeface="Lucida Sans Unicode"/>
              </a:rPr>
              <a:t>Mencapai matla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858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28600"/>
            <a:ext cx="84582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sti sihat jasmani, sihat roha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Emosi yang stab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abah dan sa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idak mudah naik dar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enang menghadapi masa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ahu untuk memberi keutam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upaya membuat keputusan yang te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57200"/>
            <a:ext cx="75438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uat Berusaha Untuk Majukan Organisa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inisiatif tin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kreativ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ntiasa merancangn dan melaksana aktiviti berfae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anyak membaca, hadiri kursus, bergaul dengan orang yang lebih beril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75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75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75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75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5520"/>
            <a:ext cx="7620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mpunyai Kualiti Peribadi Yang Ba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Jujur dan amanah terhadap harta benda dan kewa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Rendah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oleh diperca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buat perhitungan yang teliti,berhemah dan ce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uka berterus ter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udah dihub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3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3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3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3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3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3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3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REDIBILITI SEORANG PEMIMP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 Sekola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i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kelakuan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 jaw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Aktif dalam gerakerja ko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75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75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685800"/>
            <a:ext cx="83822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Ketua Tingkat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Sentiasa berpakaian k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Masuk ke kelas menepati wa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Mematuhi peraturan seko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Pandai bergaul dan menyesuaikan di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somb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berlag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Tidak mengasingkan di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QuantasBroadLight"/>
              </a:rPr>
              <a:t>Diseg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4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4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9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609480"/>
            <a:ext cx="82296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/Pemimpin Persatuan atau Ketua Pasuk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pengetahuan dan pengalaman lebih l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keterampilan dalam bidang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minat menda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upaya tunjuk ajar orang 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lmanac MT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ntiasa mendorong anggota untuk terus ma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75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75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75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75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75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04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16 CIRI PERSONALITI PEMIMPIN ID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44480"/>
            <a:ext cx="830592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jawab Kepada Allah dan Manusia Yang Dip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Cerdik dan Bijaks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rcaya Kepada Diri Sen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disip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andai Bergaul dan Tidak Somb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3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3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3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3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30200"/>
            <a:ext cx="8474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QuantasBroadLight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pengetahuan dan   pengalaman yang l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keahlian atau ketrampilan dalam bidang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semangat pengabdian dan kesetiaan terhadap organisa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hat jasmani dan roh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kestabilan emosi, 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tidak mudah naik dar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QuantasBroadLigh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daya inisiatif yang tin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75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75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75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2. Kreat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3. Mempunyai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kemahuan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untuk maj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4. Jujur dan aman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5. Mempunyai sikap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 terbu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QuantasBroadLight"/>
              </a:rPr>
              <a:t>16. Mudah dihub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8" dur="7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3" dur="75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8" dur="75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3" dur="75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75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457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GAIMANA PEMIMPIN LAHIR DALAM MASYARA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turunkan Allah untuk pimpin umat – nabi dan ra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tentukan  darah ketur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syarakat primitif pemimpin dipilih berdasarkan orang yang paling tua atau paling gag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syarakat moden berdasarkan ketokohan,ilmu,keterampilan,berpengaruh &amp; berkari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apa pemimpin Pelajar di Seko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Ting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Rumah Su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tua Pasukan Permai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erusi Kelab &amp; Persat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ngawas Perpustak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75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75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75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75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457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iapa Yang Melantik Pemimpin Di seko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57400"/>
            <a:ext cx="7924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cadangkan Oleh G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sahkan oleh penget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persetujui oleh pelaj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Dicadangkan dan disokong oleh ahli dan dipersetujui oleh guru penyelaras persatuan atau ke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75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75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RITIRIA PEMILIHAN DAN PELANTIKAN PEM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lakuan Ba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cerd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cerg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i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tanggung jaw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Ak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rties MT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erwib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33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10 ASAS KEPIMPI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95280"/>
            <a:ext cx="7772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Mempunyai bakat semulaj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Bakat perlu dipupuk dan diperkembang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Sedar tanggungjawa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Al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di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Kepada Orang yang dip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75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75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75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75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75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295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Pemimpin perlu memberi khidmat bakti, tenaga dan buah fikiran untuk kesejahteraan orang lain, bukan sekadar untuk berbangga dengan kedudukan, pangkat dan nam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762120"/>
            <a:ext cx="73911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mimpin mesti bijaks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QuantasBroadLigh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Percaya pada diri sendi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fikir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ucapk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QuantasBroadLight"/>
              </a:rPr>
              <a:t>Yakin dengan apa yang dilakuk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9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762120"/>
            <a:ext cx="74674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QuantasBroadLight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QuantasBroadLight"/>
              </a:rPr>
              <a:t>Pemimpin mesti </a:t>
            </a: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berdisiplin, boleh diteladani dan sentiasa menjadi model serta ikut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QuantasBroadLight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QuantasBroadLight"/>
              </a:rPr>
              <a:t>Semangat pengabdian dan kesetiaan tinggi terhadap organisas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75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9:59:41Z</dcterms:created>
  <dc:creator>Ashari Khat</dc:creator>
  <dc:description/>
  <dc:language>en-US</dc:language>
  <cp:lastModifiedBy>A satisfied Microsoft Office User</cp:lastModifiedBy>
  <dcterms:modified xsi:type="dcterms:W3CDTF">2005-10-12T06:48:50Z</dcterms:modified>
  <cp:revision>11</cp:revision>
  <dc:subject/>
  <dc:title>PowerPoint Presentation</dc:title>
</cp:coreProperties>
</file>