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568-F177-4142-A93C-D9E09283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E28-393D-4D7E-AD8E-4A3954B1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64F-D4C6-4A56-B57B-FFA083B0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DC0-1114-4DF7-8B10-D96031E7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BDF8-3650-48AB-8015-3B1D146C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B136-F408-4CCB-BBFA-1F39D789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1945-D12F-42B7-9EFD-E93AF1C7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26EE-6634-4F50-A188-639D6E43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7202-82FB-4455-A457-D5F08043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8E4B-C1E6-4304-9847-513252C1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E593-8F73-447F-B713-F0280898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585-0636-43A4-A2D4-794D0453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9053-CDF8-4E95-B2D1-8644FCA2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F574-8D6D-40F7-961F-7076A624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0C53-B0E6-46E4-A43D-06F3CCEE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FBEA-61D2-4B9B-8D25-BE9F36F7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3776-B6BB-4C16-A41D-CD7155A9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6945-0B70-49B8-AB8F-72D5D30B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FDC-7E55-470F-A83B-EE22E824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5B01-B036-4C75-A755-DF530821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262-CBE5-4E46-A11E-2536C590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DAC-39AF-49E5-8497-4403E09A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98F-D86F-4555-8EB0-B5AC36CB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4F5-A1BF-4A6B-AABC-A44E0697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96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860e0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860e0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860e0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96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DE05-79E3-43B8-B657-4F02F73C1E7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96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860e0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860e0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860e0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96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DA66-B232-4C26-AF72-F163843A89B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349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Tahoma"/>
              </a:rPr>
              <a:t>Als u zulke collega‘s heeft, heeft u geen vrienden nodig....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0000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4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050920" y="1484280"/>
            <a:ext cx="5042160" cy="388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16000" y="333360"/>
            <a:ext cx="7201080" cy="540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">
              <a:alphaModFix amt="48000"/>
            </a:blip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09:55:18Z</dcterms:created>
  <dc:creator>fu/ca</dc:creator>
  <dc:description/>
  <dc:language>en-US</dc:language>
  <cp:lastModifiedBy>Smets</cp:lastModifiedBy>
  <dcterms:modified xsi:type="dcterms:W3CDTF">2010-03-26T05:39:00Z</dcterms:modified>
  <cp:revision>4</cp:revision>
  <dc:subject/>
  <dc:title>Hast du solche Kollegen</dc:title>
</cp:coreProperties>
</file>