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95B3-6CE9-4101-8CBF-C184D21E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7907-7270-4FFD-B46B-F201A19D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1C66-7C66-4827-B34D-2CD8980FE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E908-0EA4-483F-98FE-405155E0C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2340-90FE-43D2-A604-8F8D40E0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608E-701D-4DA8-AB6C-D6A8CA68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5545-BB43-48DE-AA41-07AF1896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4C3A-B6BD-4C3E-82D6-50AB9694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124F-9163-4E2B-A98B-FD27F890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F651-179E-49B5-A514-69C4A225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CE21-9722-4A92-9255-2F7A2B59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44D9-0231-4498-9552-A8441047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356642-A265-48C9-85A2-6B5577A68C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0EF8BD-3F27-438A-9D44-07A7D00CB003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image" Target="../media/image2.png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" Target="slide1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1" name="Picture 14" descr=""/>
          <p:cNvPicPr/>
          <p:nvPr/>
        </p:nvPicPr>
        <p:blipFill>
          <a:blip r:embed="rId9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5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21:41:51Z</dcterms:created>
  <dc:creator>최봉수</dc:creator>
  <dc:description/>
  <dc:language>en-US</dc:language>
  <cp:lastModifiedBy>군만두 맛있다</cp:lastModifiedBy>
  <dcterms:modified xsi:type="dcterms:W3CDTF">2023-07-12T05:55:06Z</dcterms:modified>
  <cp:revision>3</cp:revision>
  <dc:subject/>
  <dc:title>슬라이드 1</dc:title>
</cp:coreProperties>
</file>