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2D6-755D-4638-BC70-8F1B0FC5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5B7-51D9-4612-BFBA-027ADA54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24A-9CDF-44FF-96E8-8549EF4C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D3E-EBAC-4350-B428-3C90CFD5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E95-9A51-4E0C-A85D-DB614DBD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F47-40AD-41C9-B7F5-5F2719DA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079-AEB7-4B93-9F56-980D7AE8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B53-2599-479C-958C-2F2D9DB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0D6-2422-4A9D-94B0-E4235ABE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53D-DF3E-4809-AFFB-5A6FAD6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4B1-A0CD-4767-9B3F-E9E8BD6D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CAE-0E31-4D77-A2ED-31E762C7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2661D-DD58-46C0-8861-59ADB0750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1CD1E-99A8-492F-845F-62FBA861D7F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14" descr=""/>
          <p:cNvPicPr/>
          <p:nvPr/>
        </p:nvPicPr>
        <p:blipFill>
          <a:blip r:embed="rId9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41:51Z</dcterms:created>
  <dc:creator>최봉수</dc:creator>
  <dc:description/>
  <dc:language>en-US</dc:language>
  <cp:lastModifiedBy>군만두 맛있다</cp:lastModifiedBy>
  <dcterms:modified xsi:type="dcterms:W3CDTF">2023-07-12T05:55:06Z</dcterms:modified>
  <cp:revision>3</cp:revision>
  <dc:subject/>
  <dc:title>슬라이드 1</dc:title>
</cp:coreProperties>
</file>