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6B4-D08B-45AB-BE48-978AA5C9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668-83D4-47C6-B0A9-2014FE6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F23-1D02-4F3F-A5B0-DC7EE7E4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0DB-677A-42C4-9990-C1B68F31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D91-8D15-4AD9-8187-AE7A963D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34A-C6A7-44AD-B4D7-5CDB51A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6EF-2B02-4B1B-A0E3-B3457D15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50E-FF72-47D0-9DCE-9177A304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AE9-9733-40A0-A699-32DE6048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40F-8A26-4331-B5B5-54DAFEC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B78-9D23-4D6F-8F65-80C48D4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8F5-A47F-489B-9E3E-FD44E1B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3903-FB27-412F-A21F-699727A784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48:41Z</dcterms:modified>
  <cp:revision>24</cp:revision>
  <dc:subject/>
  <dc:title>슬라이드 1</dc:title>
</cp:coreProperties>
</file>