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BC2-9C19-4EB7-81D5-AD6864C6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822-F657-4411-A0F3-DC1737E2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A51-ED2E-48E1-B042-962228D8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D87-C118-40AC-BBC2-80A2F74D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17C-BF5F-4E6B-9140-2E06281A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5BD-219B-407B-87CE-0AE19B19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4E6-CC6A-46E1-954E-8214CA75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3D2-B496-4F44-A5B9-D7E6DA79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7FF-ADDF-4C04-A321-1822CD7A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4BB-9A69-4C6F-88C2-B00A784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635-A3D4-46DF-A52C-B7CEC5B7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6E7-6E23-4D2F-AAE9-AE8B0FDA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05EF-4719-4320-89CF-18A7FE35C66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8:48:41Z</dcterms:modified>
  <cp:revision>24</cp:revision>
  <dc:subject/>
  <dc:title>슬라이드 1</dc:title>
</cp:coreProperties>
</file>