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D6EBA-A5D6-4505-88A8-6215D528D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7A929-B39B-47AD-9C26-E5D187B91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76A6A-25FE-43A2-AB71-BD873D1BA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56BDA-861C-43E1-88D1-009B194DE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46C23-6E02-4129-8E08-D131A3671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C21AB-7E76-4C1C-808D-95937F6E9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BACF7-CECD-419E-9F31-EF92CA3DB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202F4-833D-410F-B2A0-1C73F7727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DBC55-707B-4C0D-A722-7C4DC380C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2E56F-48DF-449C-8F86-86AD9DCB8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612AD-F8FC-4795-8BF4-32A1D5FDB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5A682-93E3-4E76-A3B5-45ED084A3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9A37-1BE0-4431-A19F-00B4E3C011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886200" y="1066680"/>
            <a:ext cx="5029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hiller"/>
              </a:rPr>
              <a:t>PERTEMUAN  2</a:t>
            </a:r>
            <a:endParaRPr b="0" lang="en-US" sz="4800" spc="-1" strike="noStrike">
              <a:solidFill>
                <a:srgbClr val="000000"/>
              </a:solidFill>
              <a:latin typeface="Arial"/>
            </a:endParaRPr>
          </a:p>
        </p:txBody>
      </p:sp>
      <p:sp>
        <p:nvSpPr>
          <p:cNvPr id="42" name="Text Box 5"/>
          <p:cNvSpPr/>
          <p:nvPr/>
        </p:nvSpPr>
        <p:spPr>
          <a:xfrm>
            <a:off x="380880" y="1752480"/>
            <a:ext cx="8153640" cy="3076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000" spc="-1" strike="noStrike">
                <a:solidFill>
                  <a:srgbClr val="ff3300"/>
                </a:solidFill>
                <a:latin typeface="Bernard MT Condensed"/>
              </a:rPr>
              <a:t>MODELING </a:t>
            </a:r>
            <a:r>
              <a:rPr b="1"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WordArt 13"/>
          <p:cNvSpPr txBox="1"/>
          <p:nvPr/>
        </p:nvSpPr>
        <p:spPr>
          <a:xfrm>
            <a:off x="1523880" y="3543480"/>
            <a:ext cx="5943600" cy="1180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WEB APLICATION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 calcmode="lin" valueType="num" by="(-#ppt_w*2)">
                                      <p:cBhvr additive="repl">
                                        <p:cTn id="7" dur="500" autoRev="1" fill="hold">
                                          <p:stCondLst>
                                            <p:cond delay="0"/>
                                          </p:stCondLst>
                                        </p:cTn>
                                        <p:tgtEl>
                                          <p:spTgt spid="41"/>
                                        </p:tgtEl>
                                        <p:attrNameLst>
                                          <p:attrName>ppt_w</p:attrName>
                                        </p:attrNameLst>
                                      </p:cBhvr>
                                    </p:anim>
                                    <p:anim calcmode="lin" valueType="num" by="(#ppt_w*0.50)">
                                      <p:cBhvr additive="repl">
                                        <p:cTn id="8" dur="500" autoRev="1" fill="hold">
                                          <p:stCondLst>
                                            <p:cond delay="0"/>
                                          </p:stCondLst>
                                        </p:cTn>
                                        <p:tgtEl>
                                          <p:spTgt spid="41"/>
                                        </p:tgtEl>
                                        <p:attrNameLst>
                                          <p:attrName>ppt_x</p:attrName>
                                        </p:attrNameLst>
                                      </p:cBhvr>
                                    </p:anim>
                                    <p:anim calcmode="lin" valueType="num" from="(-#ppt_h/2)" to="(#ppt_y)">
                                      <p:cBhvr additive="repl">
                                        <p:cTn id="9" dur="1000" fill="hold">
                                          <p:stCondLst>
                                            <p:cond delay="0"/>
                                          </p:stCondLst>
                                        </p:cTn>
                                        <p:tgtEl>
                                          <p:spTgt spid="41"/>
                                        </p:tgtEl>
                                        <p:attrNameLst>
                                          <p:attrName>ppt_y</p:attrName>
                                        </p:attrNameLst>
                                      </p:cBhvr>
                                    </p:anim>
                                    <p:animRot by="21600000">
                                      <p:cBhvr>
                                        <p:cTn id="10" dur="1000" fill="hold">
                                          <p:stCondLst>
                                            <p:cond delay="0"/>
                                          </p:stCondLst>
                                        </p:cTn>
                                        <p:tgtEl>
                                          <p:spTgt spid="41"/>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1">
                                  <p:stCondLst>
                                    <p:cond delay="0"/>
                                  </p:stCondLst>
                                  <p:iterate type="lt">
                                    <p:tmAbs val="50"/>
                                  </p:iterate>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1000" fill="hold"/>
                                        <p:tgtEl>
                                          <p:spTgt spid="42"/>
                                        </p:tgtEl>
                                        <p:attrNameLst>
                                          <p:attrName>ppt_w</p:attrName>
                                        </p:attrNameLst>
                                      </p:cBhvr>
                                      <p:tavLst>
                                        <p:tav tm="0">
                                          <p:val>
                                            <p:fltVal val="0"/>
                                          </p:val>
                                        </p:tav>
                                        <p:tav tm="100000">
                                          <p:val>
                                            <p:strVal val="#ppt_w"/>
                                          </p:val>
                                        </p:tav>
                                      </p:tavLst>
                                    </p:anim>
                                    <p:anim calcmode="lin" valueType="num">
                                      <p:cBhvr additive="repl">
                                        <p:cTn id="16" dur="1000" fill="hold"/>
                                        <p:tgtEl>
                                          <p:spTgt spid="42"/>
                                        </p:tgtEl>
                                        <p:attrNameLst>
                                          <p:attrName>ppt_h</p:attrName>
                                        </p:attrNameLst>
                                      </p:cBhvr>
                                      <p:tavLst>
                                        <p:tav tm="0">
                                          <p:val>
                                            <p:fltVal val="0"/>
                                          </p:val>
                                        </p:tav>
                                        <p:tav tm="100000">
                                          <p:val>
                                            <p:strVal val="#ppt_h"/>
                                          </p:val>
                                        </p:tav>
                                      </p:tavLst>
                                    </p:anim>
                                    <p:anim calcmode="lin" valueType="num">
                                      <p:cBhvr additive="repl">
                                        <p:cTn id="17" dur="1000" fill="hold"/>
                                        <p:tgtEl>
                                          <p:spTgt spid="42"/>
                                        </p:tgtEl>
                                        <p:attrNameLst>
                                          <p:attrName>r</p:attrName>
                                        </p:attrNameLst>
                                      </p:cBhvr>
                                      <p:tavLst>
                                        <p:tav tm="0">
                                          <p:val>
                                            <p:strVal val="90"/>
                                          </p:val>
                                        </p:tav>
                                        <p:tav tm="100000">
                                          <p:val>
                                            <p:strVal val="0"/>
                                          </p:val>
                                        </p:tav>
                                      </p:tavLst>
                                    </p:anim>
                                    <p:animEffect filter="fade" transition="in">
                                      <p:cBhvr additive="repl">
                                        <p:cTn id="18"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228600" y="1038240"/>
            <a:ext cx="8915400" cy="55803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VisualWADE</a:t>
            </a: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lat VisualWADE (http://www.visualwade.com)  didasarkan pada metode OO-H. Alat ini mendukung pemodelan dan aplikasi generasi  otomatis berbasis pada XML, ASP, JSP, dan PHP.</a:t>
            </a: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VisualWADE menambah model UML dengan dua model tambahan: </a:t>
            </a: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1. Navigasi adalah digunakan untuk memodelkan aspek hypertext dari sebuah aplikasi Web.</a:t>
            </a: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2. Presentasi adalah mewakili interaksi elemen antarmuka pengguna yang berkaitan dengan struktur dan perilaku menggunakan struktur template.</a:t>
            </a: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228600" y="1038240"/>
            <a:ext cx="8915400" cy="55803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OpenUWE</a:t>
            </a: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OpenUWE (http://www.pst.ifi.lmu.de/projekte/uwe) adalah sebuah lingkungan pengembangan untuk desain dan generasi aplikasi Web menggunakan metodologi UWE.</a:t>
            </a: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Fitur utama dari suite ini adalah arsitektur terbuka berdasarkan standar yang ditetapkan.</a:t>
            </a: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alam versi saat ini (masih dalam pengembangan), </a:t>
            </a:r>
            <a:br>
              <a:rPr sz="2400"/>
            </a:br>
            <a:r>
              <a:rPr b="0" lang="id-ID" sz="2400" spc="-1" strike="noStrike">
                <a:solidFill>
                  <a:srgbClr val="000000"/>
                </a:solidFill>
                <a:latin typeface="Arial"/>
              </a:rPr>
              <a:t>ini termasuk lingkungan pengembangan alat kasus ArgoUWE dan UWEXML kerangka kerja, yang terdiri dari pemeriksaan konsistensi model, editor tata letak, dan generator kode untuk </a:t>
            </a:r>
            <a:br>
              <a:rPr sz="2400"/>
            </a:br>
            <a:r>
              <a:rPr b="0" lang="id-ID" sz="2400" spc="-1" strike="noStrike">
                <a:solidFill>
                  <a:srgbClr val="000000"/>
                </a:solidFill>
                <a:latin typeface="Arial"/>
              </a:rPr>
              <a:t>Publishing XML Cocoon Framework dan Java Server Pages.</a:t>
            </a: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5"/>
          <p:cNvSpPr/>
          <p:nvPr/>
        </p:nvSpPr>
        <p:spPr>
          <a:xfrm>
            <a:off x="76320" y="1066680"/>
            <a:ext cx="8915400" cy="81406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WEB  APLICATION  ARCHITECTURE</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da beberapa pengertian menyangkut arsitektur:</a:t>
            </a: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rsitektur menjelaskan struktur, arsitektur dari </a:t>
            </a:r>
            <a:br>
              <a:rPr sz="2400"/>
            </a:br>
            <a:r>
              <a:rPr b="0" lang="id-ID" sz="2400" spc="-1" strike="noStrike">
                <a:solidFill>
                  <a:srgbClr val="000000"/>
                </a:solidFill>
                <a:latin typeface="Arial"/>
              </a:rPr>
              <a:t>sistem perangkat lunak terdiri dari strukturnya, dekomposisi ke dalam komponen, dan hubungan antarmuka.</a:t>
            </a: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rsitektur membentuk transisi dari analisis terhadap implementasi. </a:t>
            </a: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rchitecture dilihat dari sudut pandang yang berbeda, yaitu</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a. Pandangan konseptual, yang mengidentifikasi entitas dari </a:t>
            </a:r>
            <a:br>
              <a:rPr sz="2400"/>
            </a:br>
            <a:r>
              <a:rPr b="0" lang="id-ID" sz="2400" spc="-1" strike="noStrike">
                <a:solidFill>
                  <a:srgbClr val="000000"/>
                </a:solidFill>
                <a:latin typeface="Arial"/>
              </a:rPr>
              <a:t>domain aplikasidan hubunga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b. Pandangan runtime, yang menggambarkan komponen di </a:t>
            </a:r>
            <a:br>
              <a:rPr sz="2400"/>
            </a:br>
            <a:r>
              <a:rPr b="0" lang="id-ID" sz="2400" spc="-1" strike="noStrike">
                <a:solidFill>
                  <a:srgbClr val="000000"/>
                </a:solidFill>
                <a:latin typeface="Arial"/>
              </a:rPr>
              <a:t>runtime system. pandangan proses, peta proses pada sistem runtim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5"/>
          <p:cNvSpPr/>
          <p:nvPr/>
        </p:nvSpPr>
        <p:spPr>
          <a:xfrm>
            <a:off x="76320" y="1336680"/>
            <a:ext cx="8915400" cy="70434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c. Peta proses pada sistem runtime, melihat aspek seperti </a:t>
            </a:r>
            <a:r>
              <a:rPr b="0" lang="id-ID" sz="2400" spc="-1" strike="noStrike">
                <a:solidFill>
                  <a:srgbClr val="000000"/>
                </a:solidFill>
                <a:latin typeface="Arial"/>
              </a:rPr>
              <a:t>	</a:t>
            </a:r>
            <a:r>
              <a:rPr b="0" lang="id-ID" sz="2400" spc="-1" strike="noStrike">
                <a:solidFill>
                  <a:srgbClr val="000000"/>
                </a:solidFill>
                <a:latin typeface="Arial"/>
              </a:rPr>
              <a:t>sinkronisasi dan concurrenc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d. Pandangan implementasi, yang menggambarkan artefak perangkat lunak sistem.</a:t>
            </a:r>
            <a:endParaRPr b="0" lang="en-US" sz="24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rsitektur membuat sistem dimengerti.</a:t>
            </a:r>
            <a:endParaRPr b="0" lang="en-US" sz="24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rsitektur merupakan kerangka untuk sistem yang fleksibel.</a:t>
            </a:r>
            <a:endParaRPr b="0" lang="en-US" sz="24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Developing Architecture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ola</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Menjelaskan permasalahan desain berulang yang timbul dalam konteks desain yang spesifik.</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5"/>
          <p:cNvSpPr/>
          <p:nvPr/>
        </p:nvSpPr>
        <p:spPr>
          <a:xfrm>
            <a:off x="228600" y="1038240"/>
            <a:ext cx="89154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uschmann et al. (1996) mengidentifikasi pola pada tiga tingkat abstraksi yang berbeda: </a:t>
            </a:r>
            <a:br>
              <a:rPr sz="2400"/>
            </a:br>
            <a:r>
              <a:rPr b="0" lang="id-ID" sz="2400" spc="-1" strike="noStrike">
                <a:solidFill>
                  <a:srgbClr val="000000"/>
                </a:solidFill>
                <a:latin typeface="Arial"/>
              </a:rPr>
              <a:t>a. Arsitektur pol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Pola-pola peta mekanisme penataan mendasar untuk perangkat lunak sistem yang menggambarkan subsistem arsitektur, tanggung jawab, hubungan yang saling mempengaruhi. Salah satu contoh adalah jenis pola Model-View-Controller (MVC)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 Desain pol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Pola-pola ini menggambarkan struktur, hubungan yang saling mempengaruhi antar komponen untuk memecahkan masalah desain dalam konteks tertent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5"/>
          <p:cNvSpPr/>
          <p:nvPr/>
        </p:nvSpPr>
        <p:spPr>
          <a:xfrm>
            <a:off x="228600" y="1038240"/>
            <a:ext cx="8915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 Idiom</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Mmenjelaskan pola-pola yang mengacu pada implementasi spesifik dalam pemrograman suatu bahasa, misalnya idiom Counted-Pointer untuk manajemen penyimpanan di C +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2. Framework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Sebagai cetak biru untuk arsitektur dasar dan fungsi-fungsi dasar untuk suatu bidang tertentu dari aplikas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Frameworks juga memiliki kekurangan, yaitu tinggginya tingkat pelatihan, kurangnya standar untuk integrasi kerangka kerja yang berbeda, dan ketergantungan yang dihasilkan pada produse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5"/>
          <p:cNvSpPr/>
          <p:nvPr/>
        </p:nvSpPr>
        <p:spPr>
          <a:xfrm>
            <a:off x="228600" y="1038240"/>
            <a:ext cx="8915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 Idiom</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Mmenjelaskan pola-pola yang mengacu pada implementasi spesifik dalam pemrograman suatu bahasa, misalnya idiom Counted-Pointer untuk manajemen penyimpanan di C +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2. Framework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Sebagai cetak biru untuk arsitektur dasar dan fungsi-fungsi dasar untuk suatu bidang tertentu dari aplikas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Frameworks juga memiliki kekurangan, yaitu tinggginya tingkat pelatihan, kurangnya standar untuk integrasi kerangka kerja yang berbeda, dan ketergantungan yang dihasilkan pada produse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5"/>
          <p:cNvSpPr/>
          <p:nvPr/>
        </p:nvSpPr>
        <p:spPr>
          <a:xfrm>
            <a:off x="228600" y="1038240"/>
            <a:ext cx="8915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3. Pengkategorian Arsitektur</a:t>
            </a:r>
            <a:endParaRPr b="0" lang="en-US" sz="2400" spc="-1" strike="noStrike">
              <a:solidFill>
                <a:srgbClr val="000000"/>
              </a:solidFill>
              <a:latin typeface="Arial"/>
            </a:endParaRPr>
          </a:p>
          <a:p>
            <a:pPr algn="just">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nastopoulos dan Romberg(2001) serta Bongio dkk (2003) menggambarkan arsitektur untuk lingkungan aplikasi Web, mengambil aspek layering dari arsitektur, atau dukungan data yang berbeda dan format data - data aspek arsitektur , yaitu:</a:t>
            </a:r>
            <a:endParaRPr b="0" lang="en-US" sz="2400" spc="-1" strike="noStrike">
              <a:solidFill>
                <a:srgbClr val="000000"/>
              </a:solidFill>
              <a:latin typeface="Arial"/>
            </a:endParaRPr>
          </a:p>
          <a:p>
            <a:pPr algn="just">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 Aspek Layering,layering berarti bahwa sistem perangkat </a:t>
            </a:r>
            <a:r>
              <a:rPr b="0" lang="en-US" sz="2400" spc="-1" strike="noStrike">
                <a:solidFill>
                  <a:srgbClr val="000000"/>
                </a:solidFill>
                <a:latin typeface="Arial"/>
              </a:rPr>
              <a:t>	</a:t>
            </a:r>
            <a:r>
              <a:rPr b="0" lang="id-ID" sz="2400" spc="-1" strike="noStrike">
                <a:solidFill>
                  <a:srgbClr val="000000"/>
                </a:solidFill>
                <a:latin typeface="Arial"/>
              </a:rPr>
              <a:t>lunak yang terstruktur dalam beberapa tingkatan.</a:t>
            </a:r>
            <a:endParaRPr b="0" lang="en-US" sz="2400" spc="-1" strike="noStrike">
              <a:solidFill>
                <a:srgbClr val="000000"/>
              </a:solidFill>
              <a:latin typeface="Arial"/>
            </a:endParaRPr>
          </a:p>
          <a:p>
            <a:pPr algn="just">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  Aspek Data, data dapat terstruktur atau non-terstruktur. data terstruktur mengikuti didefinisikan skema seperti tabel dalam database relasional atau struktur XML dalam dokumen. Non-data terstruktur multimedia, misalnya, gambar, audio, dan video, yang biasanya tidak mengikuti skema secara eksplisit.</a:t>
            </a:r>
            <a:endParaRPr b="0" lang="en-US" sz="2400" spc="-1" strike="noStrike">
              <a:solidFill>
                <a:srgbClr val="000000"/>
              </a:solidFill>
              <a:latin typeface="Arial"/>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5"/>
          <p:cNvSpPr/>
          <p:nvPr/>
        </p:nvSpPr>
        <p:spPr>
          <a:xfrm>
            <a:off x="228600" y="1038240"/>
            <a:ext cx="89154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eningkatan sistem perangkat lunak terdistribusi telah menyebabkan perkembangan arsitektur dan menangani infrastruktur distribusi data dan pesan: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istributed Objsect Middleware (DOM): Jenis infrastruktur memungkinkan untuk mengakses remote objek secara transparan. Hal ini didasarkan pada mekanisme Remote Procedure Call (RPC). Contoh Microsoft DCOM (Distributed Component Object Model), atau EJB (Enterprise Java Beans) oleh Sun Microsystems.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Virtual Shared Memory (VSM): Model VSM memungkinkan akses terdistribusi proses data yang umum. Proses sendiri mengakses memori bersama. Contoh Corso (Http://www.tecco.at) dan Equip(http://www.crg.cs.nott.ac.uk). </a:t>
            </a:r>
            <a:br>
              <a:rPr sz="2400"/>
            </a:br>
            <a:br>
              <a:rPr sz="2400"/>
            </a:b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5"/>
          <p:cNvSpPr/>
          <p:nvPr/>
        </p:nvSpPr>
        <p:spPr>
          <a:xfrm>
            <a:off x="228600" y="1201680"/>
            <a:ext cx="8915400" cy="4848840"/>
          </a:xfrm>
          <a:prstGeom prst="rect">
            <a:avLst/>
          </a:prstGeom>
          <a:noFill/>
          <a:ln w="0">
            <a:noFill/>
          </a:ln>
        </p:spPr>
        <p:style>
          <a:lnRef idx="0"/>
          <a:fillRef idx="0"/>
          <a:effectRef idx="0"/>
          <a:fontRef idx="minor"/>
        </p:style>
        <p:txBody>
          <a:bodyPr lIns="90000" rIns="90000" tIns="46800" bIns="46800" anchor="t">
            <a:spAutoFit/>
          </a:bodyPr>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 Message Berorientasi Middleware (MOM): MOM sistem menawarkan fungsionalitas untuk asynchronous </a:t>
            </a:r>
            <a:br>
              <a:rPr sz="2400"/>
            </a:br>
            <a:r>
              <a:rPr b="0" lang="id-ID" sz="2400" spc="-1" strike="noStrike">
                <a:solidFill>
                  <a:srgbClr val="000000"/>
                </a:solidFill>
                <a:latin typeface="Arial"/>
              </a:rPr>
              <a:t>transmisi pesan. MOM memastikan bahwa pesan yang disampaikan tetap. Contoh Sun JMS (Java Messaging Service) dan Microsoft MSMQ (Microsoft Message Queue).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 Peer to Peer (P2P): untuk mempersingkat komunikasi langsung antara dua perangkat dalam suatu sistem tanpa menggunakan server, yaitu, mereka berkomunikasi melalui sambungan point-to-point. Contoh JXTA (http://www.jxta.org) dan Xmiddle (http://xmiddle.sourceforge.net/).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e. Service Oriented Middleware (SOM): SOM meningkatkan sistem DOM, contoh SOM sistem Jini Sun (Http://www.sun.com/software/jini/). </a:t>
            </a:r>
            <a:endParaRPr b="0" lang="en-US" sz="2400" spc="-1" strike="noStrike">
              <a:solidFill>
                <a:srgbClr val="000000"/>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80520" y="1219320"/>
            <a:ext cx="84582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Spesifikasi Model </a:t>
            </a:r>
            <a:r>
              <a:rPr b="1" lang="id-ID" sz="2800" spc="-1" strike="noStrike">
                <a:solidFill>
                  <a:srgbClr val="000000"/>
                </a:solidFill>
                <a:latin typeface="Arial"/>
              </a:rPr>
              <a:t>Web Applications </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rPr>
              <a:t>LEV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rPr>
              <a:t>	</a:t>
            </a:r>
            <a:r>
              <a:rPr b="1" lang="id-ID" sz="2800" spc="-1" strike="noStrike">
                <a:solidFill>
                  <a:srgbClr val="000000"/>
                </a:solidFill>
                <a:latin typeface="Arial"/>
              </a:rPr>
              <a:t>Di</a:t>
            </a:r>
            <a:r>
              <a:rPr b="0" lang="id-ID" sz="2800" spc="-1" strike="noStrike">
                <a:solidFill>
                  <a:srgbClr val="000000"/>
                </a:solidFill>
                <a:latin typeface="Arial"/>
              </a:rPr>
              <a:t>bedakan tiga tingkat yaitu Content, hypertext, dan presen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Picture 4" descr=""/>
          <p:cNvPicPr/>
          <p:nvPr/>
        </p:nvPicPr>
        <p:blipFill>
          <a:blip r:embed="rId1"/>
          <a:stretch/>
        </p:blipFill>
        <p:spPr>
          <a:xfrm>
            <a:off x="1533600" y="3200400"/>
            <a:ext cx="6010200" cy="2819520"/>
          </a:xfrm>
          <a:prstGeom prst="rect">
            <a:avLst/>
          </a:prstGeom>
          <a:ln w="0">
            <a:noFill/>
          </a:ln>
        </p:spPr>
      </p:pic>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5"/>
          <p:cNvSpPr/>
          <p:nvPr/>
        </p:nvSpPr>
        <p:spPr>
          <a:xfrm>
            <a:off x="228600" y="914400"/>
            <a:ext cx="89154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omponen Arsitektur Aplikasi Web Generik</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2" descr=""/>
          <p:cNvPicPr/>
          <p:nvPr/>
        </p:nvPicPr>
        <p:blipFill>
          <a:blip r:embed="rId1"/>
          <a:stretch/>
        </p:blipFill>
        <p:spPr>
          <a:xfrm>
            <a:off x="609480" y="1371600"/>
            <a:ext cx="8001000" cy="5181480"/>
          </a:xfrm>
          <a:prstGeom prst="rect">
            <a:avLst/>
          </a:prstGeom>
          <a:ln w="0">
            <a:noFill/>
          </a:ln>
        </p:spPr>
      </p:pic>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5"/>
          <p:cNvSpPr/>
          <p:nvPr/>
        </p:nvSpPr>
        <p:spPr>
          <a:xfrm>
            <a:off x="0" y="914400"/>
            <a:ext cx="91440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Web Aplikasi</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 Hypertext dan Hypermedi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Hypertext dipahami sebagai organisasi dari interkoneksi unit informasi tunggal dimana hubungan antara unit-unit ini dapat dinyatakan oleh link dengan inti konsep dasarnya World Wide Web.</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Hypermedia umumnya dipandang sebagai cara untuk memperluas prinsip hypertext untuk objek multimedia.</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 Komunikasi Client/Server</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a. SMTP (Simple Mail Transfer Protocol)</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Memungkinkan untuk mengirim dan menerima </a:t>
            </a:r>
            <a:br>
              <a:rPr sz="2400"/>
            </a:br>
            <a:r>
              <a:rPr b="0" lang="id-ID" sz="2400" spc="-1" strike="noStrike">
                <a:solidFill>
                  <a:srgbClr val="000000"/>
                </a:solidFill>
                <a:latin typeface="Arial"/>
              </a:rPr>
              <a:t>e-mail juga digunakan sebagai protokol transport  pesan asynchronous pertukaran berdasarkan SOAP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Rectangle 5"/>
          <p:cNvSpPr/>
          <p:nvPr/>
        </p:nvSpPr>
        <p:spPr>
          <a:xfrm>
            <a:off x="0" y="914400"/>
            <a:ext cx="9144000" cy="5946120"/>
          </a:xfrm>
          <a:prstGeom prst="rect">
            <a:avLst/>
          </a:prstGeom>
          <a:noFill/>
          <a:ln w="0">
            <a:noFill/>
          </a:ln>
        </p:spPr>
        <p:style>
          <a:lnRef idx="0"/>
          <a:fillRef idx="0"/>
          <a:effectRef idx="0"/>
          <a:fontRef idx="minor"/>
        </p:style>
        <p:txBody>
          <a:bodyPr lIns="90000" rIns="90000" tIns="46800" bIns="46800" anchor="t">
            <a:spAutoFit/>
          </a:bodyPr>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b. RTSP (Real Time Streaming Protocol)</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Merupakan standar dipublikasikan oleh Internet Engineering Task Force (IETF), dan dirancang untuk mendukung pengiriman data multimedia dalam kondisi real-tim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c. HTTP  (HyperText Transfer Protocol)</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Protokol berbasis teks, mengendalikan bagaimana sumber daya dokumen atau gambar diakses yang menggunakan konsep Uniform Resource Identifier (URI).</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 Bagian Pelacakan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a. Penulisan Ulang URL</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Mekanisme yang mentransmisikan data sesi-relevan sebagai parameter dalam URL, data yang dikirimkan kemudian dapat digunakan untuk merekonstruksi sesi pada server.</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5"/>
          <p:cNvSpPr/>
          <p:nvPr/>
        </p:nvSpPr>
        <p:spPr>
          <a:xfrm>
            <a:off x="0" y="914400"/>
            <a:ext cx="9144000" cy="5214600"/>
          </a:xfrm>
          <a:prstGeom prst="rect">
            <a:avLst/>
          </a:prstGeom>
          <a:noFill/>
          <a:ln w="0">
            <a:noFill/>
          </a:ln>
        </p:spPr>
        <p:style>
          <a:lnRef idx="0"/>
          <a:fillRef idx="0"/>
          <a:effectRef idx="0"/>
          <a:fontRef idx="minor"/>
        </p:style>
        <p:txBody>
          <a:bodyPr lIns="90000" rIns="90000" tIns="46800" bIns="46800" anchor="t">
            <a:spAutoFit/>
          </a:bodyPr>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b. Cookie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Cookie adalah file teks kecil yang digunakan untuk menyimpan informasi server (misalnya, sebuah ID) yang diklasifikasikan sebagai "sesi" atau "permanen" cookies.</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ermanen, permanen tetap dikomputer client (disimpan di hard disk).</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si, hanya disimpan sampai situs yang kiri atau </a:t>
            </a:r>
            <a:br>
              <a:rPr sz="2400"/>
            </a:br>
            <a:r>
              <a:rPr b="0" lang="id-ID" sz="2400" spc="-1" strike="noStrike">
                <a:solidFill>
                  <a:srgbClr val="000000"/>
                </a:solidFill>
                <a:latin typeface="Arial"/>
              </a:rPr>
              <a:t>browser ditutup.</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 Penggunaan Skenario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Bagaimana mengkombinasikan cookies untuk menyimpan </a:t>
            </a:r>
            <a:br>
              <a:rPr sz="2400"/>
            </a:br>
            <a:r>
              <a:rPr b="0" lang="id-ID" sz="2400" spc="-1" strike="noStrike">
                <a:solidFill>
                  <a:srgbClr val="000000"/>
                </a:solidFill>
                <a:latin typeface="Arial"/>
              </a:rPr>
              <a:t>URL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0" y="914400"/>
            <a:ext cx="9144000" cy="5946120"/>
          </a:xfrm>
          <a:prstGeom prst="rect">
            <a:avLst/>
          </a:prstGeom>
          <a:noFill/>
          <a:ln w="0">
            <a:noFill/>
          </a:ln>
        </p:spPr>
        <p:style>
          <a:lnRef idx="0"/>
          <a:fillRef idx="0"/>
          <a:effectRef idx="0"/>
          <a:fontRef idx="minor"/>
        </p:style>
        <p:txBody>
          <a:bodyPr lIns="90000" rIns="90000" tIns="46800" bIns="46800" anchor="t">
            <a:spAutoFit/>
          </a:bodyPr>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 Teknologi Dokumen yang Spesifik </a:t>
            </a:r>
            <a:endParaRPr b="0" lang="en-US" sz="2400" spc="-1" strike="noStrike">
              <a:solidFill>
                <a:srgbClr val="000000"/>
              </a:solidFill>
              <a:latin typeface="Arial"/>
            </a:endParaRPr>
          </a:p>
          <a:p>
            <a:pPr marL="353880" indent="-353880"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TML - Hypertext Markup Languag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Sebuah aplikasi SGML, menggambarkan unsur-unsur yang </a:t>
            </a:r>
            <a:br>
              <a:rPr sz="2400"/>
            </a:br>
            <a:r>
              <a:rPr b="0" lang="id-ID" sz="2400" spc="-1" strike="noStrike">
                <a:solidFill>
                  <a:srgbClr val="000000"/>
                </a:solidFill>
                <a:latin typeface="Arial"/>
              </a:rPr>
              <a:t>dapat digunakan untuk menandai isi dokumen hypertext dan bagaimana unsur-unsur ini saling berhubungan (dalam </a:t>
            </a:r>
            <a:br>
              <a:rPr sz="2400"/>
            </a:br>
            <a:r>
              <a:rPr b="0" lang="id-ID" sz="2400" spc="-1" strike="noStrike">
                <a:solidFill>
                  <a:srgbClr val="000000"/>
                </a:solidFill>
                <a:latin typeface="Arial"/>
              </a:rPr>
              <a:t>Document Type Definition (DTD).</a:t>
            </a:r>
            <a:endParaRPr b="0" lang="en-US" sz="2400" spc="-1" strike="noStrike">
              <a:solidFill>
                <a:srgbClr val="000000"/>
              </a:solidFill>
              <a:latin typeface="Arial"/>
            </a:endParaRPr>
          </a:p>
          <a:p>
            <a:pPr marL="353880" indent="-353880" algn="just">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VG - Scalable Vector Graphics</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Memungkinkan menggambarkan grafik dua dimensi dalam XML.</a:t>
            </a:r>
            <a:endParaRPr b="0" lang="en-US" sz="2400" spc="-1" strike="noStrike">
              <a:solidFill>
                <a:srgbClr val="000000"/>
              </a:solidFill>
              <a:latin typeface="Arial"/>
            </a:endParaRPr>
          </a:p>
          <a:p>
            <a:pPr marL="353880" indent="-353880" algn="just">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MIL - Synchronized Multimedia Integration Languag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Dikembangkan oleh W3C untuk mewakili disinkronisasi presentasi multimedia.</a:t>
            </a:r>
            <a:endParaRPr b="0" lang="en-US" sz="2400" spc="-1" strike="noStrike">
              <a:solidFill>
                <a:srgbClr val="000000"/>
              </a:solidFill>
              <a:latin typeface="Arial"/>
            </a:endParaRPr>
          </a:p>
          <a:p>
            <a:pPr marL="353880" indent="-353880" algn="just">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XML - eXtensible Markup Languag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Untuk kemudahan pelaksanaan, dan untuk interoperabilitas dengan kedua SGML dan HTML .</a:t>
            </a:r>
            <a:r>
              <a:rPr b="0" lang="id-ID" sz="2400" spc="-1" strike="noStrike">
                <a:solidFill>
                  <a:srgbClr val="000000"/>
                </a:solidFill>
                <a:latin typeface="Arial"/>
              </a:rPr>
              <a:t>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5"/>
          <p:cNvSpPr/>
          <p:nvPr/>
        </p:nvSpPr>
        <p:spPr>
          <a:xfrm>
            <a:off x="0" y="914400"/>
            <a:ext cx="9144000" cy="5946120"/>
          </a:xfrm>
          <a:prstGeom prst="rect">
            <a:avLst/>
          </a:prstGeom>
          <a:noFill/>
          <a:ln w="0">
            <a:noFill/>
          </a:ln>
        </p:spPr>
        <p:style>
          <a:lnRef idx="0"/>
          <a:fillRef idx="0"/>
          <a:effectRef idx="0"/>
          <a:fontRef idx="minor"/>
        </p:style>
        <p:txBody>
          <a:bodyPr lIns="90000" rIns="90000" tIns="46800" bIns="46800" anchor="t">
            <a:spAutoFit/>
          </a:bodyPr>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 Teknologi Dokumen yang Spesifik </a:t>
            </a:r>
            <a:endParaRPr b="0" lang="en-US" sz="2400" spc="-1" strike="noStrike">
              <a:solidFill>
                <a:srgbClr val="000000"/>
              </a:solidFill>
              <a:latin typeface="Arial"/>
            </a:endParaRPr>
          </a:p>
          <a:p>
            <a:pPr marL="353880" indent="-353880"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TML - Hypertext Markup Languag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Sebuah aplikasi SGML, menggambarkan unsur-unsur yang </a:t>
            </a:r>
            <a:br>
              <a:rPr sz="2400"/>
            </a:br>
            <a:r>
              <a:rPr b="0" lang="id-ID" sz="2400" spc="-1" strike="noStrike">
                <a:solidFill>
                  <a:srgbClr val="000000"/>
                </a:solidFill>
                <a:latin typeface="Arial"/>
              </a:rPr>
              <a:t>dapat digunakan untuk menandai isi dokumen hypertext dan bagaimana unsur-unsur ini saling berhubungan (dalam </a:t>
            </a:r>
            <a:br>
              <a:rPr sz="2400"/>
            </a:br>
            <a:r>
              <a:rPr b="0" lang="id-ID" sz="2400" spc="-1" strike="noStrike">
                <a:solidFill>
                  <a:srgbClr val="000000"/>
                </a:solidFill>
                <a:latin typeface="Arial"/>
              </a:rPr>
              <a:t>Document Type Definition (DTD).</a:t>
            </a:r>
            <a:endParaRPr b="0" lang="en-US" sz="2400" spc="-1" strike="noStrike">
              <a:solidFill>
                <a:srgbClr val="000000"/>
              </a:solidFill>
              <a:latin typeface="Arial"/>
            </a:endParaRPr>
          </a:p>
          <a:p>
            <a:pPr marL="353880" indent="-353880" algn="just">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VG - Scalable Vector Graphics</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Memungkinkan menggambarkan grafik dua dimensi dalam XML.</a:t>
            </a:r>
            <a:endParaRPr b="0" lang="en-US" sz="2400" spc="-1" strike="noStrike">
              <a:solidFill>
                <a:srgbClr val="000000"/>
              </a:solidFill>
              <a:latin typeface="Arial"/>
            </a:endParaRPr>
          </a:p>
          <a:p>
            <a:pPr marL="353880" indent="-353880" algn="just">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MIL - Synchronized Multimedia Integration Languag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Dikembangkan oleh W3C untuk mewakili disinkronisasi presentasi multimedia.</a:t>
            </a:r>
            <a:endParaRPr b="0" lang="en-US" sz="2400" spc="-1" strike="noStrike">
              <a:solidFill>
                <a:srgbClr val="000000"/>
              </a:solidFill>
              <a:latin typeface="Arial"/>
            </a:endParaRPr>
          </a:p>
          <a:p>
            <a:pPr marL="353880" indent="-353880" algn="just">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XML - eXtensible Markup Languag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Untuk kemudahan pelaksanaan, dan untuk interoperabilitas dengan kedua SGML dan HTML .</a:t>
            </a:r>
            <a:r>
              <a:rPr b="0" lang="id-ID" sz="2400" spc="-1" strike="noStrike">
                <a:solidFill>
                  <a:srgbClr val="000000"/>
                </a:solidFill>
                <a:latin typeface="Arial"/>
              </a:rPr>
              <a:t>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
          <p:cNvSpPr/>
          <p:nvPr/>
        </p:nvSpPr>
        <p:spPr>
          <a:xfrm>
            <a:off x="228600" y="1066680"/>
            <a:ext cx="8686800" cy="372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id-ID" sz="2400" spc="-1" strike="noStrike">
                <a:solidFill>
                  <a:srgbClr val="000000"/>
                </a:solidFill>
                <a:latin typeface="Arial"/>
              </a:rPr>
              <a:t>2. ASPECTS</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ngikuti prinsip-prinsip berorientasi objek, struktur dan dimodelkan pada masing-masing tiga tingkat, yaitu pada konten, hypertext dan presentasi. </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levansi struktur dan sifat model tergantung pada jenis aplikasi Web. </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3. PHASES</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Urutan langkah-langkah pemodelan tergantung pada jenis aplikasi Web.</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endekatan informasi-driven, dimulai dengan pemodelan isi, atau pendekatan presentasi-driven, yaitu, dimulai dengan presentasi pemodelan aplikasi.</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228600" y="1380960"/>
            <a:ext cx="8686800" cy="37245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4. Customization</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ustomization mempertimbangkan konteks, misalnya, pengguna, karakteristik perangkat, atau pembatasan bandwidth, yang memungkinkan untuk beradaptasi dengan aplikasi Web. </a:t>
            </a:r>
            <a:endParaRPr b="0" lang="en-US" sz="24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a:off x="228600" y="803160"/>
            <a:ext cx="8915400" cy="594684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THODE dan TOOL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tode tersedia untuk pemodelan aplikasi Web yang biasanya didasarkan pada metode tradisional, seperti sebagai ER, atau mereka meningkatkan bahasa pemodelan berorientasi objek, misalnya, UML. </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tode Pemodelan mengikuti paradigma yang berbeda, tergantung pada asal mereka dan fokus:</a:t>
            </a:r>
            <a:endParaRPr b="0" lang="en-US" sz="2400" spc="-1" strike="noStrike">
              <a:solidFill>
                <a:srgbClr val="000000"/>
              </a:solidFill>
              <a:latin typeface="Arial"/>
            </a:endParaRPr>
          </a:p>
          <a:p>
            <a:pPr marL="236520" indent="-236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Data-oriented method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	</a:t>
            </a:r>
            <a:r>
              <a:rPr b="0" lang="id-ID" sz="2000" spc="-1" strike="noStrike">
                <a:solidFill>
                  <a:srgbClr val="000000"/>
                </a:solidFill>
                <a:latin typeface="Arial"/>
              </a:rPr>
              <a:t>Data berasal dari bidang sistem database terutama didasarkan pada model ER yang lebih dispesifikkan dengan konsep-konsep untuk pemodelan pada tingkat hypertext.</a:t>
            </a:r>
            <a:endParaRPr b="0" lang="en-US" sz="20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r>
              <a:rPr b="0" lang="id-ID" sz="2000" spc="-1" strike="noStrike">
                <a:solidFill>
                  <a:srgbClr val="000000"/>
                </a:solidFill>
                <a:latin typeface="Arial"/>
              </a:rPr>
              <a:t>Fokus utama dari metode ini adalah pemodelan aplikasi Web database-driven. Contoh metode berorientasi data termasuk Relationship Management Metodologi(RMM) dan Bahasa Modeling Web (WebML).</a:t>
            </a:r>
            <a:endParaRPr b="0" lang="en-US" sz="20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228600" y="803160"/>
            <a:ext cx="8915400" cy="521460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THODE dan TOOL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2. Hypertext-oriented method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	</a:t>
            </a:r>
            <a:r>
              <a:rPr b="0" i="1" lang="id-ID" sz="2400" spc="-1" strike="noStrike">
                <a:solidFill>
                  <a:srgbClr val="000000"/>
                </a:solidFill>
                <a:latin typeface="Arial"/>
              </a:rPr>
              <a:t>Fokus</a:t>
            </a:r>
            <a:r>
              <a:rPr b="0" lang="id-ID" sz="2400" spc="-1" strike="noStrike">
                <a:solidFill>
                  <a:srgbClr val="000000"/>
                </a:solidFill>
                <a:latin typeface="Arial"/>
              </a:rPr>
              <a:t> pada karakter hypertext aplikasi Web.</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Misalnya Hypertext Desain Model (HDM) berkembang ke W2000, dan HDM-lite atau Situs Web Design Method (WSDM) </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3. </a:t>
            </a:r>
            <a:r>
              <a:rPr b="0" i="1" lang="id-ID" sz="2400" spc="-1" strike="noStrike">
                <a:solidFill>
                  <a:srgbClr val="000000"/>
                </a:solidFill>
                <a:latin typeface="Arial"/>
              </a:rPr>
              <a:t>Object-oriented method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	</a:t>
            </a:r>
            <a:r>
              <a:rPr b="0" i="1" lang="id-ID" sz="2400" spc="-1" strike="noStrike">
                <a:solidFill>
                  <a:srgbClr val="000000"/>
                </a:solidFill>
                <a:latin typeface="Arial"/>
              </a:rPr>
              <a:t>Me</a:t>
            </a:r>
            <a:r>
              <a:rPr b="0" lang="id-ID" sz="2400" spc="-1" strike="noStrike">
                <a:solidFill>
                  <a:srgbClr val="000000"/>
                </a:solidFill>
                <a:latin typeface="Arial"/>
              </a:rPr>
              <a:t>tode yang sangat awal seperti UML, termasuk dalam kategori ini </a:t>
            </a:r>
            <a:r>
              <a:rPr b="0" i="1" lang="en-US" sz="2400" spc="-1" strike="noStrike">
                <a:solidFill>
                  <a:srgbClr val="000000"/>
                </a:solidFill>
                <a:latin typeface="Arial"/>
              </a:rPr>
              <a:t>Object-Oriented Hypermedia Design Method (OOHDM)</a:t>
            </a:r>
            <a:r>
              <a:rPr b="0" i="1" lang="id-ID" sz="2400" spc="-1" strike="noStrike">
                <a:solidFill>
                  <a:srgbClr val="000000"/>
                </a:solidFill>
                <a:latin typeface="Arial"/>
              </a:rPr>
              <a:t>, UML-based Web Engineering (UWE), Object-Oriented Web Solutions (OOWS), Object-Oriented Hypermedia (OO-H) method.</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5"/>
          <p:cNvSpPr/>
          <p:nvPr/>
        </p:nvSpPr>
        <p:spPr>
          <a:xfrm>
            <a:off x="228600" y="803160"/>
            <a:ext cx="8915400" cy="558036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THODE dan TOOL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4. Software-oriented method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	</a:t>
            </a:r>
            <a:r>
              <a:rPr b="0" lang="id-ID" sz="2400" spc="-1" strike="noStrike">
                <a:solidFill>
                  <a:srgbClr val="000000"/>
                </a:solidFill>
                <a:latin typeface="Arial"/>
              </a:rPr>
              <a:t>Contoh untuk kategori ini adalah Aplikasi Web Extension (WAE), atau WAE2 yang disempurnakan</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Untuk pengembangan aplikasi web dalam pemilihan Tools menggunakan alat yang mendukung tidak hanya model itu sendiri, tetapi terutama juga otomatisasi, misalnya:</a:t>
            </a:r>
            <a:endParaRPr b="0" lang="en-US" sz="2400" spc="-1" strike="noStrike">
              <a:solidFill>
                <a:srgbClr val="000000"/>
              </a:solidFill>
              <a:latin typeface="Arial"/>
            </a:endParaRPr>
          </a:p>
          <a:p>
            <a:pPr marL="236520" indent="-236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WebRatio Site Development Studio</a:t>
            </a:r>
            <a:endParaRPr b="0" lang="en-US" sz="24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	</a:t>
            </a:r>
            <a:r>
              <a:rPr b="0" lang="id-ID" sz="2400" spc="-1" strike="noStrike">
                <a:solidFill>
                  <a:srgbClr val="000000"/>
                </a:solidFill>
                <a:latin typeface="Arial"/>
              </a:rPr>
              <a:t>merupakan pengembangan model berbasis</a:t>
            </a:r>
            <a:br>
              <a:rPr sz="2400"/>
            </a:br>
            <a:r>
              <a:rPr b="0" lang="id-ID" sz="2400" spc="-1" strike="noStrike">
                <a:solidFill>
                  <a:srgbClr val="000000"/>
                </a:solidFill>
                <a:latin typeface="Arial"/>
              </a:rPr>
              <a:t>alat yang dibangun di Web Modeling Language (WebML) (http://www.webml.org).</a:t>
            </a:r>
            <a:br>
              <a:rPr sz="2400"/>
            </a:b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76320" y="1243080"/>
            <a:ext cx="8915400" cy="375156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lat ini menggunakan notasi sendiri untuk pemodelan hypertext dan tambahan mendukung  notasi dan UML. </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ode generator  alat ini menggunakan XSL untuk mengubah isi dan hypertext  model yang direpresentasikan dalam XML ke dalam representasi basis data yang diperlukan dan database</a:t>
            </a:r>
            <a:br>
              <a:rPr sz="2400"/>
            </a:br>
            <a:r>
              <a:rPr b="0" lang="id-ID" sz="2400" spc="-1" strike="noStrike">
                <a:solidFill>
                  <a:srgbClr val="000000"/>
                </a:solidFill>
                <a:latin typeface="Arial"/>
              </a:rPr>
              <a:t>koneksi serta komponen perangkat lunak dan format output (HTML, WML,PDF, Microsoft Word). </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5"/>
          <p:cNvSpPr/>
          <p:nvPr/>
        </p:nvSpPr>
        <p:spPr>
          <a:xfrm>
            <a:off x="228600" y="1038240"/>
            <a:ext cx="8915400" cy="448308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WebRatio menggunakan utilitas bernama EasyStyle untuk menghasilkan presentasi halaman, yang akan mengubah notasi halaman ke stylesheet XSL secara otomatis tanpa kegiatan pemrograman tambahan. </a:t>
            </a:r>
            <a:endParaRPr b="0" lang="en-US" sz="24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plikasi Web yang dihasilkan oleh WebRatio adalah ditempatkan dalam kerangka runtime didasarkan pada seperangkat komponen Java, yang dapat dikonfigurasi dengan menggunakan file XML</a:t>
            </a:r>
            <a:br>
              <a:rPr sz="2400"/>
            </a:b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1T08:54:57Z</dcterms:created>
  <dc:creator>Konsorsium MI/BBB_FSD</dc:creator>
  <dc:description/>
  <dc:language>en-US</dc:language>
  <cp:lastModifiedBy>G-Zone</cp:lastModifiedBy>
  <dcterms:modified xsi:type="dcterms:W3CDTF">2013-03-22T14:23:19Z</dcterms:modified>
  <cp:revision>190</cp:revision>
  <dc:subject>KBK_KA_MI</dc:subject>
  <dc:title>Modeling Web Alication</dc:title>
</cp:coreProperties>
</file>