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media/sound00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50D-63E4-47BA-AFE9-EC917101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BAE-E7B2-41A3-A41B-70D3104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2E6-B611-48C1-9A13-BDAC3C2E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86F-DA10-4172-BA92-76317190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872-B39E-448D-8207-95217998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A7D-6584-4B25-9C83-84BA966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786-861A-4EA7-A7EC-7E812E2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403-C2FA-4F56-82E1-3DF9BC79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7EA-E7DF-42C8-92D5-90B8EEC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E39-A6CD-430B-B2E7-569517C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DA0-BB59-4392-8607-1953E0E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B88-25A2-4709-820A-1B93C51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870-14A2-4A38-8385-8620FEBB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flower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tre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I asked God for a riv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n ocea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friend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92520" y="0"/>
            <a:ext cx="3882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He gave me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eef73d"/>
                </a:solidFill>
                <a:latin typeface="Comic Sans MS"/>
              </a:rPr>
              <a:t>- YOU</a:t>
            </a:r>
            <a:r>
              <a:rPr b="1" lang="en-US" sz="5000" spc="-1" strike="noStrike">
                <a:solidFill>
                  <a:srgbClr val="eef73d"/>
                </a:solidFill>
                <a:latin typeface="Comic Sans MS"/>
              </a:rPr>
              <a:t> 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1:36:03Z</dcterms:created>
  <dc:creator/>
  <dc:description/>
  <dc:language>en-US</dc:language>
  <cp:lastModifiedBy>Smets</cp:lastModifiedBy>
  <dcterms:modified xsi:type="dcterms:W3CDTF">2008-09-10T04:55:20Z</dcterms:modified>
  <cp:revision>11</cp:revision>
  <dc:subject/>
  <dc:title>Ønsker til Gud...</dc:title>
</cp:coreProperties>
</file>